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EBBD-0835-4147-901B-15183DD2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247-FB49-4A25-BF48-C3094E7C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2ACA-7C84-421A-A1ED-70C158C2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40DE-2008-47D6-BD4E-0C826CF1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9C60-33DC-4744-AB5C-A0EA7C30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3ECD-65B8-4E94-8582-C05A3D6B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023C-2E36-4BD3-BB5C-B6C28F18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C7CA-AB8D-4BBD-B304-2FDAC56B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5CA1-84FB-4196-80D1-EFDF93D2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6303-92F6-436D-8012-DECF8D14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B651-5C9A-43F8-A94F-680E28DB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F4F9-AC21-4D9A-B5DF-0E62BCFA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21A9-6536-426C-AC82-DAC2B659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59FB-76C3-40E6-B495-7D80028B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E037-BC7E-4BD6-B7A2-DA45C1B6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6C43-2863-449B-BD38-2C8C450E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84F1-8EB8-4F50-8E77-F62555AC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F7C7-E67B-4EA0-B4D4-0989A482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F437-20F7-44BD-98A3-498581DF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B7A9-E5BA-466B-98F6-EFF99650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F81-A46B-4F05-87AE-AA85A403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374-BF3C-48FF-B5FA-174F47CC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B77C-06EF-4473-9F97-492F9827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58D-3E10-4A89-A67B-3FDE3C84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0BBC-FE7C-4F65-94F4-B1B0BA0A210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F458-DE63-402E-A85C-20B196E752E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4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Calidad y Mejoramiento de Procesos de Softwar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010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1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iene que ver con los objetivos a largo plazo de mi empresa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2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be ser continuo. Los esfuerzos temporales no sirven para alcanzar objetivos a largo plaz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3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o hay recetas mágica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4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da solución depende del diagnóstico inicial, que involuc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la cultura organizacion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l proceso actu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resultados de pruebas... Sobre la solu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todología deliberada y planeada, que sigue prácticas de documentación estandarizadas para capturar en el papel (y en la práctica) cada elemento del proceso de software, y determinar su valor agregado. Una herramienta útil para realizar esto: diagrama ETVX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so se compone de actividad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ada actividad se controla usando un modelo definido: </a:t>
            </a: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ntry-Task-Verification-eXi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La estructura del modelo requie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conjunto predefinido de criterios de entrada, tareas, verificaciones, y criterios de salida par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920880" y="1835280"/>
            <a:ext cx="7835760" cy="44830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25440" y="2292480"/>
            <a:ext cx="212112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8640" y="2292480"/>
            <a:ext cx="1892520" cy="158724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44560" y="3892680"/>
            <a:ext cx="368280" cy="52056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70120" y="2311560"/>
            <a:ext cx="96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NT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12600" y="2311560"/>
            <a:ext cx="78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AS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94520" y="2387520"/>
            <a:ext cx="70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XI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73040" y="4597560"/>
            <a:ext cx="170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66"/>
                </a:solidFill>
                <a:latin typeface="Comic Sans MS"/>
              </a:rPr>
              <a:t>VERIFIC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72240" y="2813040"/>
            <a:ext cx="201168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olít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cedimien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Entren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Orient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atrocini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sponsabilidades 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ol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Bases de Da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Herramienta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Méto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19280" y="2813040"/>
            <a:ext cx="135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la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étr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form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27920" y="5022720"/>
            <a:ext cx="13672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visione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uditorí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edi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nálisi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8880" y="3193920"/>
            <a:ext cx="16002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Satisfacción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Obje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duc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let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11440" y="2901960"/>
            <a:ext cx="368280" cy="52056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5225760" y="3853800"/>
            <a:ext cx="444600" cy="67320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6200000">
            <a:off x="4425840" y="3892320"/>
            <a:ext cx="444600" cy="5968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8640" y="4502160"/>
            <a:ext cx="1892520" cy="158760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7280" y="2292480"/>
            <a:ext cx="212076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50080" y="5111640"/>
            <a:ext cx="368280" cy="52092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616960" y="3892680"/>
            <a:ext cx="444600" cy="59688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0 Trampas a Evit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Falta de compromiso superior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xpectativas irreales de la supervisión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íderes que no otorgan los recurs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ntrenamiento inadecuad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Que el logro de un nivel CMM sea el objetiv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Mala aplicación a nivel micr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valuaciones inefectiv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Retardo de la implementación de plan de acción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Mejoramiento de procesos se transforma en un jueg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perar que el proceso reemplace a la gent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equisitos para el Mejora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557360"/>
            <a:ext cx="800100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575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Ingenieros y gerentes inteligentes, entrenados, creativ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rabajo en equipo efectiv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Cultura compartida focalizada hacia la calidad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Objetivos de mejoramiento clar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Métricas para controlar avanc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Evaluación honesta de áreas en problem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iempo para seleccionar, pilotar, e implantar procesos mejorado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Liderazgos y expectativas superiores consistente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Todos están involucrados en los esfuerzos de mejoramient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575"/>
              </a:spcBef>
              <a:buSzPct val="15747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Sentido común, combinado con un compromiso para mejorar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ntes de imponer una propuesta de mejora, se debe estar seguro de que funcionará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para ello es recomendable hacer pruebas, y analizar los resul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Un vez detectadas la o las estrategias válidas, se debe trabajar en detalle sobre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utomatizar procesos es generalmente una buena opción (aunque no siempr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deben determinar objetivos, canales de comunicación, protocolos de comunicación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no involucre grandes cambios, ya que la gente normalmente se resiste a és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sea continuo, para realizar grandes cambios pero a largo plazo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ambién para avanzar sobre la base de los resultados obtenid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a empresa de software debería plantearse esto, desde el momento de su fundación..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mejoramiento del proceso de software no es un aspecto opcional....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 IDE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0080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508040" y="1959120"/>
            <a:ext cx="0" cy="35877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514520" y="5576400"/>
            <a:ext cx="5692680" cy="17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546120" y="3387960"/>
            <a:ext cx="4689000" cy="141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0740000">
            <a:off x="4131720" y="3169080"/>
            <a:ext cx="4289040" cy="178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81"/>
                </a:moveTo>
                <a:arcTo wR="10800" hR="10800" stAng="-6092" swAng="5408640"/>
                <a:lnTo>
                  <a:pt x="10800" y="10800"/>
                </a:lnTo>
                <a:close/>
              </a:path>
              <a:path fill="none" w="21600" h="21600">
                <a:moveTo>
                  <a:pt x="21600" y="10781"/>
                </a:moveTo>
                <a:arcTo wR="10800" hR="10800" stAng="-6092" swAng="540864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0120" y="40338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2480" y="4788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8760" y="46926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98840" y="4545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7520" y="345276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89560" y="3244680"/>
            <a:ext cx="50760" cy="5112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73840" y="316224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85360" y="5738760"/>
            <a:ext cx="1226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TIEMP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23760" y="2160720"/>
            <a:ext cx="36216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COMPROMIS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1720" y="4809960"/>
            <a:ext cx="1036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tac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Nom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1480" y="4743360"/>
            <a:ext cx="12085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cie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e70909"/>
                </a:solidFill>
                <a:latin typeface="Comic Sans MS"/>
              </a:rPr>
              <a:t>Buzzword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41440" y="4057560"/>
            <a:ext cx="1464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rens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Concep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12920" y="4005360"/>
            <a:ext cx="1281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Ensa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Posibilidad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31400" y="3475080"/>
            <a:ext cx="1144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op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Usos Li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98680" y="2666880"/>
            <a:ext cx="2016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stitucio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Sinergi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53680" y="3276720"/>
            <a:ext cx="159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ter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Asun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321480"/>
            <a:ext cx="74646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38160"/>
            <a:ext cx="7897680" cy="360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tiv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y cómo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Número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fácil de obten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 la mejora es relativament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fá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ogr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minución del esfuerzo - mayores competencias, mejores herramientas, métodos, estructuras de organización, planificación y contro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jorar proce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ejorar el Produ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onocer Nuestra  Capacidad + Apoyarnos en un Estándar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20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Es la medida de un concepto (generalmente) abstracto, que incluy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rma de medir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stemática (reproducibl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mp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ertin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Una escala de medida para ese concep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nstituyen mi información histórica regist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rlas tempranamente (sólo las que sean útil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Usarlas para med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mplimiento de requisitos, etapas, hitos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pacto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uidado con el exceso de contr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uego hay que confiar en ellas…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requisito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errore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sto de corrección de errores, usando varios crite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oras/Hombre totales, y por fas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de líneas de código (o páginas Web) por proyecto, y por requisito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recursos (especialmente ge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componentes estánda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uración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1697040" y="1628640"/>
          <a:ext cx="633096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1628640"/>
                    <a:ext cx="6330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971640" y="277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Métrica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20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Arial"/>
              </a:rPr>
              <a:t>Ejemplo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55640" y="1700280"/>
            <a:ext cx="8153280" cy="4724280"/>
            <a:chOff x="755640" y="1700280"/>
            <a:chExt cx="8153280" cy="4724280"/>
          </a:xfrm>
        </p:grpSpPr>
        <p:graphicFrame>
          <p:nvGraphicFramePr>
            <p:cNvPr id="301" name=""/>
            <p:cNvGraphicFramePr/>
            <p:nvPr/>
          </p:nvGraphicFramePr>
          <p:xfrm>
            <a:off x="755640" y="2152440"/>
            <a:ext cx="6781680" cy="1681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2152440"/>
                      <a:ext cx="678168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" name=""/>
            <p:cNvGraphicFramePr/>
            <p:nvPr/>
          </p:nvGraphicFramePr>
          <p:xfrm>
            <a:off x="755640" y="4489560"/>
            <a:ext cx="8153280" cy="1935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4489560"/>
                      <a:ext cx="8153280" cy="19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96680" y="1700280"/>
              <a:ext cx="2102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% de erro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7360" y="4032360"/>
              <a:ext cx="2783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Costos Asociad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Arial"/>
              </a:rPr>
              <a:t>Representación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763640" y="1906560"/>
          <a:ext cx="7040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06560"/>
                    <a:ext cx="704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- 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nformación esencial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Formular el proyecto (tiempo, costo, recursos, etc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ver planes de contingencia ante riesgos históric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áreas problemáticas y posibles estrategias de mejo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jorar la competitividad de mis desarro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Hay que prever en el plan de proyecto el tiempo para registrar y procesar métric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os número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QSM Associate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orta reducciones de esfuerzo de hasta el 70%, debido al desarrollo basado en compon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an Brown reporta reducciones de entre el 35 y el 55%, debido a la misma cau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&amp;T Bell Lab reporta una reducción de los costos de corrección de errores, de al menos el 50%, debido al proceso de revisión de la arquit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ational Corp. reporta reducciones de hasta el 50% debido a la automatización de los procesos involucrados en el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La comunidad internacional reporta una mejora sostenida en la calidad de los productos de software, debido al uso de patr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4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24"/>
              </a:spcBef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Toda empresa necesita y puede mejorar su proceso de desarrollo de Softwar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Mejorar el proceso impacta directamente en la competitividad y el futuro de la empresa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l proceso de mejoramiento debe ser lo más independiente posible de las personas involucradas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.... Es una forma de mantener la motivación de los empleados..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s fundamental para esta nueva era de escenarios globales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Inmadurez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ingeniería de software -&gt; estado de la prác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3 factores críticos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gente, tecnología, y proceso -&gt; principales determinantes de: costos, calendarios, productividad y calidad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actual de software está conducido por procesos, por lo tanto depende en gran medida de e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competencia me obliga a mejorar en forma continu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nuevos paradigmas apuntan a desarrollo ráp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1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posible mejorar la calidad del producto, por medio de la mejora de la calidad del proceso de software. ...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No puedo (debo) apostar por la gente, ni por la tecnología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2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 que está en la cabeza de alguie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3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, si no se tiene la certeza de qué es lo que hay que mejorar y cuánto hay que mejorar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Capacidad (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capability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)-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dición de madurez -&gt; predice la calidad 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del proces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o indica la </a:t>
            </a:r>
            <a:r>
              <a:rPr b="0" i="1" lang="es-ES_tradnl" sz="2800" spc="-1" strike="noStrike" u="sng">
                <a:solidFill>
                  <a:srgbClr val="40458c"/>
                </a:solidFill>
                <a:uFillTx/>
                <a:latin typeface="Tahoma"/>
              </a:rPr>
              <a:t>previsibilidad de mis desarrollos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, en tiempo y costo requerido, y calidad del producto ob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la capacidad del proceso puede (y debe) ser mejo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el tema es cómo y a qué precio?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étricas, métodos y mucha conduct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medir ciertos aspectos: 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riesgos, productividad, aumento de calidad, satisfacción de clie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identificar áreas clave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de problem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edición de los proceso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para determinar avances futuros: seleccionar un modelo, recolectar datos, evaluar y refinar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07280" cy="499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secuencia de pasos ejecutados con un propósito específic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 de software: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junto de actividades, métodos, prácticas, y transformaciones usados para desarrollar y mantener software y sus productos asociados, i.e. planes, documentos de diseño, código, casos de prueba, manu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15160" indent="-515160">
              <a:lnSpc>
                <a:spcPct val="120000"/>
              </a:lnSpc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Comprender el estado actual de la práctica de ingeniería de software y gestión en una organiz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Seleccionar áreas de mejoramiento donde los cambios pueden significar el mayor beneficio de largo plaz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Focalizarse en agregar valor al negocio, no en alcanzar una </a:t>
            </a: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utopía de proces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Prosperar mediante la combinación de procesos efectivos con gente preparada, motivada y creativ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Qué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Cómo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Document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Mid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Previn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Resolviendo (problem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Automatiz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Siendo hones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3:01:58Z</dcterms:created>
  <dc:creator>Mercedario</dc:creator>
  <dc:description/>
  <dc:language>en-US</dc:language>
  <cp:lastModifiedBy>Sergio F. Ochoa</cp:lastModifiedBy>
  <dcterms:modified xsi:type="dcterms:W3CDTF">2005-10-04T12:31:48Z</dcterms:modified>
  <cp:revision>30</cp:revision>
  <dc:subject/>
  <dc:title>CC51A – Ingeniería de Software</dc:title>
</cp:coreProperties>
</file>