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BCD-275D-4587-A6C3-22B1BFDA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3DD-87BD-4254-99D5-AA80088E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B99-BD9D-44ED-BB0B-928F7A43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161-FAF1-4690-AF57-C93F919E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C1A4-F0BD-41E6-B6B6-D49BDFA4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18B2-E7F2-4876-893E-D8C8964C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6214-AF68-4F76-93C5-E58F590F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62F-20FC-4740-ABC3-6FE585E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A1B9-C0CD-4421-A204-1121C093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F52D-FC78-4772-9341-D640031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BD33-F447-4EDC-9572-845F941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A8D-C3D0-48B1-8CBF-1750CAC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54CE-EEAA-4C41-91CA-9CB0E5B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56F3-7BD5-4B67-9B23-D8BEADB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E104-65C4-488D-8364-6C8D332F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563D-5FA7-4BFE-A789-5E673F23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4ABA-76F1-4BBE-B593-DBC314AE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551-71D2-4198-9FA4-DE4C0EE5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67A-812A-4A25-A5BD-152F0D9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D69-E4A6-49BF-8C09-B59F3F20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D78-F9DA-4AD0-A5BC-593ED30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A8F-1028-4BCE-A748-E83249D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400-C49E-4180-9A91-3DA4EF5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B48-BE26-435E-80A5-00CCC2E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DB0-047E-4F98-ACDB-ABA2873AE5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830-15D8-40A4-9087-F071D42390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10-04T12:31:48Z</dcterms:modified>
  <cp:revision>30</cp:revision>
  <dc:subject/>
  <dc:title>CC51A – Ingeniería de Software</dc:title>
</cp:coreProperties>
</file>