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097-FB17-4F53-96C7-656167F3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304-4577-4CA7-9937-3A0DCF11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458-41BF-4727-84F8-5F39296C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2B7-A93F-4A06-820E-AAACC8BF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2AFA-609B-4DEA-9DB9-DFCB42CF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F067-995C-4A24-9705-425CFFC1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33A4-479C-454C-B351-78F2737E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2796-9700-4C52-9C36-11A100F6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E2ED-E1B5-4714-9382-8E780AE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3BDB-3B0E-49E0-B273-6EFE6205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484A-40A4-43E2-8FF1-F3487729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6A5-000E-4831-9165-4FFA93BC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A2B8-083A-4A98-99FB-A718E479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18AC-B873-4412-80C9-CA06D81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C2C2-8F94-4464-AA00-E5E708A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3D3C-C681-4988-9913-C0F8DF56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C57E-A9E2-41D2-B5C1-F2FE7194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55E-9532-4AE2-A9B2-16353F8E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749-2436-4095-8645-6408FD03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622-583B-4364-9438-3EA4C12C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6A7-1617-4C6C-8177-A92903A7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A61-7574-49A9-9454-FA8E10D6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9D5-E24F-4AEE-B3A8-615E71B6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BE6-38F0-484D-96C7-C49C385A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7727-6ED4-4DA4-94CF-0F294A369D6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0773-FC5D-48A8-BCB0-E0A21EE390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8160"/>
            <a:ext cx="7897680" cy="360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20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Ejemplo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15160" indent="-515160">
              <a:lnSpc>
                <a:spcPct val="12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Comprender el estado actual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5-10-04T12:31:48Z</dcterms:modified>
  <cp:revision>30</cp:revision>
  <dc:subject/>
  <dc:title>CC51A – Ingeniería de Software</dc:title>
</cp:coreProperties>
</file>