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361-ED80-4863-91AF-6BF66D5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315-46C5-4EB3-8922-558E506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E59-2DA1-4311-BF4C-91B78FEA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9E4-6125-4F68-9FEC-63DC9F8F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AEB3-2E02-43F6-9924-9572904E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F367-FD8F-4C30-A25B-A6B79ED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3FA3-6F8E-442A-9BAB-7784C98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A6C-A4E1-4EAD-9FBF-3696E0D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25B1-67B8-4D0B-8DFC-DE7066D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997-20A3-4B88-9EA3-BEB9880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66FB-A116-4E3E-8E00-FD36D7A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01F-2FE6-4BAD-83A7-FB2B7A1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EFB-F498-43A6-84CA-96F043C3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8E56-FC0C-4483-BDB6-BA450B87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BD37-5DFF-45E2-A0AD-775D887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4C8-D807-45EA-A2C4-B76E7B77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D4A2-4033-47D3-94D2-80110766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9F1-F30B-4063-BB00-2698AE2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0F4-65C6-4E07-B135-8D4DFAA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A15-8ECE-459C-A36C-396145C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518-9B0E-462F-96FA-6CFB9839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CF1-51B8-45A4-A2CF-C430876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100-6AD8-4E2D-BF8A-8BA5664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9AF-938F-4915-9E3E-05D4D1E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002E-5043-4A6A-9B1A-B10CB8809A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5F4D-1A67-429C-88AD-371079F723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10-04T12:31:48Z</dcterms:modified>
  <cp:revision>30</cp:revision>
  <dc:subject/>
  <dc:title>CC51A – Ingeniería de Software</dc:title>
</cp:coreProperties>
</file>