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DF2-491C-46CB-89B2-8830B287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D62-1183-4E22-9C15-99ACD9DB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C8B-EB0A-4109-BFBD-8BD43AFA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471-23E6-4B95-9139-C2ADB425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FE6C-9407-4DC0-9C46-2C3AAD22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E336-9E81-43BE-9ED5-FA31CC20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972A-BCE8-4EB9-977D-C0E30821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9656-AC2B-401E-A122-12F6F022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8B18-6231-4F02-B667-E691D8CE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4196-1024-40F2-827C-71CCCC59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7B4B-81C6-45AC-B5B2-EE1350EC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C36-3B09-4E3F-96F6-93EFE90A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77A9-FF75-44E7-8DCA-7629A08A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6739-4D01-4636-A4F9-72B2F724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805D-0A3A-461A-9289-6E552266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56B4-5BD7-497B-9BAF-928F63D6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897A-A0E8-45EA-9E5B-90D10A38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B8F-080C-4DDC-9C5B-CCD7FAF5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621-8642-4890-BF9C-B2074127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36F-FAC6-43C5-852D-D41991C1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DBB-2164-418E-AD4A-AA7F8A18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6F9-C746-4904-9E0B-E8B7DB27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E1C-7B18-4031-B6C5-58B615A6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4A2-AD91-4AA4-A136-CB211A30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1461-56B6-4BC4-99D4-E42B68564D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4923-AEFF-4234-B1B1-AD3EB08BBDD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quisitos y Calida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s 4/5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onsecuenci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hemos logrado l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no los hemos logr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evaluar alternativas de diseñ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termina especificando medios y no f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hay más de una forma de expresar un objetivo, tal vez no es un objetivo, sino un medio para lograr algo. Por ej. la interfaz en VisualBas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Usuari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resan las necesidades d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Softwar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xpresan las capacidades que debe tener el software, para poder satisfacer los requisitos del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otra parte también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Funcionale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Qué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en ser alcanzados si o s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Ca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Cuán bien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alidad final dependerá del logro de est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Restricción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Con qué restricciones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En función de costos, tiempos, personal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más difíciles de especificar son los req. de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funcionales y los de restricción, suelen especificarse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Usu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quisitos -&gt;Atributos del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todos los requisitos de calidad pueden y deben ser especificados sin ambigüedade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los requisitos determinan los atributos del softwar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un requisito está claramente expresado (por ej. terminar antes del 3/5/2001), se le da prioridad por sobre otros requisitos no tan claros (“más fácil”, “mejor”, “consistente”, “amig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queremos que los datos sean consistentes (por ej.), debemos indicar a qu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e llamamos “consisten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Veamos el siguiente ejemplo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 de Especificac. de Req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istencia de Med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robabilidad de que dos mediciones básicas sean consist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1000 mediciones básicas comparadas usando 3 cifras significativ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ntre 90% y 9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8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9.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inuta del 20/12/200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ro Ejemplo de Especificación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istencia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00% (no hay detec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5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trevista con Usuario (05/12/2004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de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s atributos deberían ser revisados a la hora de especificar un sistema. Debido a que aparecen en la mayorí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 (ISO/IEC 9126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4406760"/>
          <a:ext cx="7391520" cy="20462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nciona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tin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r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her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egur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pr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ceptación de Us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s de Requisitos de C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95280" y="2438280"/>
          <a:ext cx="7391520" cy="21830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1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nteni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ali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amb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s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most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ort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ap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stanc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ecuac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empla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295280" y="4619520"/>
          <a:ext cx="7391520" cy="166860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ficiencia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ndimient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o de Recurso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fi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durez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lerancia a Fall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cu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requisitos de calidad antes mostrados, casi siempre deben ser especific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a lista de requisitos debería formar parte de la plantilla estánd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í se disminuye el riesgo de no especificar requisitos obv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más fácil acordarse de qué preguntar, o de negociar con el cliente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uevos empleados pueden aprender de cómo hacemos las cosas aqu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roducción y principios bás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alidad medible a través de los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crít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pecificación de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o de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uncion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fi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anten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rt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os requisitos son conocidos como las 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lidade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junto de requisitos referidos a la existencia las capacidades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capacidades que satisfacen necesidades expresas o implícitas de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ertinenci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existencia de funciones apropiadas para las tareas especific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ecis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capacidad de entregar resultados correctos o con un grado de error acot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Interoper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interactuar con determinados sistemas (No confundir con reemplazabilida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Adherencia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ompatibilidad con estándares, convenciones o regul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Segur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prevenir uso no autorizado, tanto intencional como accidental, de programas y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fi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pacidad de mantener un nivel adecuado de servicio, bajo ciertas condiciones y por cierto tiem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Madurez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tributos relacionados con la frecuencia de fallas por errores del software, o bien con el porcentaje de tiempo que el sistema estará disponi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olerancia a Falla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habilidad de funcionar aún después de ciertas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cu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, tiempo y costo para reestablecer un nivel de servicio, y recuperar datos después de una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Us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uso, y la evaluación del uso, realizada por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t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posibilidad de que los usuarios reconozcan los conceptos y su aplic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pr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adquirir un determinado nivel de destre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O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operar y controlar la operación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grado de uso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valuación subjetiva (encuesta) hecha por los usu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anteni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hacer modif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naliz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diagnosticar deficiencias o causas de fallas, o de identificar las partes a modifi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mbi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hace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s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riesgo de efectos inesperados por realiza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comprobar o validar la corr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Habilidad de ser transferido de un ambiente a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ap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 de adaptarse a otros ambientes usando los medios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Instal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instalación en un determinado amb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ecu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dherencia a estándares o convenciones de port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emplaz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posibilidad de ser usado en lugar de otro software, en el ambiente del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TA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1- No debe confundirse con interoperabilidad (algunos llaman a ambos “compatibilidad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- La reemplazabilidad está relacionada con la instalabilidad y la adaptabilidad. Debido a su importancia, se pone por separ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fici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lación entre el nivel de rendimiento, y la cantidad de recursos usados, bajo ciertas condi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Tiempo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tiempos de respuesta, tiempos de procesamiento, o tasas de servicio (throughpu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Recursos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el uso de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ntidad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uración del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Crít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veces hay requisitos tan importantes y conocidos, que por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bvi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nadie los d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 de lo obv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cosas obvias, que todos saben, no se pueden dejar que se cuiden solas...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quisito crític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aquel que si está fuera de control, amenaza la viabilidad d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-271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olvidarse de 1 sólo requisito crítico puede ser suficiente para un desast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requisito crítico puede ser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al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unciona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o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stric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pectos Relevantes en Calidad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ando se habla de “calidad de software”, hay 2 aspectos que es necesario consider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pecificación de Requisit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rata toda la problemática asociada a la especificación de requisitos completos, sin ambigüedades, y verific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cesos de Supervisión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ta la problemática asociada al proceso de supervis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 esta presentación nos abocaremos al primero de estos aspectos. El segundo especto lo veremos en el capítulo 4 (SQ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, Medios y F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solución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conjunto de ideas que si se implementan, tienen un impacto positivo en alguna parte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soluciones son los medi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equisitos son los fi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soluciones suelen tener impactos neg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a solución es interesante sólo si sus impactos positivos son mayores que los nega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valuar una solución necesitam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quisitos clar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positivos sobre los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negativos y efectos later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o de 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 y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Funcion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absoluto, con dos posibles estados: verdadero o fal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de Cal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que se puede expresar en una escala de medi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olució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a idea que de ser implementada, debería impactar en forma positiva a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labor del “Administrador de Proyectos” es hacer todo lo posible, para que la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olu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contrada satisfaga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tivos Escond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especificaciones mencionan soluciones, pero esconden obje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grama escrito en C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portar el softwar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rriendo de un computador central en menos de $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que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 cuenta con $x mensuales, para ese íte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rvidor de BD replicad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que la probabilidad de que los datos estén inaccesibles, sea menor que 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unción automatizad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ápida y con poco error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o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opera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889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La especificación de requisitos es o debería ser la piedra angular de la administr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Expresa los objetivos d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puede usar para describir sistemas existentes y sistemas futu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 atributo es un concepto de calidad que describe cualitativament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a especificación de atributos es una lista de atributos, donde se especifica el nivel con el que se quiere alcanzar cada un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pecificación de Requisitos sirve para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presentar multiplicidad de vistas del sistema (desde el pto. de vista del usuario, del cliente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 historia de las necesidades (cambios y refinamient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s decisiones en cuanto a uso de recursos, prioridades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objetivos (requisitos de cal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restricciones (atributos de recurs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Requisitos Especificam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s.... especialmente los crít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veces “los atributos dependen mucho del problem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rmalmente debemos hacer una lista de atributos relevantes para cada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importante revisar proyectos similares, que hayamos hecho, para chequear si nos falta algo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676520"/>
            <a:ext cx="82087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La especificación de requisitos es engorrosa, pero tiene varias ventaja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Para los Client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ienen más probabilidad de obtener lo que quier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ompar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as ofertas de distintos proveedores son compar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larificación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promueve una discusión temprana de los t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rá más fácil determinar si los requisitos fueron o no cumpl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000" y="1676520"/>
            <a:ext cx="805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Para la Fuerza de Vent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nor probabilidad de perder una propuesta por no entender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- Sabremos antes que la competencia qué es lo que se necesi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mage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 nos percibirá como realmente interesados en saber qué es lo que se neces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ejo del Riesgo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bemos qué y cuánto se necesita. Se detectan riesgo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trol de Cambi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demostrar que nuevas solicitudes, deben ser tratadas como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amb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la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hablar sin ambigüedades y sin doble sentido, sob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as fortalezas de nuestra propues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os resultados esperados, en lugar de promesas vag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ara Desarrolladores y Subcontratist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basar las estimaciones en un entendimiento firme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cliente no nos puede sorprender con requisitos más exigentes, sin estar dispuesto a pagar/negociar la difer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diseñar por objetivos, lo cual tiene más posibilidades de éxito, que hacer algo y ver si sir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edo ejercer un “control de cambios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sotros debemos tener la sartén por el mango, no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no significa que mi software será de “buena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lo que debo entregar al cl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el cliente sabe lo que debo entreg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mis limitaciones, por lo tanto puedo trabajar para superar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me ayuda a presentar presupuestos realistas, y a no perder dine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as Relevantes.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es la clave del éxito en el negocio del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productividad del software construido, hay que mejorar su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calidad del producto, hay que mejorar la calidad del proces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gestión es tan importante como la tecnologí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0120" indent="-4201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iste la posibilidad de desarrollar o comprar “un software de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empre hay que especificar la calidad.... pero que eso no sea el centro de mi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er en una “parálisis por análisi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os requisitos usuales, y preguntar por ellos !!!, siempre antes de entregar un presupu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e permitan ambigüedades... el cliente puede ser más vivo que ustede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La totalidad de características y atributos de un producto o servicio, que están relacionados con satisfacer necesidades expresas o implícit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lidad = Satisfa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depende de la expect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Por Qué Necesito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asunto de competitiv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sobrevivi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expor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rent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iene clientes y aumenta las util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entes de Baj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sitos imprecisos, mal entendidos o incomple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ftware constru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porte pres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lta de monitoreo del proceso y del produ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oblemas de la Ing.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rincipal problema es: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alta de claridad en los requisito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queremos tener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éxi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debemos definir éxito en funció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s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laz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atisfacción de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tc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i los objetivos no están claros, no los alcanzaremos clarament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funcionalidad del nuevo sistema debe ser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a del sistema anterior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nuevo sistema debe tener una interfaz e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Visual Basic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o hag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ás 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usar, en particular sin las dificultades de uso del sistema actual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brindará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es repor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modo que se pueda aprovechar al máximo la Base de Da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asegurará que los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a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ea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orrec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3:22Z</dcterms:created>
  <dc:creator>Mercedario</dc:creator>
  <dc:description/>
  <dc:language>en-US</dc:language>
  <cp:lastModifiedBy>Sergio F. Ochoa</cp:lastModifiedBy>
  <cp:lastPrinted>2002-04-22T22:37:49Z</cp:lastPrinted>
  <dcterms:modified xsi:type="dcterms:W3CDTF">2006-06-19T12:43:49Z</dcterms:modified>
  <cp:revision>41</cp:revision>
  <dc:subject/>
  <dc:title>CC51A – Ingeniería de Software</dc:title>
</cp:coreProperties>
</file>