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108-6164-4FBC-B06A-5EF20C3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4D4-4970-4BFE-BFCC-A1E24C0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043-B31C-49E9-9D6C-B5DF70E6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69A-E355-45F6-B51B-C7B857A8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AB9-69F3-4440-AC12-9DD9FDB6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BA06-6ADE-4433-965D-665C3449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0088-FCB0-40B4-961B-BAB876A5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0F2A-D7B9-472E-A7E3-BD2DF0EE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5ED4-2F13-45C7-92D0-AC3F274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4C1D-53B0-4A68-AD91-CE247C2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729C-4A09-47B5-B329-0040A7D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68C-1D7E-4D8C-89B7-D83C16C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4C8B-3AE3-4D92-AB2C-E916AA50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7C2-4741-418D-84F4-135260A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B60F-67E3-4898-9C70-90AC3BC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0D0-2EFA-4D1C-92E4-31DA8113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FCA-2C23-4875-8EC1-A03EAB87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93F-8A46-4B82-BC71-865EBC4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6F7-FCD0-4069-91C8-2F77183E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A04-0F09-46FA-9918-8F118930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F54-9F25-4DFA-AEF2-B9A15F9A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85D-8891-4A61-A679-D7A8C90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B7F-0FA7-4CD0-AECE-76BCFF4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960-DB71-4F8A-AD39-0086615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5B13-A024-469A-A308-7D797AC6A0F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052-1C6B-4CD2-8F7F-89E580BC41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quisitos y Calida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s 4/5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onsecuenci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hemos logrado l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demostrar que no los hemos logr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o podemos evaluar alternativas de diseñ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termina especificando medios y no fi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hay más de una forma de expresar un objetivo, tal vez no es un objetivo, sino un medio para lograr algo. Por ej. la interfaz en VisualBas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Usuari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presan las necesidades d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equisitos de Softwar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xpresan las capacidades que debe tener el software, para poder satisfacer los requisitos del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otra parte también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sitos 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Funcionale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Qué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en ser alcanzados si o s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Ca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Cuán bien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alidad final dependerá del logro de estos obje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quisitos de Restricción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dican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¿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n qué restricciones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?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 En función de costos, tiempos, personal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más difíciles de especificar son los req. de ca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- Los requisitos funcionales y los de restricción, suelen especificarse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Usu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Funcion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Restri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Requisitos -&gt;Atributos del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todos los requisitos de calidad pueden y deben ser especificados sin ambigüedade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los requisitos determinan los atributos del software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un requisito está claramente expresado (por ej. terminar antes del 3/5/2001), se le da prioridad por sobre otros requisitos no tan claros (“más fácil”, “mejor”, “consistente”, “amig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 queremos que los datos sean consistentes (por ej.), debemos indicar a qu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e llamamos “consisten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Veamos el siguiente ejemplo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 de Especificac. de Req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istencia de Medi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obabilidad de que dos mediciones básicas sean consist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1000 mediciones básicas comparadas usando 3 cifras significativ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tre 90% y 9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8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99.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inuta del 20/12/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ro Ejemplo de Especificación de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NOMBRE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istencia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CAL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UEB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CTU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00% (no hay detec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EOR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5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LANIFICADO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1%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AUTO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trevista con Usuario (05/12/2004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de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s atributos deberían ser revisados a la hora de especificar un sistema. Debido a que aparecen en la mayoría de el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 (ISO/IEC 9126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371600" y="4406760"/>
          <a:ext cx="7391520" cy="20462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Funciona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prendi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jemplos de Requisitos de C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re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 de Calidad Típico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gura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295280" y="2438280"/>
          <a:ext cx="7391520" cy="218304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21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nteni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amb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most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ort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stanci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decuación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emplaz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295280" y="4619520"/>
          <a:ext cx="7391520" cy="1668600"/>
        </p:xfrm>
        <a:graphic>
          <a:graphicData uri="http://schemas.openxmlformats.org/drawingml/2006/table">
            <a:tbl>
              <a:tblPr/>
              <a:tblGrid>
                <a:gridCol w="3566520"/>
                <a:gridCol w="216000"/>
                <a:gridCol w="3609000"/>
              </a:tblGrid>
              <a:tr h="16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Eficiencia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ndimiento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Uso de Recurso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fiabilidad: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adurez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requisitos de calidad antes mostrados, casi siempre deben ser especific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a lista de requisitos debería formar parte de la plantilla estánd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í se disminuye el riesgo de no especificar requisitos obv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más fácil acordarse de qué preguntar, o de negociar con el cliente en caso de ser neces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uevos empleados pueden aprender de cómo hacemos las cosas aquí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roducción y principios bás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alidad medible a través de los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quisitos de C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crític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pecificación de atribu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9120" indent="-51912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o de Métric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Usuales Important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Funciona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fi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s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anten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rt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os requisitos son conocidos como las “</a:t>
            </a: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ilidades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”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3160" indent="-443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njunto de requisitos referidos a la existencia las capacidades de un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s capacidades que satisfacen necesidades expresas o implícitas de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ertinenci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existencia de funciones apropiadas para las tareas especific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27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recis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a capacidad de entregar resultados correctos o con un grado de error acot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Interoper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interactuar con determinados sistemas (No confundir con reemplazabilida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Adherencia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compatibilidad con estándares, convenciones o regul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Segur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habilidad de prevenir uso no autorizado, tanto intencional como accidental, de programas y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fi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capacidad de mantener un nivel adecuado de servicio, bajo ciertas condiciones y por cierto tiemp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s sub-requisitos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Madurez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tributos relacionados con la frecuencia de fallas por errores del software, o bien con el porcentaje de tiempo que el sistema estará disponi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Tolerancia a Fallas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habilidad de funcionar aún después de ciertas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Recu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, tiempo y costo para reestablecer un nivel de servicio, y recuperar datos después de una fal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U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uso, y la evaluación del uso, realizada por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-4788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78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nt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posibilidad de que los usuarios reconozcan los conceptos y su aplic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prendi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adquirir un determinado nivel de destre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Ope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necesario para operar y controlar la operación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4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grado de uso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valuación subjetiva (encuesta) hecha por los usu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anteni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tributos (o requisitos) relacionados con el esfuerzo de hacer modif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naliz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diagnosticar deficiencias o causas de fallas, o de identificar las partes a modif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mbi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hace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Es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riesgo de efectos inesperados por realizar un camb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comprobar o validar la corr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Habilidad de ser transferido de un ambiente a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ntre sus sub-requisitos está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apt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capacidad de adaptarse a otros ambientes usando los medios del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Instalabilidad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esfuerzo de instalación en un determinado amb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Adecu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adherencia a estándares o convenciones de portabi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abilidad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Reemplazabilidad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posibilidad de ser usado en lugar de otro software, en el ambiente del ot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TA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1- No debe confundirse con interoperabilidad (algunos llaman a ambos “compatibilidad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2- La reemplazabilidad está relacionada con la instalabilidad y la adaptabilidad. Debido a su importancia, se pone por separ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fici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lación entre el nivel de rendimiento, y la cantidad de recursos usados, bajo ciertas condi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Tiempo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tiempos de respuesta, tiempos de procesamiento, o tasas de servicio (throughpu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9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Uso del Recursos: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requisitos relacionados con el uso de 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ntidad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25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uración del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Crí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veces hay requisitos tan importantes y conocidos, que por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bvi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nadie los d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incipio de lo obv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cosas obvias, que todos saben, no se pueden dejar que se cuiden solas...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quisito crític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aquel que si está fuera de control, amenaza la viabilidad de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18640" indent="-271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olvidarse de 1 sólo requisito crítico puede ser suficiente para un desast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requisito crítico puede ser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calida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funciona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o d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restricció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pectos Relevantes en Calidad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uando se habla de “calidad de software”, hay 2 aspectos que es necesario consider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specificación de Requisit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rata toda la problemática asociada a la especificación de requisitos completos, sin ambigüedades, y verific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53200" indent="-2826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cesos de Supervisión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ta la problemática asociada al proceso de supervis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 esta presentación nos abocaremos al primero de estos aspectos. El segundo especto lo veremos en el capítulo 4 (SQ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, Medios y F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solución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conjunto de ideas que si se implementan, tienen un impacto positivo en alguna parte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soluciones son los medi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equisitos son los fi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soluciones suelen tener impactos neg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solución es interesante sólo si sus impactos positivos son mayores que los nega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valuar una solución necesitam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quisitos clar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positivos sobre los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dentificar los impactos negativos y efectos lat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o de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luciones y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Funcion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absoluto, con dos posibles estados: verdadero o fal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quisito de Cal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 requisito que se puede expresar en una escala de medi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olució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s una idea que de ser implementada, debería impactar en forma positiva a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labor del “Administrador de Proyectos” es hacer todo lo posible, para que l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olu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ontrada satisfaga lo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quisit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tivos Escond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s especificaciones mencionan soluciones, pero esconden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grama escrito en C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portar el softwar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rriendo de un computador central en menos de $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que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 cuenta con $x mensuales, para ese íte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ervidor de BD replicad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ue la probabilidad de que los datos estén inaccesibles, sea menor que 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unción automatizad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ápida y con poco error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, o tal vez significa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bajo costo de operació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ncipio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889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La especificación de requisitos es o debería ser la piedra angular de la administ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Expresa los objetivos d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puede usar para describir sistemas existentes y sistemas fut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 atributo es un concepto de calidad que describe cualitativamente un sistem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49"/>
              </a:spcBef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ahoma"/>
              </a:rPr>
              <a:t>Una especificación de atributos es una lista de atributos, donde se especifica el nivel con el que se quiere alcanzar cada un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pecificación de Requisitos sirve par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presentar multiplicidad de vistas del sistema (desde el pto. de vista del usuario, del cliente, etc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 historia de las necesidades (cambios y refinamient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las decisiones en cuanto a uso de recursos, prioridades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objetivos (requisitos de cal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Registrar” restricciones (atributos de recurs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Requisitos Especificam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dos.... especialmente lo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veces “los atributos dependen mucho del problem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rmalmente debemos hacer una lista de atributos relevantes para cada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importante revisar proyectos similares, que hayamos hecho, para chequear si nos falta algo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676520"/>
            <a:ext cx="82087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458c"/>
                </a:solidFill>
                <a:latin typeface="Tahoma"/>
              </a:rPr>
              <a:t>La especificación de requisitos es engorrosa, pero tiene varias ventajas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Para los Client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Tienen más probabilidad de obtener lo que quier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omparación: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Las ofertas de distintos proveedores son compar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larificación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promueve una discusión temprana de los t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6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Demostrabilidad: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rá más fácil determinar si los requisitos fueron o no cumpl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000" y="1676520"/>
            <a:ext cx="8055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ara la Fuerza de Vent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erteza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nor probabilidad de perder una propuesta por no entender los requisi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- Sabremos antes que la competencia qué es lo que se necesi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agen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 nos percibirá como realmente interesados en saber qué es lo que se neces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ejo del Riesgo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bemos qué y cuánto se necesita. Se detectan riesgo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trol de Cambio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demostrar que nuevas solicitudes, deben ser tratadas com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amb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larida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odemos hablar sin ambigüedades y sin doble sentido,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as fortalezas de nuestra propues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os resultados esperados, en lugar de promesas vag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 de Especificar Requisit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ra Desarrolladores y Subcontratist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basar las estimaciones en un entendimiento firme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cliente no nos puede sorprender con requisitos más exigentes, sin estar dispuesto a pagar/negociar la difer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demos diseñar por objetivos, lo cual tiene más posibilidades de éxito, que hacer algo y ver si sir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uedo ejercer un “control de cambios”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20492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sotros debemos tener la sartén por el mango, no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no significa que mi software será de “buena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lo que debo entregar al cli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el cliente sabe lo que debo entreg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significa que conozco mis limitaciones, por lo tanto puedo trabajar para superarl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pecificar la calidad” me ayuda a presentar presupuestos realistas, y a no perder dine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as Relevantes.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es la clave del éxito en el negocio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productividad del software construido, hay que mejorar su c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 mejorar la calidad del producto, hay que mejorar la calidad del proce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gestión es tan importante como la tecnolog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0120" indent="-4201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iste la posibilidad de desarrollar o comprar “un software de calidad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empre hay que especificar la calidad.... pero que eso no sea el centro de mi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er en una “parálisis por análisi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os requisitos usuales, y preguntar por ellos !!!, siempre antes de entregar un presupu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20120" indent="-42012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e permitan ambigüedades... el cliente puede ser más vivo que ustede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La totalidad de características y atributos de un producto o servicio, que están relacionados con satisfacer necesidades expresas o implícita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lidad = Satisfa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lidad depende de la expect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Por Qué Necesito Calidad 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calidad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un asunto de competitiv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sobrevivi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esencial para expor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 renta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61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iene clientes y aumenta las ut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entes de Baj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quisitos imprecisos, mal entendidos o incomple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ftware constru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os en el soporte pres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alta de monitoreo del proceso y del produ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oblemas de la Ing.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rincipal problema es: “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falta de claridad en los requisito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queremos tene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éx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debemos definir éxito en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laz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atisfacción de Requisi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tc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Si los objetivos no están claros, no los alcanzaremos clarament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Requisitos Vagos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funcionalidad del nuevo sistema debe ser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a del sistema anterior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nuevo sistema debe tener una interfaz e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Visual Basic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que lo hag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ás fáci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usar, en particular sin las dificultades de uso del sistema actual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brindará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jores reporte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 modo que se pueda aprovechar al máximo la Base de Datos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istema asegurará que lo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a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ean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orrect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8:23:22Z</dcterms:created>
  <dc:creator>Mercedario</dc:creator>
  <dc:description/>
  <dc:language>en-US</dc:language>
  <cp:lastModifiedBy>Sergio F. Ochoa</cp:lastModifiedBy>
  <cp:lastPrinted>2002-04-22T22:37:49Z</cp:lastPrinted>
  <dcterms:modified xsi:type="dcterms:W3CDTF">2006-06-19T12:43:49Z</dcterms:modified>
  <cp:revision>41</cp:revision>
  <dc:subject/>
  <dc:title>CC51A – Ingeniería de Software</dc:title>
</cp:coreProperties>
</file>