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F2C7-7EB2-4736-9133-6158CBDC0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6CC-EEA4-484E-81EB-92641B10C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1DD-27B4-47BF-9B05-94877A7E0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6AA43-408F-47C9-A5AB-D01E45DB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65776-2735-4F2E-940C-971DA8DA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2081F-A116-421E-8AC8-516FF84ED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12F35-C092-4591-9320-37E0C436C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F42E-3CEF-4188-995F-3F7F2A8D4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30611-98A2-4753-A2A3-AF5DB0D43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394E-4B61-4530-8729-DA27AA369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0C93-20AB-416B-AB6F-6E79DE6A2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8EF8D-8356-42AD-8FE7-7FDE1A73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ED86B-DC9B-4B2A-9693-C6F9CA63C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51F5-EA30-4595-9BBF-5E0ED26AA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21D0-764D-44E9-8F8E-BB05021B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95881-992C-4A35-8C31-C70C643A7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B1A6F-3473-4507-8CAF-039FF3C43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979B-806E-4393-800C-813178249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E076-99AF-4912-83AA-A70E1AA9A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9F7BD-5C84-40DE-B08C-8DF2E6627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5EF-784D-4694-A002-FCB318E05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B3D9-3DF2-40C2-ADCB-9ADE3358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4203-C088-45FC-B312-7EA7DA8B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5EFD-123F-41C6-AAF4-2BF0DF0DB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5EB-EE46-4D6A-9B07-94F8CF252A6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B14FF-25ED-4C29-A6ED-69AF7AD917C5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sobre el Capítulo 2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649116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40458c"/>
                </a:solidFill>
                <a:latin typeface="Tahoma"/>
              </a:rPr>
              <a:t>Clase 08a - Version 3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es son las actividades principales de la administración de proyect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tan importante es la labor del administrador de proyectos?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se debe hacer ante un retraso del proyect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herramientas me pueden ayudar a administrar mejor mis proyecto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La coordinación de las actividades de los miembros del equipo de trabajo, forma parte de la administración del proyect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aspectos son importantes tener en cuenta al elegir un modelo de funcionamiento para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xiste un “mejor modelo” de funcionamiento de equipos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ara qué puede servir un protocolo de comunicación, para un equipo de trabajo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Es lo mismo un grupo de trabajo, que un equipo de trabaj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mejor modelo de estimación de costos/tiempos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elementos son esenciales para realizar una buena estimación?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significa poder hacer buenas estimaciones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Por qué somos tan malos estimando?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2T17:44:22Z</dcterms:created>
  <dc:creator>Mercedario</dc:creator>
  <dc:description/>
  <dc:language>en-US</dc:language>
  <cp:lastModifiedBy>Sergio F. Ochoa</cp:lastModifiedBy>
  <dcterms:modified xsi:type="dcterms:W3CDTF">2005-05-25T22:01:29Z</dcterms:modified>
  <cp:revision>13</cp:revision>
  <dc:subject/>
  <dc:title>CC51A – Ingeniería de Software</dc:title>
</cp:coreProperties>
</file>