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2582-9255-41AE-8606-80E3A52F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815F-D690-4298-A2AB-2B9CA0C5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F878-D726-4ACC-9A80-9E10C8FC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9499-2991-4F31-B4A1-B1C19E9B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FB6A-3420-4B2A-B908-B02EA5D9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4599-9F19-4DAA-8F29-D507F0A0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5899-0A52-4E1B-87AE-40D07357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6B65-B2A4-43F5-AFA8-5E28FCF6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8249-47B1-4FD9-89A2-1C3F8863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782F-9A4E-43C1-8DF2-9BD9EEFA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5F00-3872-43E7-B2E2-4D454FB3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8957-BE33-4C25-B42A-06F8277B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9C3A-2738-44A6-8C4C-B0A78BB5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B078-BE8F-482B-BB4B-334EA300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D1B5-B51F-4290-89EB-680ED37B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9039-32F6-493F-8715-D1062CAD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FF3B-FC61-47C1-9F09-BC8C5780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4159-7229-4068-BF67-D9C4CA2E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79E6-0D39-48DB-8D72-F5DD610A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423C-D62A-4676-999C-AB980BE6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B65A-DA01-4B06-A7C9-7C42FB1E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80ED-92DB-4848-9139-D23FBDFB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BB7A-C67E-47AE-8D27-C898B5A1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832B-7AAF-49B5-8C19-376E2A5D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1CD6-64AE-46A5-9D37-C79C63937840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2C36-36D4-430F-871C-64C28AAA86E5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Estimación de Costos y Tiemp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 (www.ing.puc.cl/~jnavón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07 - Version 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A981-5667-4552-9DD7-9B59759D99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Dominio de Medicion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11000" y="1592280"/>
            <a:ext cx="8011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¿Medir para Mejorar o para Estimar Mejo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792440" y="2112840"/>
            <a:ext cx="455400" cy="4559400"/>
          </a:xfrm>
          <a:prstGeom prst="rect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81400" y="2160720"/>
            <a:ext cx="57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dir cada fase (Análisis, Diseño, ….) =&gt; Medir </a:t>
            </a:r>
            <a:r>
              <a:rPr b="0" i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ara mejora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81400" y="5894280"/>
            <a:ext cx="67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dir a paquete completo (el proyecto como un todo) =&gt; Medir </a:t>
            </a:r>
            <a:r>
              <a:rPr b="0" i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ara estima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mejo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C296-9F4E-43AF-825C-265CE516A9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istemas de 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30360" y="1620360"/>
            <a:ext cx="8254800" cy="50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Sistemas de Predicción –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jemplo -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lbrecht desarrolló la idea de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Puntos de Función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(FPs) para medir el atributo de funcionalidad percibida por el usuario en los documentos de especific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Validación =&gt; demostrar que S1 &gt; S2 =&gt; FP(S1) &gt; FP(S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n la práctica nadie ha validado esta medida en esta forma, y los FPs se usan no como medidas sino como parte de un sistema de predicción de costos (alternativo a COCOMO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63C1-89C7-45F4-81E4-8E5350C70B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istemas de 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60240" y="1620720"/>
            <a:ext cx="81122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Validación de un Sistema de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debe establecer empíricamente la precisión de la predicción (comparando el modelo con puntos conocid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nvolucra experimentación y testeo de las hipóte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Validación de una Medi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debe asegurar que la medida es una caracterización numérica adecuada del atributo en cuest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No es necesario que sirva para predecir algo o que tenga o no uti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10EB-DE3B-4C05-8E5A-E5C4A8F7C2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</a:t>
            </a:r>
            <a:r>
              <a:rPr b="1" lang="es-ES" sz="4400" spc="-1" strike="noStrike">
                <a:solidFill>
                  <a:srgbClr val="660066"/>
                </a:solidFill>
                <a:latin typeface="BodoniMT-UltraBold"/>
              </a:rPr>
              <a:t>Wideband-Delph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3760" y="1560240"/>
            <a:ext cx="818820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Método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Wideband-Delphi: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Originado en Rand Corporation, perfeccionado por B.Boeh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idea fundamental es usar varios expertos que hacen estimaciones independientes y luego hacerlos converger hacia una estimación ún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da experto recibe las especificaciones del programa y un formulario de esti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reúnen a conversar sobre suposiciones, duda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da uno lista las tareas y produce una esti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s estimaciones son recogidas por un moderador quien tabula los resultados y los devuelve a los expertos (estimaciones, promedio, mediana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A362-3FD2-4B6F-B3EC-AE392D8070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</a:t>
            </a:r>
            <a:r>
              <a:rPr b="1" lang="es-ES" sz="4400" spc="-1" strike="noStrike">
                <a:solidFill>
                  <a:srgbClr val="660066"/>
                </a:solidFill>
                <a:latin typeface="BodoniMT-UltraBold"/>
              </a:rPr>
              <a:t>Wideband-Delph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11360" y="1612440"/>
            <a:ext cx="81007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316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5º. Los expertos se reúnen nuevamente y discuten l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0316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6º. Se vuelve a la tercera etapa (nueva estimación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a discusión entre los expertos a menudo clarifican aspectos y producen cambios en las estimaciones para la etapa sigui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l método produce estimaciones bastante precis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EE19-F7C6-471C-A327-02AB1149E3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con Lógica Difu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544400"/>
            <a:ext cx="80424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Método de Lógica Difusa (Fuzzy-Logic):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sarrollado por Putman, se basa en comparar (en líneas gruesas) con información histórica de productos anterior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truye una tabla (escala de tipo logarítmica) con rangos y sub-rangos de tamaño de proyectos previos. Por ejemplo si el programa más pequeño es de 104 LOC y el más grande de 17.243 LOC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Tamaño/Complejdad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bajo 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interm 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40458c"/>
                </a:solidFill>
                <a:latin typeface="Arial"/>
              </a:rPr>
              <a:t>al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uy pequeñ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04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73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88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pequeñ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88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481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80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edian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802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338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23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grande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230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3719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620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uy grande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6202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0341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724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939C-5356-47A3-9BE4-DEC59DA6A9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con Lógica Difu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544400"/>
            <a:ext cx="80424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as filas indican el tamaños (en LOC), y las columnas la complejidad de los programas (o sistema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l estimador selecciona una de las categorías y subcategorías, comparando el nuevo proyecto con los proyectos anteriores dentro del rango considerado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uego toma como referencia (principalmente) aquellos proyectos previos que están en esa categorí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CC44-14EC-4FB0-96C1-C10DA8D87F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Componentes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590480"/>
            <a:ext cx="80424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l método de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Componentes Estándares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: Se basa en mantener una base de datos histórica con información de componentes usados en proyectos previos, en varios niveles de abstracción: subsistemas completos, módulos, interfaces de usuario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stima cuántas de cada una de ellas habrá en el nuevo proyecto (estimado, máximo y mínim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mbina esto, ponderando 4 veces el más probable y una vez los máximos y mínimos (4*est + máx + min)/6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45F7-718D-4B6C-9765-453B962C3B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Componentes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7720" y="1590480"/>
            <a:ext cx="8153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jemplo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Componente    LOC  min  est  max  prob   L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ódulo A      932   11   18    22   17.5   1631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ódulo B      543   35   40    44   39.8   2161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..      ...    ...    ...     ...        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..      ...    ...    ...     ...        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                            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Total: 546359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DAFC-767E-40B4-ACCE-8A8D79AB01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Puntos de Fun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665360"/>
            <a:ext cx="798696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Puntos de Función: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robablemente el más popular, inventado por Albrecht en IBM en 197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Se identifican 5 funciones básic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Input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pantallas o formularios usados para captur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Output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pantallas o reportes que la aplicación produ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Consulta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usuario interroga o pide informac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Archiv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tablas de una B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Interfaz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archivos compartidos de entrada o salida, parámetros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2651-1600-4996-9F0F-DF86DEB8C0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edidas del Softwar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redic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étodos de Estim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74D6-C63A-4832-B191-332E9EB40D08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Puntos de Fun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560240"/>
            <a:ext cx="77724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Númer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Tip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Pes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Tot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8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Input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2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Output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5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Consulta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2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rchivo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10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Interfaz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7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7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Total Sin Ajustar: 13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Factor de Complejidad: 1.0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Puntos de Función: 14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DEF7-83A2-4BA4-BF26-C6301F101C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l Factor de Complej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98400" y="1574280"/>
            <a:ext cx="830592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Para calcular el factor de complejidad se consideran 14 aspectos, otorgándosele a cada uno, una influencia de 0 a 5, generándose así un 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puntaje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 que va de 0 a 70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factor de complejidad estará dado por</a:t>
            </a: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FC = 0.65 + 0.01 * Puntaj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FC se mueve en el rango de 0.65 hasta 1.35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DE11-EE41-4AAB-B677-0DC65F43EF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l Factor de Complej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574640"/>
            <a:ext cx="792324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Los factores so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comunicacione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unciones distribuid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objetivos de desempeñ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configuración sobrecarg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tasa de transaccione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entrada de datos onli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eficiencia para usuario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actualización en líne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proceso complej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reu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instalación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ope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varios sitio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manten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DD98-A287-4F9D-81F6-7CF9C538D5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PROB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689120"/>
            <a:ext cx="80568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étodo es aplicable en ambientes de OOP (por lo menos el diseñ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iseño conceptu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ción de principales objetos (tipo, tamaño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lcular proyección de L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stimar tamañ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lcular intervalo de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781520" y="314784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84760" y="412416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84760" y="496404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84760" y="584820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F8F9-1A63-4620-B481-280F4D62CB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PROB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69960" y="1574280"/>
            <a:ext cx="8159760" cy="50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Diseño Conceptu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-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Objetos y funcionalidad. No necesariamente diseño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finitivo, sólo para estimación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- Se clasifican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objetos (tipo y tamaño)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.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busca en base de datos históricos, información sobre lo más parecido que hemos desarroll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Objeto: Matri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ipo: Data                                    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8.84 LOC/Metho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étodos: 13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114.9 LOC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amaño: media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59240" y="4716360"/>
            <a:ext cx="1440" cy="16480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62480" y="5568840"/>
            <a:ext cx="1481040" cy="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C62F-75CC-4629-A6E8-4E615C3C6D2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7800" y="1523880"/>
            <a:ext cx="837720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Los modelos teóricos sirven, pero tienen muchas limitacion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 pesar que las técnicas de medición, estimación y predicción se conocen desde hace mucho tiempo, es muy común que se acepten deadlines imposibles para el proyecto, desde el princip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Muchas veces el plazo de desarrollo es fijado por gente del área comercial o por ejecutivos sin realizar ningún tipo de cálculo ser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unque muchas veces es difícil, 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Ingeniero Jefe del Proyecto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 ser muy claro desde un principio y defender enérgicamente los tiempos reales obtenidos científicamente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CCEB-DA62-453D-A2E2-50F0F9B5EFC6}" type="slidenum">
              <a:t>25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77800" y="1523520"/>
            <a:ext cx="83772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n muchas ocasiones el encargado del proyecto se pone la soga al cuello sólo sin que nadie realmente lo esté forzando a un cronograma tan ajustad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Cualquier comandante que acepta llevar a cabo un plan que el considera defectuoso es culpable; el debe exponer sus razones, insistir en los cambios necesarios y finalmente ofrecer su dimisión antes de ser el instrumento de la derrota de su ejército”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Napole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s mejor desarrollar un modelo propio, que use la información histórica de la empres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6902-813A-4407-939B-95C873C6444D}" type="slidenum">
              <a:t>26</a:t>
            </a:fld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das del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30000" y="1545840"/>
            <a:ext cx="83502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Medidas del Software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Planeación =&gt; estimar tiempos y recursos =&gt; estimar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tamaño del software =&gt; medida del software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40458c"/>
                </a:solidFill>
                <a:latin typeface="Arial"/>
              </a:rPr>
              <a:t>Medida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Proceso por el cual se asignan números o símbolos a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entidades de un set determinado, para describir algún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atributo de ellas. Por ej.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Altura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(Juan, 180) (Julia, 165) (Michael 205)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Peso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[Juan, 75] [Julia, 60) [Michael 95]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Lo importante es que si Michael es más alto que Juan, la medida de la altura debe ser también mayor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9CDF-F034-49E6-834E-58D7C09B66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das del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6560" y="1546200"/>
            <a:ext cx="8012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Medida directa, indirecta o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edida directa: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se observa la entidad y se aplica el instrumento de medida directamente (peso, estatu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edida indirecta: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mide en forma directa otra entidad (o más de una) y luego se usan relaciones conocidas entre ellas (velocidad= distancia/tiempo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Predicción: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queremos una estimación de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 tamaño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de una entidad que puede no existir en ese mom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2203-42F4-452F-BB37-0B2E61D5E9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545840"/>
            <a:ext cx="801216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Similar a medición indirecta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ablecer una conexión entre las entidades medidas directamente y las entidades cuya medida será predich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finar la conexión hasta llegar a una o más fórmulas que permitan traducir las medidas directas en medidas aproxim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17928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diferencia clave está en que en la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edicción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no es posible establecer una conexión completa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=&gt; sólo se puede aproximar la medida correc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C175-92B3-406A-87F5-A17BF2D3BC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41520" y="1521000"/>
            <a:ext cx="8208720" cy="53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Similar a medición indirecta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ólo es posible predecir si tenemos buenas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medidas en qué basarnos!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 pesar de lo obvio de esta afirmación muchas veces los administradores muestran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gran interés en estimación, pero no en mediciones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l esfuerzo de desarrollar un software, siempre es una actividad de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EDICCIO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Una predicción precisa requiere medición cuidadosa de atributos claves en proyectos ya complet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3E1B-4A5C-4CA0-A900-673A9E5220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cione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8800" y="1604520"/>
            <a:ext cx="819144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Razones de baja aceptación en la industri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os administradores no saben qu</a:t>
            </a:r>
            <a:r>
              <a:rPr b="0" lang="es-ES_tradnl" sz="2000" spc="-1" strike="noStrike">
                <a:solidFill>
                  <a:srgbClr val="40458c"/>
                </a:solidFill>
                <a:latin typeface="Arial"/>
              </a:rPr>
              <a:t>é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hacer con las medici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 falta de la validación necesaria =&gt; (produce) falta de confianza en las med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jemplo de Estimación: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El modelo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COCOM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 simple relaciona el esfuerzo E (meses-hombre) con el tamaño S (MLOCS) de acuerdo 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 = a*S</a:t>
            </a:r>
            <a:r>
              <a:rPr b="1" i="1" lang="es-ES" sz="2400" spc="-1" strike="noStrike" baseline="30000">
                <a:solidFill>
                  <a:srgbClr val="40458c"/>
                </a:solidFill>
                <a:latin typeface="Arial"/>
              </a:rPr>
              <a:t>b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Donde a y b son parámetros determinados por el tipo de software a ser desarroll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ara usar este modelo para predecir el esfuerzo en la etapa de captura de requ</a:t>
            </a:r>
            <a:r>
              <a:rPr b="0" i="1" lang="es-ES_tradnl" sz="2400" spc="-1" strike="noStrike">
                <a:solidFill>
                  <a:srgbClr val="40458c"/>
                </a:solidFill>
                <a:latin typeface="Arial"/>
              </a:rPr>
              <a:t>isit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s, necesitamos primero determinar (predecir) los parámetros y luego el tamaño del eventual sist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A059-B5A2-4419-AC97-575C9BED37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cione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801216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odelo por si solo no es suficiente para efectuar una predic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Un sistema de predicción consiste en un modelo matemático, más un conjunto de procedimientos orientados a obtener variables y parámetr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strictamente, COCOMO es más que un método de estimación de costos, es un sistema de predicción de cost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B1C1-FD56-4660-BEA4-6EFBF6D83D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Qué medir y cómo medir? He aquí el dilema…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801216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Medi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sólo aquellos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aspectos del proceso o del product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, que son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levante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m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levantes para qué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?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 proces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s produc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s estimacion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Guardar infor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todo esto puede ser una tarea demasiado pesada, y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podría entorpecer los desarroll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Medir y guardar la infor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, sólo si yo soy capaz de confiar en ell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s mediciones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n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berían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entorpece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el trabajo de la g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6CBD-B349-4C08-9232-4C9340A2A6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27:28Z</dcterms:created>
  <dc:creator>Sergio Ochoa</dc:creator>
  <dc:description/>
  <dc:language>en-US</dc:language>
  <cp:lastModifiedBy>Sergio F. Ochoa</cp:lastModifiedBy>
  <cp:lastPrinted>1999-09-03T16:31:05Z</cp:lastPrinted>
  <dcterms:modified xsi:type="dcterms:W3CDTF">2006-05-02T12:31:56Z</dcterms:modified>
  <cp:revision>192</cp:revision>
  <dc:subject/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NavBtnPos">
    <vt:r8>3</vt:r8>
  </property>
  <property fmtid="{D5CDD505-2E9C-101B-9397-08002B2CF9AE}" pid="10" name="ScreenSize">
    <vt:r8>3</vt:r8>
  </property>
  <property fmtid="{D5CDD505-2E9C-101B-9397-08002B2CF9AE}" pid="11" name="ScreenUsage">
    <vt:r8>3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