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C46-71C3-4EA6-BADD-2E43C3EB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772-C3AC-4E6A-A3A9-FE476E0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59D-6BE9-4C57-9C99-6AB6FEE4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1CA-5BBD-44A3-ACD0-1E92F96D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B01-99F3-4574-A547-64A09F17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410-9E52-4ABE-8FBD-A9AD9C69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E500-BF21-4073-9E0C-E8478E49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476A-A5C9-4228-B063-2574C562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9D08-7014-45AF-9D5B-AA97C35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8466-B876-4BEA-BC3D-4F919C81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BE4F-4AFF-4B06-8FD7-68AF7879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131-52BD-4C2C-AFF0-2766C6D1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E8D3-CF74-45FB-806C-62A4BA2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83D1-D2F3-4D87-A38B-22408F2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C670-AD49-4B3D-B4B9-CD5E19D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99EC-217F-4DF5-BD55-D706913E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9A19-0258-498F-97DB-71AE7B84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36C-851F-4BB1-8433-3F1F2036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397-6573-4584-86B9-2F5F4370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8AA-B711-41E4-8DB1-E06A36D1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6A6-6D8D-42FD-B986-ADAC5797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5A2-DA2A-41E0-A3AE-FF0E730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52F-82F1-4F26-BC62-FF20D9BA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43D-D01E-4D14-828A-FE748BE9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8D75-4F16-48BA-97DB-617C7777122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7F59-2E4A-4E57-B611-AFB54E8E042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B233-EC45-4050-86AB-B6DA734E88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mejor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estim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j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EF1-5179-4BB2-AF17-2F1C0DD989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–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571-7DD3-47AC-BDB0-EBD1D019FD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las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F6A-AC41-4916-9104-6097FADF14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240"/>
            <a:ext cx="818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8DC-5CC4-4DC1-B369-8C4174110D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440"/>
            <a:ext cx="81007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5º. Los expertos se reúnen nuevamente y discut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C3A-0012-4871-B774-6AA0958FC7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-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Tamaño/Complejdad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ED9-F1AF-49CB-84B2-F21FDC15D9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1E2-7D9B-4A85-9619-6133F81041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 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9C2-7A93-4A86-80CF-66B6DD954F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8F7-6AEA-40C9-964A-2D2BC7BD01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tablas de una B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D6B-D051-44DF-9B8D-8A4FF0593F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819-A917-4209-8916-C35FAFE956B3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4ED-3306-449A-9F05-410D0E98AA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08E-5F7D-4339-A887-F1D9CA9BC9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B32-7D79-4379-9F19-D020D1203E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9C5-7FF9-44D9-8C1E-9A1BF28091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os,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61A-7C98-4416-9174-B4618F8EDB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realiz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Ingeniero Jefe del Proyecto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644-2D18-43C8-B72F-83944834EFCB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cronograma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E3F-F150-4D10-BF01-2CC46214B649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37C-4A86-4178-AF09-8FBD418F61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86E-2CC6-459A-B234-9B8A1A5D7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35E-C57F-49CC-A5B8-9442F45004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ECC-9D48-4CAB-ACC0-78360DC11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20B-BFBA-4B7C-9199-7DB8CDD23B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573-26CB-471A-A4F4-E5BC4E083E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1A7-CC54-4BEE-AECD-7EB3206D94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6-05-02T12:31:56Z</dcterms:modified>
  <cp:revision>192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