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E1F-BC40-45EE-B5C7-4E978CD8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C81-76FB-419F-BF72-9070511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103-1EF2-4961-BB8D-637D2F53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785-168B-4FF2-8822-47553D3B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FAE0-A595-4E7E-A75B-2ACDE2D6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6494-2EDD-42A1-967B-6CA7E8D0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03B0-4814-418B-9862-D15B821C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9354-483C-46A8-9494-D8487C1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34E7-1A64-44BA-8CF7-3BEFD49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1DF7-113E-4CE1-A551-E280F425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5BA8-5329-4C7E-BFB0-9A7E845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5F6-404F-410F-9CCF-9AC5791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E5A1-BFA4-4CCD-997D-EC82767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934E-A5BC-4B11-B292-AFC5B8B3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C3D-1EE5-46CB-8E36-D89A269D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FDDC-C217-48E5-BD95-16A1F994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42D9-43DA-433D-8F55-7D2628ED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517-9720-4A11-BACA-A19FFE02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1BA-4916-439E-B655-4DDAF74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803-1B37-4960-8B7B-EA71A55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563-9F93-469D-9D33-4B0D807E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13A-1A90-4F71-A568-EBB6BE6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728-48DA-4B95-AFCB-CC4AB44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748-4833-4E09-B3AA-BDFA352A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2F60-D9C3-4E64-897C-D55F915B6FE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BB70-BF7E-442C-9525-A9BD157F22F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6-04-27T12:19:40Z</dcterms:modified>
  <cp:revision>44</cp:revision>
  <dc:subject/>
  <dc:title>Software Technical Reviews</dc:title>
</cp:coreProperties>
</file>