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326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DC42-7F71-4F94-BD46-00528183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78CF-7D79-4FFD-9E82-FAF546DC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CB13-FE43-418F-AF3A-B3353489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DAA5-71AE-4360-AC7D-EB55A2C5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57A0-22DC-4692-B393-CBF0A515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59F8-2361-4D0E-8D2B-52CAE943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B43B-5EDB-4609-BA24-502863C3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238E-878D-45F9-9CAC-6AAA1E33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09F0-6AA9-4BE1-9BC8-C46321A3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3C44-0936-4D49-BA03-9B2C0ED7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E88E-7448-4A60-9BD5-CCBAFB1C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76EF-9BC7-4F97-96C8-8CF98838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E230-1240-47C4-9517-D4AA6271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BE3E-C969-4698-9798-AC2EBEAA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363C-1F12-48E4-831E-C75B2EC4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3D5C-6966-4D6A-8FFA-72C82B6B0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9922-F9A9-4CEC-A53A-983D6CE4D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E0C9-EDC9-4470-8123-38220300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7227-CD61-40D9-A1F9-525FEA66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D520-03BC-459C-87C6-8E72607B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6C5D-A381-460E-905D-F0BD3D44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6255-002C-4DA2-9AEF-3AEF5007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770F-9E2C-42EA-9793-E29BE591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AA5E-D6FC-44F8-8086-2A2101D6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1636-F818-4F45-A9AF-ADFDD5B34F7D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A2B6-948C-4D00-BF79-61E1DD131ED0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Software Technical Review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40458c"/>
                </a:solidFill>
                <a:latin typeface="Tahoma"/>
              </a:rPr>
              <a:t>Sergio Ocho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49"/>
              </a:spcBef>
              <a:spcAft>
                <a:spcPts val="975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moder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terminar si todos están preparado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Guiar la caminata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rbitrar los medios para obtener conclusiones útiles, de los desacuerdos o errores encontrado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 algn="just">
              <a:spcBef>
                <a:spcPts val="649"/>
              </a:spcBef>
              <a:spcAft>
                <a:spcPts val="975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registr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Tomar notas de los defectos y de los cursos de acción a seguir. Con esto generará una lista que se les entregará a los participant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á comentarios menores como observaciones sobre: fonts, gramática, puntuación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odría ser útil grabar (audio, audio/video)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1280" y="148572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649"/>
              </a:spcBef>
              <a:spcAft>
                <a:spcPts val="1301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autor/present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esentar el materi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Ser claro e ir “al grano” con las explicaciones (presentar sólo lo relevante!!!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larificar las dudas de los revisores (“ir al grano”!!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No debe mostrar una actitud de protección hacia su trabaj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 algn="just">
              <a:spcBef>
                <a:spcPts val="649"/>
              </a:spcBef>
              <a:spcAft>
                <a:spcPts val="1301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revisores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n: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epararse para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Identificar errores durante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visar el trabajo, no al autor…. y ser constructivos !!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128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l final de la caminata (Walkthrough)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 </a:t>
            </a:r>
            <a:r>
              <a:rPr b="0" i="1" lang="es-CL" sz="2000" spc="-1" strike="noStrike" u="sng">
                <a:solidFill>
                  <a:srgbClr val="40458c"/>
                </a:solidFill>
                <a:uFillTx/>
                <a:latin typeface="Tahoma"/>
              </a:rPr>
              <a:t>determinarse el grado de aprobación del documen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l status (aprob/desaprob) debe constar en la lista de errores/deficiencias encontradas, y en el documen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 proveerse control de versiones sobre todos los documentos, especialmente los revisa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Segu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egistrador debe reportar los errores por escrito,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al moderador y a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l autor debe corregir los error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notificar al moderador, de que esto se ha hech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uego, se realizará una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eunión corta entre el moderador y el autor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terminar si los errores encontrados han sido corregi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segurarse que no se han introducido nuevos errores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oderador podría incluir revisores adicional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 futuras reuniones, si él cree que se requiere experiencia técnica adicion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Inspe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51814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lanific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xplicación Introductor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repar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unión de Inspe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Tercer Tiemp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Corre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guimi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55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oderador (QAE) deb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Asegurar que el producto está list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 la inspe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Seleccionar al equip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inspección y asignar ro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stablecer el lugar, día y hor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la inspec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 que 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terial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necesario para la inspección ha sido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istribuid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n tiempo y for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terminar si la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inspecc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l producto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puede ser hecha en una reun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o si se necesitarán má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terminar si los revisores están familiarizad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con el material a revis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xplicación Introducto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 planifica una explicación introductoria si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quipo de inspección no está familiarizado con el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oducto es nuevo, o está siendo inspeccionado por primera vez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No se han hecho inspecciones en 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pa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51"/>
              </a:spcBef>
              <a:buSzPct val="1207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Los revisores deben: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Chequear el documento contra los requisitos y los estándares, para asegurar su cumplimient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gistrar los defectos en la preparación del documento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Identificar ALERTA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751"/>
              </a:spcBef>
              <a:buSzPct val="1207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El moderador debe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visar las observaciones de cada reviso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Identificar posibles focos de problemas, que necesiten atención extra durante la inspec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programar una inspección, si el equipo de inspectores no está lo suficientemente preparado, o si tienen problemas de disponibilidad para asistir a la reun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ímite de tiempo:  90 minu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a inspección se lleva a cabo del mismo modo que en la </a:t>
            </a:r>
            <a:r>
              <a:rPr b="1" i="1" lang="es-CL" sz="2400" spc="-1" strike="noStrike">
                <a:solidFill>
                  <a:srgbClr val="40458c"/>
                </a:solidFill>
                <a:latin typeface="Tahoma"/>
              </a:rPr>
              <a:t>camina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spués de la reunión, el moderador y el autor se reúnen (brevemente) para estimar el esfuerzo de corrección, y la fecha de la siguiente reunión (Caminata/Auditoría/etc.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2001"/>
              </a:spcBef>
              <a:spcAft>
                <a:spcPts val="1599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e le entrega al autor una lista de los defectos encontrados, para que le sirva como guía de corrección.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15332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l final de la reunión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sumirse el número y tipo de defectos encontrados, y el moderador y/o el equipo de trabajo determinará cuando será necesaria otra inspección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l moderador debe determinar si el tercer tiempo es necesario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Si el tercer tiempo es necesario, entonces se le asignan tareas individuales a los inspector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tenid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5791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onsideraciones Genera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evisiones (entre pare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Auditorí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aminatas (Walkthrough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Inspecc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registrador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 los temas no resueltos, para ser tratados durante el tercer tiempo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 cada defecto, su ubicación, una breve descripción del defecto/error, el tipo de defecto al que pertenece, y el inspector que lo encontró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onstruir la lista de defectos encontrados durante la inspecc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Tercer Tiemp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Tiempo usado pa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iscusio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nalizar Posibles Solucio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errar temas Abier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visar los Defectos Encontrado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(documentándol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rre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400"/>
              </a:spcBef>
              <a:spcAft>
                <a:spcPts val="10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autor corrige los defectos encontr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400"/>
              </a:spcBef>
              <a:spcAft>
                <a:spcPts val="10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os defectos menores deben ser corregidos, sólo si los costos y tiempos lo permiten (aunque deben ser agendados).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400"/>
              </a:spcBef>
              <a:spcAft>
                <a:spcPts val="10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moderador debe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se que todos los aspectos relacionados con un defecto, han sido considerados por e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Segu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unión corta entre el moderador y el autor para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terminar si los errores encontrados han sido corregi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se que no se han introducido nuevos errores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moderador podría incluir revisores adicionales para futuras reuniones, si él cree que se requiere experiencia técnica adi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…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TFs  ayudan 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Mantener el control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Publicitar el estado de avance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Identificar falencias y/o riesg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Generar nuevas ideas, y considerar otros puntos de vis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Generar casos de prueb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vanzar sobre una base sóli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tc…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or lo tanto, hágalas periódicamente.... pero no abuse, las RTF son un medio, no un fi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483920"/>
            <a:ext cx="807732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de software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sirven para validar la calidad y/o el estado de un producto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e producto a revisar puede ser un documento,  un módulo, un prototipo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xisten distinto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tipos de revisione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 Cada una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especializad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en un determinado producto / escen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yudan a encontrar falencias, y a identificar riesgo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que serían difíciles de encontrar de otra mane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son necesarias…. Hágalas !!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sideracione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6560" y="1557360"/>
            <a:ext cx="80773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ea (y respete) el manual sobre “Protocolos de Comunicación entre miembros del Proyecto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visa el trabajo, NO al autor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buscan defectos, NO formas de implementar sus idea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iga las instrucciones del moderador, y los tiempos asignados a cada activ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críticas destructivas, NO benefician a nadi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visiones (entre pare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49080" y="1557360"/>
            <a:ext cx="8459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1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Generalmente están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orientadas al Código Fu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2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u objetivo e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detectar Errores o Problemas de Lógica y de Programación en forma tempran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3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suntos a Revisar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orrectitu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Variables en Desus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Funciones Omiti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áctica de Programación Pobr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dundanc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dhesión al Estándar de Escritura de Códig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SzPct val="150784"/>
              <a:buBlip>
                <a:blip r:embed="rId4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ímite de Tiempo: 60 min. (por sesió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Auditorí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80773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visión Formal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su objetivo 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valuar el nivel de conformidad con estándares y pla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ontrolar que se han hecho los cambios programa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uditar el proyecto… en forma interna o exter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uditor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es el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sponsable de verificar el proceso de auditorí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y la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cciones derivada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és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ímite de Tiempo: 60 min. (por sesió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Walkthrough (Caminata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Las Caminatas involucran tres fas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lanificación (preparac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jecución (revis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guimiento (post-revis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08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Las </a:t>
            </a:r>
            <a:r>
              <a:rPr b="0" i="1" lang="es-CL" sz="3100" spc="-1" strike="noStrike" u="sng">
                <a:solidFill>
                  <a:srgbClr val="40458c"/>
                </a:solidFill>
                <a:uFillTx/>
                <a:latin typeface="Tahoma"/>
              </a:rPr>
              <a:t>caminatas deben ser bien planificadas</a:t>
            </a: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, y con suficiente anterioridad (una semana) por un Quality Assurance Engineer (QAE).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El QAE enviará una invitación a los participantes, vía mail. 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0" i="1" lang="es-CL" sz="3100" spc="-1" strike="noStrike" u="sng">
                <a:solidFill>
                  <a:srgbClr val="40458c"/>
                </a:solidFill>
                <a:uFillTx/>
                <a:latin typeface="Tahoma"/>
              </a:rPr>
              <a:t>roles que deberán estar presentes</a:t>
            </a: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 son: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Moderad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u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2 a 3 Revis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gistrador(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81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000" spc="-1" strike="noStrike" u="sng">
                <a:solidFill>
                  <a:srgbClr val="40458c"/>
                </a:solidFill>
                <a:uFillTx/>
                <a:latin typeface="Tahoma"/>
              </a:rPr>
              <a:t>Expertos externos pueden</a:t>
            </a: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 eventualmente </a:t>
            </a:r>
            <a:r>
              <a:rPr b="0" i="1" lang="es-CL" sz="3000" spc="-1" strike="noStrike" u="sng">
                <a:solidFill>
                  <a:srgbClr val="40458c"/>
                </a:solidFill>
                <a:uFillTx/>
                <a:latin typeface="Tahoma"/>
              </a:rPr>
              <a:t>ser invitados a las revisiones</a:t>
            </a: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, sólo cuando se requieran conocimientos especializados, con respecto a algún tema.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Límite de tiempo: 90 minutos aprox.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Incluye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948600" indent="-271440" algn="just">
              <a:lnSpc>
                <a:spcPct val="11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unir y distribuir el material (48hs antes)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48600" indent="-271440" algn="just">
              <a:lnSpc>
                <a:spcPct val="11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oordinar el día y hora de la camina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8:46:50Z</dcterms:created>
  <dc:creator>Sergio Ochoa</dc:creator>
  <dc:description/>
  <dc:language>en-US</dc:language>
  <cp:lastModifiedBy>Sergio F. Ochoa</cp:lastModifiedBy>
  <cp:lastPrinted>2002-05-02T12:05:49Z</cp:lastPrinted>
  <dcterms:modified xsi:type="dcterms:W3CDTF">2006-04-27T12:19:40Z</dcterms:modified>
  <cp:revision>44</cp:revision>
  <dc:subject/>
  <dc:title>Software Technical Reviews</dc:title>
</cp:coreProperties>
</file>