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EC61-C326-4DAC-A861-10B3C0E8E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C3CD-CC9A-45AB-96E5-28B2D118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F018-9EF8-49A5-99C7-2994D1CCA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DBBD-FF88-4DCF-90DA-D256C6C7B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F7CF-89E4-4FCB-AD85-2E20492FF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6ECC-D2A3-40C6-9149-8CFE70AB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1B1F-6549-4BD4-ABEC-BE3CEC8A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B16F-6AA0-47F8-9DDB-FBB0622A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640F-6731-4FB6-8FD7-DED82F50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9B69-0C88-4EA7-BC7D-736F3D52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1403-01C0-4F16-9312-B862C74C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2D6A-63AF-437B-BF5B-B0F1A96F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303E-3DEC-4910-8B07-B85BC4CB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CCC3-1808-4EB1-B9C8-9F8FE30B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B697-12F9-4556-A451-09B75A57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2F88-AF71-4125-ACC8-0C5B106C8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D377-95F4-43F6-833B-74A51D237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E803-2388-4539-8EA6-BE009CCB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AAD7-A42E-4130-A5EF-5A4B16C6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383E-BCD4-4A45-822C-21B34DF1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65FB-E839-4BEF-9E09-367D1AA8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68CC-95C3-446A-9DD0-ABED888A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EDE9-D9EB-45BC-8CED-001EC75A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0134-0198-4DF7-AA61-0CC92172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9346-A1D0-4C15-9CDB-03359B8747CC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C396-D336-46B1-8F08-81AF461B7E6D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40458c"/>
                </a:solidFill>
                <a:latin typeface="Tahoma"/>
              </a:rPr>
              <a:t>Introducción a la Gestión de Proyectos de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Parte de este material ha sido cedido por el Prof. Jaime Navón, PhD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(www.ing.puc.cl/~jnavon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5, Parte b - Versio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trol de Tare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135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Formas de monitore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38"/>
              </a:spcBef>
              <a:spcAft>
                <a:spcPts val="1562"/>
              </a:spcAft>
              <a:buSzPct val="14480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 u="sng">
                <a:solidFill>
                  <a:srgbClr val="40458c"/>
                </a:solidFill>
                <a:uFillTx/>
                <a:latin typeface="Arial"/>
              </a:rPr>
              <a:t>Informal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Llevar a cabo </a:t>
            </a:r>
            <a:r>
              <a:rPr b="1" lang="es-ES" sz="2500" spc="-1" strike="noStrike" u="sng">
                <a:solidFill>
                  <a:srgbClr val="40458c"/>
                </a:solidFill>
                <a:uFillTx/>
                <a:latin typeface="Arial"/>
              </a:rPr>
              <a:t>reuniones periódicas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en las cuales los participantes informan del estado de las tareas, el progreso o los problemas encontrados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38"/>
              </a:spcBef>
              <a:spcAft>
                <a:spcPts val="1562"/>
              </a:spcAft>
              <a:buSzPct val="14480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 u="sng">
                <a:solidFill>
                  <a:srgbClr val="40458c"/>
                </a:solidFill>
                <a:uFillTx/>
                <a:latin typeface="Arial"/>
              </a:rPr>
              <a:t>Formal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Determinar si las metas están siendo cumplidas de acuerdo a lo programado, usando </a:t>
            </a:r>
            <a:r>
              <a:rPr b="1" lang="es-ES" sz="2500" spc="-1" strike="noStrike" u="sng">
                <a:solidFill>
                  <a:srgbClr val="40458c"/>
                </a:solidFill>
                <a:uFillTx/>
                <a:latin typeface="Arial"/>
              </a:rPr>
              <a:t>checkpoints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38"/>
              </a:spcBef>
              <a:spcAft>
                <a:spcPts val="1562"/>
              </a:spcAft>
              <a:buSzPct val="14480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 u="sng">
                <a:solidFill>
                  <a:srgbClr val="40458c"/>
                </a:solidFill>
                <a:uFillTx/>
                <a:latin typeface="Arial"/>
              </a:rPr>
              <a:t>Formal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s-ES" sz="2500" spc="-1" strike="noStrike" u="sng">
                <a:solidFill>
                  <a:srgbClr val="40458c"/>
                </a:solidFill>
                <a:uFillTx/>
                <a:latin typeface="Arial"/>
              </a:rPr>
              <a:t>Comparar los recursos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planeados contra los realmente gastados, para las distintas tareas. Emitir alertas en caso de ser necesario (por ej. Para disparar un plan de contingencia)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trol de Tare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143000" y="1828800"/>
          <a:ext cx="739152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28800"/>
                    <a:ext cx="739152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trol de Tare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8231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Al detectar problemas con la planificació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Asignar más recurso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al área afecta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Readecuar el personal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en gener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Cambiar la program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de tareas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Usar técnicas de “time-box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Básicamente, es una estrategia de tipo increment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Se define la entrega del primer incremento, y luego se reajustan todas las tareas de acuerdo a este incremen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Al llegar al límite de tiempo de una tarea para ese incremento, esa tarea se detiene y comienza la siguient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Aunque una tarea no esté completa, muchas veces es posible postergar la última parte para el siguiente incremen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áximas....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78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mayoría de las veces el </a:t>
            </a:r>
            <a:r>
              <a:rPr b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administrador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del proyecto </a:t>
            </a:r>
            <a:r>
              <a:rPr b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marca la diferencia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entre el éxito o el fracaso de un proyecto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gestión es </a:t>
            </a:r>
            <a:r>
              <a:rPr b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tan importante como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la parte técnica....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... es difícil encontrar un buen administrador de proyectos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administración de proyectos es una </a:t>
            </a:r>
            <a:r>
              <a:rPr b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disciplina que se debe aprender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....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n un equipo de trabajo, el </a:t>
            </a:r>
            <a:r>
              <a:rPr b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adm. de proyectos es quien peor la pasa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¿Cómo Mejorar la Adm. de Proyectos de Software 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6880" y="1628640"/>
            <a:ext cx="80614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Requiere saber ¿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dónde estamos hoy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?. Con exactitud !!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quiere revisar/rediseña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El proceso de administración de proyectos actua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La ingeniería de requisi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La planificación de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El seguimiento y control de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El aseguramiento de la cali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La administración de la configur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alas Notic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912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expansión de los sistema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de software en tamaño, complejidad, distribución e importancia empuja los límites de lo que hasta la fecha sabíamos desarrolla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Tratar de avanzar más allá de los sistemas legados, hacia tecnologías más modernas, trae su propio conjunto de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problemas técnico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y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organizacionale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imprevisto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nunca faltan…(rotación de personal, apuro por razones de mercado, etc.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1049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administración de proyectos de software se hace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cada vez más difícil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alas Notici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79261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competencia obliga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a las empresas de desarrollo a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mejorar su productividad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, manteniendo o mejorando la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calidad de sus producto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, realizando además desarrollos más rápidos y económic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dicionalmente, la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velocidad de preparación de personal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de desarrollo calificado, es menor que la requerida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demás, actualmente el personal requiere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competencias adicionale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a las tradicionales (por ej. diseño gráfico, diseño de procesos de negocio, etc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alas Notici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spcBef>
                <a:spcPts val="1049"/>
              </a:spcBef>
              <a:spcAft>
                <a:spcPts val="1749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onstrucción y mantención de software es una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tarea difícil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y será aún más difíci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spcBef>
                <a:spcPts val="1049"/>
              </a:spcBef>
              <a:spcAft>
                <a:spcPts val="1749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Construir software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 una cierta calidad,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en forma repetibl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es una tarea aún más difíci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spcBef>
                <a:spcPts val="1049"/>
              </a:spcBef>
              <a:spcAft>
                <a:spcPts val="1749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odo esto se refleja en la Administración de Proyectos.... Este es el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por qué?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las máximas antes mencionad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lgunos Síntomas Comunes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135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SzPct val="1131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0458c"/>
                </a:solidFill>
                <a:uFillTx/>
                <a:latin typeface="Tahoma"/>
              </a:rPr>
              <a:t>Imprecisión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 en el entendimiento de las necesidades del usuario final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SzPct val="1131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0458c"/>
                </a:solidFill>
                <a:uFillTx/>
                <a:latin typeface="Tahoma"/>
              </a:rPr>
              <a:t>Nadie sabe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 exactamente cuál es el estado de avance del proyect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SzPct val="1131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0458c"/>
                </a:solidFill>
                <a:uFillTx/>
                <a:latin typeface="Tahoma"/>
              </a:rPr>
              <a:t>Falta de habilidad/resistencia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 para manejar requisitos cambiante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SzPct val="1131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Módulos que no calzan...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SzPct val="1131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0458c"/>
                </a:solidFill>
                <a:uFillTx/>
                <a:latin typeface="Tahoma"/>
              </a:rPr>
              <a:t>Evitamos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 mostrarle cosas al cliente/usuario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SzPct val="1131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Software que es difícil de mantener o extender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Algunos Síntomas Comunes (cont...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20200" indent="-52020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Descubrimiento tardío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de fallas seri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200" indent="-52020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No sabemos cómo manejar los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problemas ajeno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, como el Y2K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200" indent="-52020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iembros del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equipo en muchas cosa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, o ausentes, haciendo imposible reconstruir historia de camb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200" indent="-52020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Falta (o problemas) de comunicación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entre los miembros del equip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200" indent="-52020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tiempos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nos están asfixiando …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1752480"/>
            <a:ext cx="746748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incipios Básico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anificación de Proyecto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dministración de Proyecto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las Noticia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íntomas Comun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ficiencias Comun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clusion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ficiencias Comu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135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40458c"/>
                </a:solidFill>
                <a:uFillTx/>
                <a:latin typeface="Tahoma"/>
              </a:rPr>
              <a:t>Administraci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requisito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ad-ho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e planifica, pero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no se replanif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Comunicación ambigua e imprecis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ntro y fuera del equipo de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Responsabilidades y role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ifus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rquitecturas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escabrosas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Complejidad y/o tamaño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de los proyectos es muy grande. Falta de segmentación del proble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Inconsistencias no detectada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n requisitos, diseño e implement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trol insufici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ficiencias Comune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557360"/>
            <a:ext cx="77724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esteo insufici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Evaluación subjetiva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l estado d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Incapacidad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los miembros para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trabajar en grupo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Falla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para analizar y atacar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los riesgo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Propagación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cambios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no controlada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utomatización insuficiente o falta de herramient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uenas Práctica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4000" y="1630080"/>
            <a:ext cx="813564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ra construir buen software </a:t>
            </a:r>
            <a:r>
              <a:rPr b="1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no basta con ser buen programador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ra ello, hay que conocer, planificar y controlar las </a:t>
            </a:r>
            <a:r>
              <a:rPr b="1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actividades y recursos asignados a un proyecto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iste una nueva </a:t>
            </a:r>
            <a:r>
              <a:rPr b="1" i="1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ola en ingeniería de software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, basada en dichos principios, que permite visualizar el futuro en forma más optimist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83055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a planificación del proyecto provee una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definición de cada macro-tarea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, junto con estimaciones de tiempos y recursos requeri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a planificación del proyecto provee además un marco de referencia para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monitoreo y control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de estas tare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planificación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del proyecto se desarrolla al comienzo pero es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continuamente refinada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a medida que el trabajo progres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alvo raras excepciones, los recursos y tiempos estimados inicialmente, difícilmente son alcanz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lusione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64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Hay que controlar (monitorear) todo... pero el </a:t>
            </a:r>
            <a:r>
              <a:rPr b="1" lang="es-ES_tradnl" sz="2400" spc="-1" strike="noStrike" u="sng">
                <a:solidFill>
                  <a:srgbClr val="40458c"/>
                </a:solidFill>
                <a:uFillTx/>
                <a:latin typeface="Arial"/>
              </a:rPr>
              <a:t>monitoreo es un medio, no un fin</a:t>
            </a: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Si el trabajo no coincide con los tiempos y recursos asignados, debe recortarse la tarea, o aumentarse los tiempos y/o recursos asigna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Sin embargo,…. Cita clásic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001880" indent="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i se incorpora más gente a un proyecto que ya está atrasado, éste se atrasará aún más” (Brooks, 197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Es necesario ir </a:t>
            </a:r>
            <a:r>
              <a:rPr b="1" lang="es-ES_tradnl" sz="2400" spc="-1" strike="noStrike" u="sng">
                <a:solidFill>
                  <a:srgbClr val="40458c"/>
                </a:solidFill>
                <a:uFillTx/>
                <a:latin typeface="Arial"/>
              </a:rPr>
              <a:t>comparando las estimaciones </a:t>
            </a: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iniciales, con las reales, tan pronto como se pue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6400" indent="-5364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Hay que </a:t>
            </a:r>
            <a:r>
              <a:rPr b="1" lang="es-ES_tradnl" sz="2400" spc="-1" strike="noStrike" u="sng">
                <a:solidFill>
                  <a:srgbClr val="40458c"/>
                </a:solidFill>
                <a:uFillTx/>
                <a:latin typeface="Arial"/>
              </a:rPr>
              <a:t>reaccionar rápido</a:t>
            </a: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 ante los riesgos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ncipios Básicos de la Adm. de Proyec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ualquier comandante que acepta llevar a cabo un plan que él considera defectuoso es culpable; él debe exponer sus razones, e insistir en los cambios necesarios y finalmente ofrecer su dimisión antes de ser el instrumento de la derrota de su ejército”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                               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Napole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Si no estamo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convencidos con el plan,.... no podremos administrar nad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administración (o gestión) requiere: </a:t>
            </a:r>
            <a:r>
              <a:rPr b="0" i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planificación</a:t>
            </a:r>
            <a:r>
              <a:rPr b="0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 y </a:t>
            </a:r>
            <a:r>
              <a:rPr b="0" i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control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1" i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planific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del proyecto consiste en distribuir la estimación del esfuerzo a lo largo del proyecto asigna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incipios Básicos de la Adm. de Proyect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93360" y="1628640"/>
            <a:ext cx="81262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151"/>
              </a:spcBef>
              <a:spcAft>
                <a:spcPts val="1151"/>
              </a:spcAft>
              <a:buSzPct val="15747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0" i="1" lang="es-ES" sz="2300" spc="-1" strike="noStrike">
                <a:solidFill>
                  <a:srgbClr val="40458c"/>
                </a:solidFill>
                <a:latin typeface="Arial"/>
              </a:rPr>
              <a:t>planificación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consiste en establecer los </a:t>
            </a:r>
            <a:r>
              <a:rPr b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hitos, actividades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, y </a:t>
            </a:r>
            <a:r>
              <a:rPr b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recursos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necesarios para lograr una meta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151"/>
              </a:spcBef>
              <a:spcAft>
                <a:spcPts val="1151"/>
              </a:spcAft>
              <a:buSzPct val="15747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0" i="1" lang="es-ES" sz="2300" spc="-1" strike="noStrike">
                <a:solidFill>
                  <a:srgbClr val="40458c"/>
                </a:solidFill>
                <a:latin typeface="Arial"/>
              </a:rPr>
              <a:t>planificación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involucra también las </a:t>
            </a:r>
            <a:r>
              <a:rPr b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actividades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para </a:t>
            </a:r>
            <a:r>
              <a:rPr b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chequear el avance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del proyect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151"/>
              </a:spcBef>
              <a:spcAft>
                <a:spcPts val="1151"/>
              </a:spcAft>
              <a:buSzPct val="15747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0" i="1" lang="es-ES" sz="2300" spc="-1" strike="noStrike">
                <a:solidFill>
                  <a:srgbClr val="40458c"/>
                </a:solidFill>
                <a:latin typeface="Arial"/>
              </a:rPr>
              <a:t>planificación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del proyecto involucra también el </a:t>
            </a:r>
            <a:r>
              <a:rPr b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redefinir la planificación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sobre la marcha, aportando medidas para palear los desfasajes respecto a la planificación inicial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151"/>
              </a:spcBef>
              <a:spcAft>
                <a:spcPts val="1151"/>
              </a:spcAft>
              <a:buSzPct val="15747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El </a:t>
            </a:r>
            <a:r>
              <a:rPr b="1" i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control (o seguimiento)</a:t>
            </a:r>
            <a:r>
              <a:rPr b="0" lang="es-ES" sz="2300" spc="-1" strike="noStrike">
                <a:solidFill>
                  <a:srgbClr val="40458c"/>
                </a:solidFill>
                <a:latin typeface="Arial"/>
              </a:rPr>
              <a:t> del proyecto consiste en ejecutar las actividades de revisión previstas en la etapa de planificación, y comparar los resultados contra lo planificad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151"/>
              </a:spcBef>
              <a:spcAft>
                <a:spcPts val="11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300" spc="-1" strike="noStrike">
                <a:solidFill>
                  <a:srgbClr val="40458c"/>
                </a:solidFill>
                <a:latin typeface="Arial"/>
              </a:rPr>
              <a:t>Para hacer esto hay que seguir una serie de </a:t>
            </a:r>
            <a:r>
              <a:rPr b="1" i="1" lang="es-ES" sz="2300" spc="-1" strike="noStrike" u="sng">
                <a:solidFill>
                  <a:srgbClr val="40458c"/>
                </a:solidFill>
                <a:uFillTx/>
                <a:latin typeface="Arial"/>
              </a:rPr>
              <a:t>Principios Básicos</a:t>
            </a:r>
            <a:r>
              <a:rPr b="0" i="1" lang="es-ES" sz="2300" spc="-1" strike="noStrike">
                <a:solidFill>
                  <a:srgbClr val="40458c"/>
                </a:solidFill>
                <a:latin typeface="Arial"/>
              </a:rPr>
              <a:t>..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ncipios Básicos de la Adm. de Proyect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Segmentación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- el proyecto debe ser separado en un número manejable de actividades y tare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Interdependencia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– la planificación debe reflejar la segmentación de tareas, y la relaciones entre ellas. Algunas tareas ocurren en secuencia, otras en paralelo, algunas son requisito de otras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Asignación de recursos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- a cada tarea se le debe asignar un cierto número de recurso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Tiemp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Gent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Recursos tecnológicos y físic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Fechas de inicio y términ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ncipios Básicos de la Adm. de Proyect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81920" cy="49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Validación del esfuerzo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– se debe verificar qu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a gente afectada a una tarea esté disponibl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a cantidad no esté sobredimensionad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Sea suficient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Definición de responsabilidades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- cada tarea debe tener un responsa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Salida definida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- cada tarea debe tener una salida o producto bien definido. Por ejemplo: diseño de un módulo, plan de pruebas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Definición de metas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- cada grupo de tareas debe estar asociado con una me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lanificación de Tare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126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751"/>
              </a:spcBef>
              <a:spcAft>
                <a:spcPts val="9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Se pueden usar cosas como PERT o CP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51"/>
              </a:spcBef>
              <a:spcAft>
                <a:spcPts val="9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Cualquiera de estos métodos provee mecanismos par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lnSpc>
                <a:spcPct val="90000"/>
              </a:lnSpc>
              <a:spcBef>
                <a:spcPts val="624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determinar la </a:t>
            </a:r>
            <a:r>
              <a:rPr b="0" lang="es-ES" sz="2000" spc="-1" strike="noStrike" u="sng">
                <a:solidFill>
                  <a:srgbClr val="40458c"/>
                </a:solidFill>
                <a:uFillTx/>
                <a:latin typeface="Arial"/>
              </a:rPr>
              <a:t>ruta crítica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 (secuencia de tareas que define la duración del proyecto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lnSpc>
                <a:spcPct val="90000"/>
              </a:lnSpc>
              <a:spcBef>
                <a:spcPts val="624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establecer </a:t>
            </a:r>
            <a:r>
              <a:rPr b="0" lang="es-ES" sz="2000" spc="-1" strike="noStrike" u="sng">
                <a:solidFill>
                  <a:srgbClr val="40458c"/>
                </a:solidFill>
                <a:uFillTx/>
                <a:latin typeface="Arial"/>
              </a:rPr>
              <a:t>estimaciones probables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 para tareas individua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lnSpc>
                <a:spcPct val="90000"/>
              </a:lnSpc>
              <a:spcBef>
                <a:spcPts val="624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calcular </a:t>
            </a:r>
            <a:r>
              <a:rPr b="0" lang="es-ES" sz="2000" spc="-1" strike="noStrike" u="sng">
                <a:solidFill>
                  <a:srgbClr val="40458c"/>
                </a:solidFill>
                <a:uFillTx/>
                <a:latin typeface="Arial"/>
              </a:rPr>
              <a:t>tiempos límites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 que definen ventanas de tiempo para las distintas actividad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04920" indent="-228600">
              <a:lnSpc>
                <a:spcPct val="90000"/>
              </a:lnSpc>
              <a:spcBef>
                <a:spcPts val="561"/>
              </a:spcBef>
              <a:spcAft>
                <a:spcPts val="675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Arial"/>
              </a:rPr>
              <a:t>lo más temprano que una actividad puede empezar si todas las precedentes se completan en el mínimo tiemp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204920" indent="-228600">
              <a:lnSpc>
                <a:spcPct val="90000"/>
              </a:lnSpc>
              <a:spcBef>
                <a:spcPts val="561"/>
              </a:spcBef>
              <a:spcAft>
                <a:spcPts val="675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Arial"/>
              </a:rPr>
              <a:t>lo más tarde que puede comenzar una tarea sin aumentar el tiempo mínimo del proyect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lnSpc>
                <a:spcPct val="90000"/>
              </a:lnSpc>
              <a:spcBef>
                <a:spcPts val="624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existen herramientas de software para ell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lanificación de Tare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66680" y="1752480"/>
          <a:ext cx="6172200" cy="47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2480"/>
                    <a:ext cx="6172200" cy="47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trol de Tare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41144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Hay que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Tahoma"/>
              </a:rPr>
              <a:t>contrastar la realidad contra lo planificado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, ... y generar planes de contingencia, en caso de ser neces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Hay que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Tahoma"/>
              </a:rPr>
              <a:t>monitorear (controlar)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todo, así me aseguraré de tener “las riendas el proyecto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Tahoma"/>
              </a:rPr>
              <a:t>Monitorear es un medio.... No un fin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62120" y="1676520"/>
          <a:ext cx="7924680" cy="2288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1676520"/>
                    <a:ext cx="7924680" cy="22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04:54:06Z</dcterms:created>
  <dc:creator>Sergio Ochoa</dc:creator>
  <dc:description/>
  <dc:language>en-US</dc:language>
  <cp:lastModifiedBy>Sergio F. Ochoa</cp:lastModifiedBy>
  <cp:lastPrinted>1999-10-28T19:03:53Z</cp:lastPrinted>
  <dcterms:modified xsi:type="dcterms:W3CDTF">2006-08-17T12:32:50Z</dcterms:modified>
  <cp:revision>110</cp:revision>
  <dc:subject/>
  <dc:title>CC51A</dc:title>
</cp:coreProperties>
</file>