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947-AB3C-45C3-A905-1B7C6EE0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32F-ACCF-46CC-BAA2-6D6E06F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B30-587A-40A2-90FD-61A2DC15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D89-03D8-41CF-9365-C97CEC0A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41A-B732-46D7-96B8-C805B5F0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0FD-5B95-40BD-AAFB-F84817B6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F180-6655-4CA0-96F8-1B59463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58C5-A902-45C4-A1E1-172A4BB9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4092-2968-407F-B15B-1A0AF36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2B4A-1931-44E1-9B98-8C5E610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1C5-648B-4D1A-8FB8-F312B1F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4F5-9E26-4986-8230-4C30224C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CF3F-0D53-4E0F-9270-0BAA03D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113-10E6-40E7-B888-DE40642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4EB-E625-476A-8299-9A062383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3EB-3189-4673-A18D-20A48BC1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7CC9-E3CE-4D37-942D-4F91C4CE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ECB-6FEA-4C99-9333-B938C95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9B3-5499-44AF-AB0F-E6690EC6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9A6-2AD3-4BC0-9FEC-4D0A03AC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965-90C6-4496-B88D-AF2D9DB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C2F-8F4C-409D-A586-2572582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4D6-2F29-4913-A1D6-C6ADD8C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4FE-1B43-456A-AF60-FFC19D5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2274-B6CB-433E-8BE9-FDB5CBD1B6D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72C-0FFC-4510-B317-7FAF83CA73B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061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cosas al cliente/usuari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6-08-17T12:32:50Z</dcterms:modified>
  <cp:revision>110</cp:revision>
  <dc:subject/>
  <dc:title>CC51A</dc:title>
</cp:coreProperties>
</file>