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FB9-5A0D-4A55-BB9D-D413C0A3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D3E-BB28-4CFA-AFA4-2D510FAB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9171-1F81-4C14-99DA-A12DDE94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AE17-36EB-48B2-BC5F-2A767E2A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C247-7EAA-4FC7-BAB0-20C2024B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24ED-1EFC-4EC1-AB5F-63330F50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E6C2-B754-45C5-9602-B1BBB939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3FA7-C23B-45D2-9CFC-EF34F52E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F1C8-1D52-4D5D-8028-C03BDA1C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F089-4BF6-432E-A67D-B227EC1B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462C-B7D4-4CB1-8856-DF7B0CE5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3B64-5B50-4EED-B2FD-00D6069E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8BD6-734E-4A90-9BF0-CD97C1D9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1D3E-E545-479E-88B8-7A6BA827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EB25-B687-4AFD-A717-B324B69C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FABE-0BCD-41D0-B088-FDB4AA37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6D9D-8A2E-415D-956E-102A1DC6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479-F4C4-41AE-AE54-0DFF1EFA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2FEC-E461-4430-96D5-8D329590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11A-2312-4773-99CE-B4BE7678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5C2-AA6C-469E-BBA5-2E02408E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483B-F209-432D-92BB-F88EEF78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3699-202C-41AC-A499-4D2C6DE6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2CA2-E8DE-4EA9-9827-F56726B9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DF22-2014-4F23-8865-F13B980BB372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F054-0BB3-4672-A603-CB0491E1D2F5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Tahoma"/>
              </a:rPr>
              <a:t>Introducción a la Gestión de Proyecto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, PhD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(www.ing.puc.cl/~jnavo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, Parte b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Formas de monitore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In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Llevar a cabo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reuniones periódica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en las cuales los participantes informan del estado de las tareas, el progreso o los problemas encontrado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Determinar si las metas están siendo cumplidas de acuerdo a lo programado, usando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checkpoint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Comparar los recurso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planeados contra los realmente gastados, para las distintas tareas. Emitir alertas en caso de ser necesario (por ej. Para disparar un plan de contingencia)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43000" y="1828800"/>
          <a:ext cx="73915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3915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231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Al detectar problemas con la planific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ignar más recurs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al área afect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adecuar el personal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n gener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Cambiar la progra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 tareas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sar técnicas de “time-box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Básicamente, es una estrategia de tipo incremen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 define la entrega del primer incremento, y luego se reajustan todas las tareas de acuerdo a este incre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Al llegar al límite de tiempo de una tarea para ese incremento, esa tarea se detiene y comienza la sigui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Aunque una tarea no esté completa, muchas veces es posible postergar la última parte para el siguiente incre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áximas....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78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mayoría de las veces el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administrador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del proyecto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arca la diferenci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entre el éxito o el fracaso de un proyecto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gestión es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tan importante como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la parte técnica....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... es difícil encontrar un buen administrador de proyecto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administración de proyectos es una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disciplina que se debe aprender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....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 un equipo de trabajo, el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adm. de proyectos es quien peor la pas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¿Cómo Mejorar la Adm. de Proyectos de Software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6880" y="1628640"/>
            <a:ext cx="80614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Requiere saber ¿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dónde estamos ho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?. Con exactitud 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quiere revisar/rediseñ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proceso de administración de proyectos actua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ingeniería de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planificación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seguimiento y control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aseguramiento de la ca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administración de la configur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91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expansión de los sistema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 en tamaño, complejidad, distribución e importancia empuja los límites de lo que hasta la fecha sabíamos desarroll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ratar de avanzar más allá de los sistemas legados, hacia tecnologías más modernas, trae su propio conjunto d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oblemas técnic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organizacionale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imprevist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nunca faltan…(rotación de personal, apuro por razones de mercado, etc.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administración de proyectos de software se hac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ada vez más difícil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9261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ompetencia obliga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a las empresas de desarrollo 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mejorar su productividad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manteniendo o mejorando 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alidad de sus product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realizando además desarrollos más rápidos y económ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icionalmente, 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velocidad de preparación de personal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desarrollo calificado, es menor que la requerid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emás, actualmente el personal requier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ompetencias adicionale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a las tradicionales (por ej. diseño gráfico, diseño de procesos de negocio, etc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trucción y mantención de software es un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tarea difí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y será aún más difíc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Construir software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 una cierta calidad,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en forma repetibl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es una tarea aún más difíc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do esto se refleja en la Administración de Proyectos.... Este es el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por qué?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as máximas antes menciona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os Síntomas Comune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135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Imprecisión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en el entendimiento de las necesidades del usuario final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Nadie sabe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exactamente cuál es el estado de avance del proyect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Falta de habilidad/resistencia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para manejar requisitos cambia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Módulos que no calza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Evitamos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mostrarle cosas al cliente/usuari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Software que es difícil de mantener o extender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lgunos Síntomas Comunes (cont...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Descubrimiento tardí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fallas seri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No sabemos cómo manejar 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oblemas ajen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como el Y2K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embros del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equipo en muchas cosa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o ausentes, haciendo imposible reconstruir historia de camb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Falta (o problemas) de comunicación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entre los miembros del equip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tiempos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nos están asfixiando …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1752480"/>
            <a:ext cx="74674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ncipios Básic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anificación de Proyec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ministración de Proyec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las Noticia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íntomas Comu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iciencias Comu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ciencias Comu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Administraci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requisit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d-ho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planifica, pero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no se replanif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omunicación ambigua e imprecis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ntro y fuera del equip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sponsabilidades y role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fus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rquitectura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escabrosas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Complejidad y/o tamañ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 los proyectos es muy grande. Falta de segmentación del probl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Inconsistencias no detectada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 requisitos, diseño e impleme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trol in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ciencias Comu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55736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steo insufic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Evaluación subjetiv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l estado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Incapacida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s miembros par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trabajar en grup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Falla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ara analizar y atacar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los riesg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Propagació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cambios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no controlad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utomatización insuficiente o falta de herramient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as Práctica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000" y="1630080"/>
            <a:ext cx="813564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 construir buen software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no basta con ser buen programado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 ello, hay que conocer, planificar y controlar las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actividades y recursos asignados a un proyect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iste una nueva </a:t>
            </a:r>
            <a:r>
              <a:rPr b="1" i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ola en ingeniería de softwar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, basada en dichos principios, que permite visualizar el futuro en forma más optimis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3055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provee un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definición de cada macro-tarea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, junto con estimaciones de tiempos y recursos requer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provee además un marco de referencia par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monitoreo y control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de est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del proyecto se desarrolla al comienzo pero es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continuamente refinada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a medida que el trabajo progre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alvo raras excepciones, los recursos y tiempos estimados inicialmente, difícilmente son alcanz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64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Hay que controlar (monitorear) todo... pero el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monitoreo es un medio, no un fin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Si el trabajo no coincide con los tiempos y recursos asignados, debe recortarse la tarea, o aumentarse los tiempos y/o recursos asign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n embargo,…. Cita clásic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1880"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 se incorpora más gente a un proyecto que ya está atrasado, éste se atrasará aún más” (Brooks, 197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Es necesario ir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comparando las estimaciones 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iniciales, con las reales, tan pronto como se pue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Hay que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reaccionar rápido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 ante los riesg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alquier comandante que acepta llevar a cabo un plan que él considera defectuoso es culpable; él debe exponer sus razones, e insistir en los cambios necesarios y finalmente ofrecer su dimisión antes de ser el instrumento de la derrota de su ejército”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Napole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Si no estam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convencidos con el plan,.... no podremos administrar nad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administración (o gestión) requiere: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 y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control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1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l proyecto consiste en distribuir la estimación del esfuerzo a lo largo del proyecto asign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93360" y="1628640"/>
            <a:ext cx="8126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consiste en establecer los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hitos, actividade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, y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recurso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necesarios para lograr una met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involucra también las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actividade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para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chequear el avance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 involucra también el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redefinir la 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sobre la marcha, aportando medidas para palear los desfasajes respecto a la planificación inicial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El </a:t>
            </a:r>
            <a:r>
              <a:rPr b="1" i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control (o seguimiento)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 consiste en ejecutar las actividades de revisión previstas en la etapa de planificación, y comparar los resultados contra lo planificad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ara hacer esto hay que seguir una serie de </a:t>
            </a:r>
            <a:r>
              <a:rPr b="1" i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Principios Básicos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egmentación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el proyecto debe ser separado en un número manejable de actividades y tare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Interdependenci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– la planificación debe reflejar la segmentación de tareas, y la relaciones entre ellas. Algunas tareas ocurren en secuencia, otras en paralelo, algunas son requisito de otr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Asignación de recurso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a cada tarea se le debe asignar un cierto número de recurs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Tiemp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Ge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Recursos tecnológicos y físic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Fechas de inicio y térmi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8192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Validación del esfuerzo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– se debe verificar qu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gente afectada a una tarea esté disponibl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cantidad no esté sobredimensionad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a sufici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responsabilidade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tarea debe tener un respons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alida definid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tarea debe tener una salida o producto bien definido. Por ejemplo: diseño de un módulo, plan de prueb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meta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grupo de tareas debe estar asociado con una me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nificación de T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126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e pueden usar cosas como PERT o CP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Cualquiera de estos métodos provee mecanismos pa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determinar la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ruta crítica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(secuencia de tareas que define la duración del proyecto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establecer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estimaciones probables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para tareas individu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alcular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tiempos límites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que definen ventanas de tiempo para las distintas actividad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lnSpc>
                <a:spcPct val="90000"/>
              </a:lnSpc>
              <a:spcBef>
                <a:spcPts val="561"/>
              </a:spcBef>
              <a:spcAft>
                <a:spcPts val="675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lo más temprano que una actividad puede empezar si todas las precedentes se completan en el mínimo tiemp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lnSpc>
                <a:spcPct val="90000"/>
              </a:lnSpc>
              <a:spcBef>
                <a:spcPts val="561"/>
              </a:spcBef>
              <a:spcAft>
                <a:spcPts val="675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lo más tarde que puede comenzar una tarea sin aumentar el tiempo mínimo del proyect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existen herramientas de software para ell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lanificación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66680" y="1752480"/>
          <a:ext cx="6172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6172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4114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ay que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contrastar la realidad contra lo planificado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, ... y generar planes de contingencia, en caso de ser neces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ay que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monitorear (controlar)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todo, así me aseguraré de tener “las riendas el proyecto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Monitorear es un medio.... No un fi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676520"/>
          <a:ext cx="7924680" cy="228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1676520"/>
                    <a:ext cx="7924680" cy="22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4:54:06Z</dcterms:created>
  <dc:creator>Sergio Ochoa</dc:creator>
  <dc:description/>
  <dc:language>en-US</dc:language>
  <cp:lastModifiedBy>Sergio F. Ochoa</cp:lastModifiedBy>
  <cp:lastPrinted>1999-10-28T19:03:53Z</cp:lastPrinted>
  <dcterms:modified xsi:type="dcterms:W3CDTF">2006-08-17T12:32:50Z</dcterms:modified>
  <cp:revision>110</cp:revision>
  <dc:subject/>
  <dc:title>CC51A</dc:title>
</cp:coreProperties>
</file>