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BFB-74B8-46D3-A6D7-B7CFEEE9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86F-9F92-481C-803D-A34B6476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0C2-F38F-4922-9FFE-39827A2C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08C-6297-4492-BB23-65059192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7A99-0AD1-4EED-BEE5-47A36FB1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221E-433C-4E33-9649-580FFE47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655B-E569-405E-B09F-5CB14184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DC39-027B-4889-B4C1-2D4D3267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F45E-91A7-44DA-AFAE-49A95D68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C3E7-4A21-44A8-8EB2-3315B169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7BFF-F94D-465D-BF09-EB780973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150-9F51-47B5-BAFA-1BA8817B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1639-6EBA-43BB-AE99-F710A6F9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2EDD-7FB1-4B19-B53F-554DB86B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0877-BF67-4B2A-948D-BDF42201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FF16-8EA6-46C3-98F3-2CF12747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58B4-E4B8-456E-8BF2-69E3714B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175-1EEC-40E0-8DF1-25640563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0651-C1D0-4A00-88D2-C9936EE8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628-ACBA-4771-BEDA-3D0A979E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B66-1119-4545-B891-57F33B80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3228-F41F-4F9D-84F9-FC3866EC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F52-38D2-44F2-8B98-0F60B462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6B1-527B-4573-96C7-5AA49437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787B-E64F-4109-B097-7E5D5115291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170F-ED06-497D-AE3B-62A5E39441C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Tahoma"/>
              </a:rPr>
              <a:t>Introducción a la 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, Parte b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Formas de monitore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In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Llevar a cab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reuniones periódica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en las cuales los participantes informan del estado de las tareas, el progreso o los problemas encontrado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Determinar si las metas están siendo cumplidas de acuerdo a lo programado, usand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heckpoint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omparar los recurso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planeados contra los realmente gastados, para las distintas tareas. Emitir alertas en caso de ser necesario (por ej. Para disparar un plan de contingencia)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231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l detectar problemas con la planific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ignar más recurs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al área afect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adecuar el personal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n gener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ambiar la progra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 tareas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sar técnicas de “time-box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Básicamente, es una estrategia de tip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l llegar al límite de tiempo de una tarea para ese incremento, esa tarea se detiene y comienza la sigu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unque una tarea no esté completa, muchas veces es posible postergar la última parte para el siguien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áximas....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78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mayoría de las veces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inistrado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del proyecto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arca la diferenci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entre el éxito o el fracaso de un proyecto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estión es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tan importante como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la parte técnica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 es difícil encontrar un buen administrador de proyec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administración de proyectos es una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disciplina que se debe aprende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 un equipo de trabajo,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. de proyectos es quien peor la pas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¿Cómo Mejorar la Adm. de Proyectos de Software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6880" y="1628640"/>
            <a:ext cx="80614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Requiere saber ¿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ónde estamos ho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?. Con exactitud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ere revisar/rediseñ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proceso de administración de proyectos actu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ingeniería de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planificación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seguimiento y control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aseguramiento de la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administración de la configu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xpansión de los sistem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 en tamaño, complejidad, distribución e importancia empuja los límites de lo que hasta la fecha sabíamos desarroll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ratar de avanzar más allá de los sistemas legados, hacia tecnologías más modernas, trae su propio conjunto d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técnic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organiza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imprevis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nunca faltan…(rotación de personal, apuro por razones de mercado, etc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administración de proyectos de software se hac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da vez más difíci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26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 obliga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empresas de desarrollo 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mejorar su productividad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manteniendo o mejorando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lidad de sus produc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realizando además desarrollos más rápidos y económ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icionalmente,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velocidad de preparación de persona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desarrollo calificado, es menor que la requerid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emás, actualmente el personal requier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s adi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tradicionales (por ej. diseño gráfico, diseño de procesos de negocio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trucción y mantención de software es un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area difí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y será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Construir software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 una cierta calidad,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n forma repetib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es una tarea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 esto se refleja en la Administración de Proyectos.... Este es el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por qué?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as máximas antes mencion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os Síntomas Comune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135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Imprecisión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n el entendimiento de las necesidades del usuario final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Nadie sabe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xactamente cuál es el estado de avance del proyect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Falta de habilidad/resistencia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para manejar requisitos cambia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Módulos que no calza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Evitamos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mostrarle cosas al cliente/usuari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Software que es difícil de mantener o extende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lgunos Síntomas Comunes (cont..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escubrimiento tardí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fallas seri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 sabemos cómo manejar 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ajen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como el Y2K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embros del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quipo en muchas cos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o ausentes, haciendo imposible reconstruir historia de camb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Falta (o problemas) de comunic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entre los miembros del equi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tiempos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s están asfixiando …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1752480"/>
            <a:ext cx="7467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Administraci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requisit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-ho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planifica, per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no se replanif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municación ambigua e im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ntro y fuera d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sponsabilidades y rol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fus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rquitectura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escabros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Complejidad y/o tamañ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 los proyectos es muy grande. Falta de segmentación del probl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consistencias no detectad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requisitos, diseño e imple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ol in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eo insufic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valuación subjetiv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l estad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Incapac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s miembros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rabajar en grup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Falla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ara analizar y ataca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los riesg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Propaga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cambio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no controlad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zación insuficiente o falta de herramient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as Práctica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000" y="1630080"/>
            <a:ext cx="813564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construir buen software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no basta con ser buen programado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ello, hay que conocer, planificar y controlar las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actividades y recursos asignados a un proyect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iste una nueva 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ola en ingeniería de softwar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basada en dichos principios, que permite visualizar el futuro en forma más optimis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un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definición de cada macro-tare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, junto con estimaciones de tiempos y recursos requer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además un marco de referencia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monitoreo y control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 es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l proyecto se desarrolla al comienzo pero e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continuamente refinad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a medida que el trabajo prog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6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controlar (monitorear) todo... pero el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monitoreo es un medio, no un fin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n embargo,…. Cita clásic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188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Es necesario ir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comparando las estimaciones 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iniciales, con las reales, tan pronto como se pue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reaccionar rápido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 ante los riesg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Napole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Si no estam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convencidos con el plan,.... no podremos administrar nad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administración (o gestión) requiere: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 y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ontrol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3360" y="1628640"/>
            <a:ext cx="8126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consiste en establecer lo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hitos, 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, y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curso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necesarios para lograr una met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involucra también la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para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hequear el avance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involucra también el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definir la 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sobre la marcha, aportando medidas para palear los desfasajes respecto a la planificación inicial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ontrol (o seguimiento)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ara hacer esto hay que seguir una serie de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Principios Básicos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gmentación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el proyecto debe ser separado en un número manejable de actividades y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Interdependenci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signación de recurso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a cada tarea se le debe asignar un cierto número de recurs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G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ursos tecnológicos y físic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Fechas de inicio y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819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Validación del esfuerz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se debe verificar qu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gente afectada a una tarea esté disponibl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cantidad no esté sobredimensionad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a sufic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responsabilidade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alida definid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meta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grupo de tareas debe estar asociado con una me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ificación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126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 pueden usar cosas como PERT o CP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Cualquiera de estos métodos provee mecanismos pa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determinar la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ruta crítica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(secuencia de tareas que define la duración del proyect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stablece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estimaciones probabl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para tareas individu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lcula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tiempos límit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que definen ventanas de tiempo para las distint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xisten herramientas de software para e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lanificación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contrastar la realidad contra lo planificado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, ... y generar planes de contingencia,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monitorear (controlar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odo, así me aseguraré de tener “las riendas el proyecto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Monitorear es un medio.... No un fi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1999-10-28T19:03:53Z</cp:lastPrinted>
  <dcterms:modified xsi:type="dcterms:W3CDTF">2006-08-17T12:32:50Z</dcterms:modified>
  <cp:revision>110</cp:revision>
  <dc:subject/>
  <dc:title>CC51A</dc:title>
</cp:coreProperties>
</file>