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524-A02D-4DD4-9190-32F5357B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2CC-8D6D-403D-AAF5-1C4247CF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0AC-3E84-4AE3-BDAD-F5CC4A705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BFE-4E69-4DEE-975A-CFD8C44B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5A0E-8E45-47F8-BCE0-ABEBCD75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0844-42C9-4672-BBBA-508A8036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FA80-64B1-4B89-B6D0-A2F067D1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D475-FF69-44DE-A2D4-EBDF8D75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AD6FD-7063-480A-884F-C6131BD3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719E-C8E8-4D2B-A439-00815578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489F-DE89-4A11-BBC1-C1B2A306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629-D3B9-4201-94C9-3726B67D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A6E4-60FE-4E6F-B581-F45661E2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55A5-02B4-42BF-963B-D6811F9C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0651-3FDF-4324-A680-6757F6F1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9914-9286-4126-9226-AC6DB1B1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C068-9A73-47D7-ADDF-5108B281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FAD-75C6-412D-9687-2061F64C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39C-FBD9-4D98-B7FD-1838C0AC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481-7356-4093-8634-F6416D3E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9D6-9B37-4115-8DE1-29BE4A6A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AE2-0D74-4115-B9C3-54AD797E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539-C0B1-4EAD-AB7A-803BDA53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7AB-0644-41A7-861E-962A5507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9067-FFBA-48BD-A123-3F92F92B2B58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61D4-16A2-4690-BDFF-E7A32F8ED72D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3124080"/>
            <a:ext cx="7035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Revisión del Capítulo 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Y Coordinación de Proyecto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06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8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5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5200" indent="-565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es son los problemas de la  Ingeniería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65200" indent="-565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se podría atacarl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42520" indent="-5425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n los modelos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Para qué sirven..?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42520" indent="-5425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ómo elegir el modelo de desarrollo de software para mi empr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establece el estándar de la ES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ndo usted aplicaría un estándar de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Qué limitaciones tienen los estánda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53680" indent="-5536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¿Cuál es el mejor estánd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21:16:43Z</dcterms:created>
  <dc:creator>Mercedario</dc:creator>
  <dc:description/>
  <dc:language>en-US</dc:language>
  <cp:lastModifiedBy>adminsochoa</cp:lastModifiedBy>
  <dcterms:modified xsi:type="dcterms:W3CDTF">2004-08-19T13:09:39Z</dcterms:modified>
  <cp:revision>13</cp:revision>
  <dc:subject/>
  <dc:title>CC51A – Ingeniería de Software</dc:title>
</cp:coreProperties>
</file>