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FF5-592B-423C-867B-A4D19074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32C-CC14-42F9-A39F-2B78876B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B8A-4009-491D-83E2-72C73DB6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423-50FF-46FD-91BC-22388B92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11E-1FFB-47D1-B962-13802B7F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ED20-D292-4E5E-843C-C136629C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1CA-B45B-4096-822E-C8EA3386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B3E-0652-491D-B67E-EEEE71BE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00A4-298A-4D31-9F86-598A159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DBE1-53D0-4DC0-8F88-07EAE9A2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DEF5-7711-4FD5-BBA6-05E6659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87C-27B0-4743-8847-5D73FE74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F25-5E58-4456-9790-350402D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4054-19AF-4640-8578-43CD86F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390-31E1-4AA6-8E12-01C17DE7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BD95-F914-4808-82A6-BFBD81AF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D4EA-73FB-4FBE-AD85-E48EEE61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860-6FA2-4316-B251-CFB100D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C2B-6F1F-4771-9EA4-30295E3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A35-90C3-4C24-BE09-F761E25E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0E2-73AA-4D3E-9C21-30A8F63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676-D528-421F-AE51-F946714F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A67-1359-4E54-9D13-7A2B405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5DE-807D-42A7-8251-054A8D2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C09B-FAF0-4BCB-BE2B-ABF696E107A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6F4-ED20-4C96-8785-75530FECFF0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D83-C5E0-4863-AE70-2964CCFE8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9A2-2D84-4C05-AA0D-C7E5943862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130-E600-4664-A308-AD3124F88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A570-C7F1-4305-BBFA-68355D8D9C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8D0-0D9A-415B-B45D-195FCB2513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62A-E9F1-4D15-9096-25BBD62677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5CF-9C0A-4822-A81A-F3B045A5B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158-5B57-41BA-B95C-DDC024E7B6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0F2-5DEC-4658-8CE5-E9B998FED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EF9-92BC-412E-863F-97CAE22029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23F-F76E-463C-9343-3E141EF0A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0AD-C067-45F3-AC49-4923A97AF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DD3-CA24-4633-A24D-D9D5983C5F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A7A-1B16-45AD-8084-0CEFEC733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64A-1B17-425F-BCE8-9D0CA35E27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AC-8D5B-41C9-A554-B98E6B470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, DDD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222-5093-41D5-A0C4-D465B69822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B6A-9B3A-4F6E-82AF-9CF150BACE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210-0061-4A18-ADF9-FBFD59437D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1E9-A290-4588-BE8E-8488B4752B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3AC-5BCB-4916-AD24-4772E35A8C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266-0C5F-449D-8DA7-98D2672EA5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D0E-D36F-4DCD-A67C-2A93E1971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402-372F-4EB9-A7EF-FD1D7C73F7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s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60F-B5F3-4CBB-9E97-5CEE135855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19F-0F61-41CA-919F-0668DA36822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AB2-1918-453A-8D9A-2B9919808E5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EB0-F8B8-4291-B15B-4D5B28EC731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287-CC42-4FE0-B641-50657667F8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62F-3A8A-43CA-9281-130CE88D6D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77C-2DD3-4C3A-850E-AC86122D2A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B0C-C3DA-400C-B0E0-63E8095DBC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16-03BF-40CF-A98A-5AA58F940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C55-9EBC-4D54-B3DA-977AC524C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DBB-F691-49D7-837E-8C30CAD8F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606-EA1C-4E1E-8E82-712CBBAEA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8C5-32CA-4546-98B1-B210F4BCA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EA3-E552-4F8D-8309-27126D4A4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6-08-10T12:35:12Z</dcterms:modified>
  <cp:revision>518</cp:revision>
  <dc:subject/>
  <dc:title>CC51A</dc:title>
</cp:coreProperties>
</file>