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63E6-5F2D-424E-A291-57AA4B5F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B505-20C0-42D7-B687-ADCCBA05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8CA5-8DA8-4A44-BC7A-DD0D86D1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40B1-0AD7-457D-994D-CF71D919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0619-28EE-4A08-8E60-B10CF9B7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FB11-DDB8-49B5-AB60-55BA505D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DB10-5317-4467-9F31-7CC2618B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67DF-9FA8-458B-8BFD-CCD4C663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1A87-66E4-41CF-A74F-5422F071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C83D-1E24-466F-AE1A-632C8034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9AEE-EC37-4816-996E-7F5AE723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BAD5-8BB0-4070-AF7F-F8DF3747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EE07-46EA-4193-BFBB-CC53FB6C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5AA4-9564-44F2-B243-B99C1E51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E015-4C95-49AD-80D9-75059D11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F451-B8EF-461F-A3B3-16451FEB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DE03-313C-48A2-ABAE-1BDA2226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235-73DB-4FA8-8586-5C4011DA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7038-7BE0-46B3-8053-F4F9251A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CF94-002E-4E8A-AB01-8EE66D48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091-36A1-469E-AE46-969BFF69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CE1B-7C7F-4F05-A753-37980AEE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3DDB-B913-43FF-B1F5-F23A69C4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903A-89ED-432C-877D-4D3806B7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D6CD-FDF9-4A9E-AA8C-A89DE176288F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165B-3B18-4456-B4EC-E8C4715C4AE8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El Estándar de Ingeniería de Software de la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“European Space Agency (ESA)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 - Versión 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34CC-B8C2-43F0-8967-7B4B34831D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Usuar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Fase d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finición del problem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presenta la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visión de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l cliente/usuari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y no necesariamente la del desarrollad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quisitos del usuari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ben ser “capturados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usa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ntrevista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ncuesta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demos d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rototip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se recolectan formul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debe generar un “Documento de Requisitos de Usuario”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(URD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debe hacer en forma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ápida y precis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UIDADO: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s fácil demorarse aquí innecesariam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772-8D2F-456F-94E3-283000BE2F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Usuar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630080"/>
            <a:ext cx="7981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El principal responsable del producto de esta fase es el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analista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El apoyo de los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desarrolladores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apunta al desarrollo de prototipos rápidos (para validar ideas o requisitos)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Siempre debe producirse u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URD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. La revisió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(UR/R)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es hecha por los usuarios/clientes, los ingenieros de software (de ambos bandos), el téster y el administrador del proyecto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Antes de completar la UR/R debe construirse u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Plan de Administración del Proyecto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de Software que muestre todas las fases siguientes, con estimación de recursos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7F63-97C4-45E3-9583-6853A3A216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56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908000" y="3213000"/>
            <a:ext cx="5496120" cy="25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3725-B8CC-4216-8667-E2EF713763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Fase de análisis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incipal responsable del producto de esta fase es 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nalist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especific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lo que debe hacer el software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(para cumplir con los UR), y no cómo debe hacer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presenta l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visión del desarrollad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no necesariamente la del cliente/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 necesario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resentar prototip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al cliente/usuario para clarificar requisitos de software y completar requisitos de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51C3-787A-4203-9F79-5A5ACB9A9D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0920" y="163008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ntregable principal es el “Documento de Requisitos de Software” 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(SRD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ada proyecto de software debe tener este documen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ser revisado por los usuarios, los ingenieros de software, y por el administrador del proyecto, durante la “Revisión de Requisitos de Software” 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(SR/R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B962-05DA-4AE1-8BD8-B1094A67CB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n esta fase se debe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ar el Plan de Administración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l Proyecto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realizan los mejores esfuerzos para tener estimaciones co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rrores no mayores al 30%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construirse un plan detallado para la fase 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omitirse terminología de implement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5741-07C5-4C3A-944D-741ED2A112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6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620720" y="3121200"/>
            <a:ext cx="6336000" cy="354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9821-2484-4F5D-A5F8-20112E76A3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700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pósito es definir l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tructura del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 Los requisitos de software son un punto de parti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hace u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modelo general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la solución con sus macro-compon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le asigna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funcione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a los componentes de software 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define 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ontrol y flujo de dato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ntre 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233-6D7D-487C-A31D-A44F532C6B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a fase puede considera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varias iteracione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l diseñ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n ser identificadas las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ificultade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écnicas o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artes crític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l diseñ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uede ser necesario realizar prototipos del software par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onfirmar las suposicione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básicas del diseñ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904D-1013-4F82-AC56-A7BE4F7AAE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135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ítem entregable que constituye la salida formal de esta fase es el Documento de Diseño Arquitectónic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DD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ADD debe ser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formalmente revisa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or los ingenieros de software, por los usuarios, y por el administrador del proyecto, durante el proceso de Revisión del Diseño Arquitectónico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AD/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825"/>
              </a:spcBef>
              <a:spcAft>
                <a:spcPts val="1375"/>
              </a:spcAft>
              <a:buSzPct val="1132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55B2-2A7B-4567-B0A9-5AC21A7753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ción al Estánd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Fase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Actividades, 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Hitos establecidos por el Estánd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10F4-6893-4859-969E-193573168E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981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7200" indent="-4572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urante la fase AD, debe construirse u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lan de Administración de Proyecto de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que describa el resto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plan debe contener un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timación del esfuerzo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 desarrollo del proyecto, apuntando a un margen de error no mayor a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10%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ambién se debe produci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lanes detallad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para la fase D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42A4-194E-4A75-8ADD-8056EF24CD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eño Detallado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765440" y="3068640"/>
            <a:ext cx="6119640" cy="301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96F1-7BAF-404B-AD73-CB8A16160C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opósito de esta fase e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tallar el diseñ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software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odificarl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arl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estearl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n forma concurrente con la codificación y testeo, se produce el Documento de Diseño Detallad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DD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 y el Manual de Software de Usuari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SUM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nicialmente, el DDD y SUM contienen las secciones correspondientes a los niveles superiores del sistema. A medida que el diseño progresa a niveles más bajos (código), se añaden sub-secciones relacion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3AA2-042C-4082-A42D-087236A47B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l final de la fase, 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stán completos y, junto con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ódig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constituyen los ítems entregables de esta fa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urante esta fase, deben realizarse las actividades d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esteo unitari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 integrac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 sistem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acuerdo con los planes de verificación establecidos en las fases SR y AD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También deb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verificarse la calidad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864C-A4D3-4AA0-9ADB-08840E7C62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os 3 entregables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ódigo, DDD y SUM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stos deben ser revisados formalmente por los ingenieros de software y el administrador, durante el proceso de Revisión del Diseño Detallad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D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/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l final del proceso de revisión, el software puede considerarse como listo para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esteo de aceptación provision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2216-D29D-4152-9C73-986B6FA9BC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476360" y="3068640"/>
            <a:ext cx="6480360" cy="331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943D-5439-4147-A60A-B20A8D16BB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064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pósito de esta fase es establecer que 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oftware cumple con los requisitos de usuario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pecificados en el UR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o es hecho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instalando el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n la organización cliente y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alizando test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aceptación, con clientes/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i el software demuestra que provee las capacidades requeridas, entonces puede ser aceptado provisionalmente y con ello, puede empezar la oper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759E-BD95-4076-B847-9F16C738D34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urante la fase TR, debe producirse el Documento de Transferencia de Software (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TD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), que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ocumente el proceso de transferenci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l software al equipo de oper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CD5-BD62-4C7B-AD95-8E70017E73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9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ración y Manten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260360" y="3068640"/>
            <a:ext cx="6840720" cy="33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D916-3C06-42F5-9C71-2E598B69177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8001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Una vez que el software ha entrado en operación, debe se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monitoreado cuidadosament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para confirmar que cumple con los requisitos definidos en el UR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gunos requisitos, tales como los referentes 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isponibilidad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puede tomar algún tiempo validarl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Cuando el software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ha pasado todos los test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 aceptación, entonces recién puede ser finalmente acep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BA3B-4622-4F4E-8304-675C5BE2A9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633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stándar de la ESA presenta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rco gener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que puede ser utilizado para abordar un proyecto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stándar establece la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cro-actividades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que deben hacerse en el proyecto, 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ol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involucrados, y 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roductos intermedi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que deberían obtener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unque en este curso nosotros utilizaremos una adaptación del estándar, éste nos servirá como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rco de refer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muchas activ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6659640" y="2789280"/>
            <a:ext cx="2484360" cy="186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AAF0-4325-41EF-9C79-B0B1D096EB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01760" indent="-401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Documento de Historia del Proyecto (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HD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) resume la información administrativa de importancia, la cual se ha acumulado en el transcurso del proyect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documento debe ser generado después de la aceptación fi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se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-hecho al final del ciclo de vid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con información acumulada durante la fase OM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0246-DDA3-425E-B126-A64E6332CD9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Después de la aceptación final, el software puede ser modificado para corregir errores no detectados durante fases anteriores. A esto se le denomina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mantenimiento correctivo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También pueden aparecer nuevos requisitos que necesitas ser incorporados. A esto se le denomina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mantenimiento adaptativ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Durante todo el período de operación, se debe hacer un esfuerzo especial para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ntener la documentación al día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nformación sobr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fallas y caídas debe ser registrada 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para establecer datos para el establecimiento de métricas de calidad de software para proyectos siguient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B985-82DD-442B-AD5A-C397EE697FF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604800" y="1752480"/>
            <a:ext cx="791208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modelo de proceso a utilizar en el curso es un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aptación del modelo propuesto por la ES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adaptación apunta 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mplificar el modelo original, haciéndolo más aplicable 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yectos chico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alizar un desarrollo incremental del producto final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umentar el paralelismo entre las tareas que realizan lo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iembros del equipo de trabaj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continuación se muestra la dinámica del modelo d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ceso adaptad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82F4-D2C0-4203-9159-7C044DD77F9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3098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3403440"/>
            <a:ext cx="13716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nális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3403440"/>
            <a:ext cx="18288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Arial"/>
              </a:rPr>
              <a:t>Diseño / Implement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57800" y="3403440"/>
            <a:ext cx="76212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ransf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1480" y="2754360"/>
            <a:ext cx="106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020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954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831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640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449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639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452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6260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325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34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946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136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5945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754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18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3962520"/>
            <a:ext cx="17524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nális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3962520"/>
            <a:ext cx="28069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seño / Implement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88400" y="3962520"/>
            <a:ext cx="3934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Arial"/>
              </a:rPr>
              <a:t>Tr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33720" y="271764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C91-F963-490D-927C-FBE5D07AF2A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2592360"/>
            <a:ext cx="67053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2795760"/>
            <a:ext cx="14349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14880" y="2795760"/>
            <a:ext cx="17776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92560" y="2795760"/>
            <a:ext cx="7621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 (2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9200" y="2247840"/>
            <a:ext cx="142560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493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3052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117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926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116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0925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738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802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6112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420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610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4422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8231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296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89320" y="3951360"/>
            <a:ext cx="18032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92560" y="3951360"/>
            <a:ext cx="274320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835760" y="3951360"/>
            <a:ext cx="4064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22114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5360" y="17524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nalist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17720" y="3201840"/>
            <a:ext cx="393696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46320" y="320184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74920" y="32018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05120" y="320184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57680" y="320184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86280" y="32018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16120" y="320184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01920" y="4344840"/>
            <a:ext cx="492768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17920" y="4344840"/>
            <a:ext cx="2808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59120" y="4344840"/>
            <a:ext cx="28116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89320" y="4344840"/>
            <a:ext cx="2160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92640" y="4344840"/>
            <a:ext cx="444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49840" y="4344840"/>
            <a:ext cx="2808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13280" y="4344840"/>
            <a:ext cx="26676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79560" y="580536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92160" y="602136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879560" y="5589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92160" y="6249960"/>
            <a:ext cx="22860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20760" y="5487840"/>
            <a:ext cx="624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Recopilación de Inform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Especificación de Requisi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Validación de Requisitos (con el cliente y/o con los diseñadores / implementadore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Control de Cumplimiento de Requisi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637F-D1BC-4183-8266-861CDD44B4B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2666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7400" y="2870280"/>
            <a:ext cx="14349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67160" y="2870280"/>
            <a:ext cx="17780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45200" y="2870280"/>
            <a:ext cx="7617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 (2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71480" y="2322360"/>
            <a:ext cx="14256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020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954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767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831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640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449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639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452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260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325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134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946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136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945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9754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18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2360" y="4025880"/>
            <a:ext cx="17528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245200" y="4025880"/>
            <a:ext cx="27432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988400" y="4025880"/>
            <a:ext cx="4064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79560" y="2286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5120" y="182736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Diseño / Implement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70000" y="3276720"/>
            <a:ext cx="393696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73400" y="3276720"/>
            <a:ext cx="220968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5740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59400" y="4419720"/>
            <a:ext cx="382248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44800" y="6553080"/>
            <a:ext cx="22860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31200" y="4584600"/>
            <a:ext cx="838080" cy="84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57880" y="4419720"/>
            <a:ext cx="231120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32240" y="4584600"/>
            <a:ext cx="2298960" cy="856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031840" y="548640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44800" y="5702400"/>
            <a:ext cx="2286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31840" y="527040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44800" y="5931000"/>
            <a:ext cx="22860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19240" y="5168880"/>
            <a:ext cx="7086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reparación de Herramientas y Definición de Reglas de Funcionamien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Diseño del Prototip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mplementación del Prototip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ntrol de Cumplimiento del Diseñ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Diseño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mplementación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rrección y Ajuste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02000" y="3429000"/>
            <a:ext cx="27432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3429000"/>
            <a:ext cx="444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36840" y="31622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Dis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Impl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75120" y="431784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Dis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Impl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44800" y="6350040"/>
            <a:ext cx="228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44800" y="6146640"/>
            <a:ext cx="22860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B79E-30DC-436D-899C-1CEE332197F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895400" y="2666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95400" y="2870280"/>
            <a:ext cx="14353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305160" y="2870280"/>
            <a:ext cx="17780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83200" y="2870280"/>
            <a:ext cx="7621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2322360"/>
            <a:ext cx="14256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400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338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147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211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9020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29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023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832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640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705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2514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326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516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4325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8138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2202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30720" y="4025880"/>
            <a:ext cx="175248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83200" y="4025880"/>
            <a:ext cx="27432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26400" y="4025880"/>
            <a:ext cx="4064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71720" y="2286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0600" y="182736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99"/>
                </a:solidFill>
                <a:latin typeface="Arial"/>
              </a:rPr>
              <a:t>Administración / Testing (~ SQA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08000" y="3276720"/>
            <a:ext cx="393732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89540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59320" y="4419720"/>
            <a:ext cx="466092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82800" y="6324480"/>
            <a:ext cx="22860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369200" y="4584600"/>
            <a:ext cx="685800" cy="7488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30720" y="4584600"/>
            <a:ext cx="4038480" cy="7488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870200" y="548640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82800" y="61340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70200" y="527040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111400" y="5168880"/>
            <a:ext cx="7086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nteracción con el Client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Monitoreo, Redefinición y Coordinación de Tareas (Guiar el Barco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Entrega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lanificación de Controles, y Definición del Tipo de Revisión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ntrol de Productos y Emisión de Alerta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rueba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340000" y="3429000"/>
            <a:ext cx="27432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95400" y="3429000"/>
            <a:ext cx="444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374840" y="31622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Adm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est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797200" y="430524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Adm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est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870200" y="5931000"/>
            <a:ext cx="2286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055000" y="4419720"/>
            <a:ext cx="152280" cy="7596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1672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30720" y="4419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70200" y="5715000"/>
            <a:ext cx="228600" cy="7632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6AA8-2A42-4A5F-B2D9-F34ECE07522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clusiones 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estándar de la ESA propone un conjunto de actividades para atacar el “ciclo de vida” de un proyecto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ede ser adaptado a la realidad de una empresa específic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ede ser aplicado en forma parcial, según la naturaleza del problema a resolve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 simple, por lo tanto, con poca práctica se puede hacer un buen uso de é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os podría ayudar a certificar ISO 9000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F767-CC6F-4A1F-9713-FA0898A3687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Bibliografía y Cas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. Sommerville, P. Sawyer. Requirements Engineering, A Good Practice Guide.Wiley, 199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. Robertson, J. Robertson. Mastering the Requirements Process. Addison-Wesley, 199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SA, SOFTWARE ENGINEERING STANDARDS, ISSUE 2. Preparado por: ESA Board for Software Standardisation and Control (BSSC). URL: http://www.estec.esa.nl/wmwww/WME/index.htm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A195-FE40-4556-A098-8ACAE0F8507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Establece: Fases, Actividades e Hit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53179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iclo de vida del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se inicia cuando el producto de software se concibe, y termina cuando ya no está disponible para su uso (el producto es retirado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U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model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ciclo de vida defin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Fas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Objetiv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las fases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ctividad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que componen las fases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Hit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24360" y="4762440"/>
            <a:ext cx="3419640" cy="209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FBC9-B24A-466B-BD63-B1BBF54FB8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Fases en el Ciclo de Vida según la ES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UR: Definición de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Requisitos de Usuari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R: Definición de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Requisitos de Softwar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D: Definición del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Diseño Arquitectónic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D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Diseño Detalla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producción d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TR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TRansfer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software a oper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OM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Operación y Mantenimien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stos no son exactamente los pasos que nosotros vamos a seguir en 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1C0C-21B4-4A70-9A2F-A27DBC8E20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229600" cy="513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94C3-6A99-4345-92E0-C95209AA99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90680" y="1190520"/>
            <a:ext cx="8076960" cy="559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82C6-9DD5-4E1E-BB85-3F169EEE07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72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981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 algn="just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Tahoma"/>
              </a:rPr>
              <a:t>Hitos principales</a:t>
            </a: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 que establece el estándar de la  ES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 algn="just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Requisitos de Usuario (UR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Requisitos de Software (SR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Diseño Arquitectónico (AD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Diseño Detallado  (DDD), el Manual de Software de Usuario (SUM), el código, y la declaración de terminación del producto por parte del desarrollador (da lugar a las pruebas de aceptación provisional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claración de aceptación provisional y la confección del Documento de Transferencia de Software (ST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claración de aceptación final y entrega del Documento de Historia del Proyecto (PHD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FACF-DEAA-4EC9-A94F-66CFC63A09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de Usuar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708200" y="3141720"/>
            <a:ext cx="5600520" cy="296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2C21-4F4D-463A-869E-477EB5D52E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4:54:06Z</dcterms:created>
  <dc:creator>Sergio Ochoa</dc:creator>
  <dc:description/>
  <dc:language>en-US</dc:language>
  <cp:lastModifiedBy>Sergio F. Ochoa</cp:lastModifiedBy>
  <cp:lastPrinted>2000-08-22T14:09:48Z</cp:lastPrinted>
  <dcterms:modified xsi:type="dcterms:W3CDTF">2006-08-10T12:35:12Z</dcterms:modified>
  <cp:revision>518</cp:revision>
  <dc:subject/>
  <dc:title>CC51A</dc:title>
</cp:coreProperties>
</file>