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2ED-31CC-48CE-8674-DAD0DB15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8EF-A95C-4C83-B521-788DED60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85B-B64A-462F-869C-8A024F2EB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443-BD2F-440C-9C31-CBC82FEE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89A8-5011-4FDE-BEC1-C39A9F90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6379-75CC-4AF4-B041-C20A8927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DFA2-8746-4230-B3FF-89CE4FC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061E-9367-4EFA-B20F-60C06FAF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EFE4-BAA8-4FA0-8BC8-4E31B55C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C25D-BD45-40E2-82F2-8A3C9CA1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CDD6-11F5-4B10-AFE2-F726AC3E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731-7EEC-4D75-9167-15FC8A77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B09D-E4FF-46AA-AAE2-74DAA6D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8117-CBDE-4C80-93A2-FCC454CE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52EB-A2C6-4843-A9A9-5427C704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6EF6-AC9A-470A-B0AF-2D677055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E809-A7D1-4D90-ADBA-9F12784C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AC4-5A22-430C-A842-163DE77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5E9-55DA-4750-BF8B-AD50D6E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098-87A6-42BD-8062-66F310BE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914-E701-4751-96A5-90E94A54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94C0-E25A-488A-9F4F-B378BAFB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D71-5477-4AAF-9355-DD8D7CC6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B86-8BA5-4EA9-8232-DD26031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9698-C3FD-44C1-B285-E5CDF659987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91D6-FD7B-4FE6-B17F-0247AB30AD1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301920"/>
            <a:ext cx="70358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El Estándar de Ingeniería de Software de la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“European Space Agency (ESA)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52CD-DA83-43DB-AAD7-E44017B56E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Fase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finición del probl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isión de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l cliente/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y no necesariamente la del desarrollad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l usu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ben ser “capturados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usa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trevi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ncuesta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demo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totip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se recolectan formul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generar un “Documento de Requisitos de Usuario”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(U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debe hacer en form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ápida y precis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UIDADO: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 fácil demorarse aquí innecesari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79C-C02B-4A1C-AF88-E946A4ED31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Usuari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640" y="163008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apoyo de los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sarrolladore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apunta al desarrollo de prototipos rápidos (para validar ideas o requisitos)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Siempre debe produc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URD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 La revisió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(UR/R)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s hecha por los usuarios/clientes, los ingenieros de software (de ambos bandos), el téster y el administrador del proyecto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5000"/>
              </a:lnSpc>
              <a:spcBef>
                <a:spcPts val="788"/>
              </a:spcBef>
              <a:spcAft>
                <a:spcPts val="913"/>
              </a:spcAft>
              <a:buSzPct val="11316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Antes de completar la UR/R debe construirse un </a:t>
            </a:r>
            <a:r>
              <a:rPr b="1" lang="es-CL" sz="21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l Proyecto</a:t>
            </a:r>
            <a:r>
              <a:rPr b="0" lang="es-CL" sz="2100" spc="-1" strike="noStrike">
                <a:solidFill>
                  <a:srgbClr val="40458c"/>
                </a:solidFill>
                <a:latin typeface="Tahoma"/>
              </a:rPr>
              <a:t> de Software que muestre todas las fases siguientes, con estimación de recursos.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2AA-1046-4C79-AB09-C85DC87740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496120" cy="25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5A94-7BF0-4739-BE77-B52C41C195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Fase de análisis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incipal responsable del producto de esta fase es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nalist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especific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lo que debe hacer el software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(para cumplir con los UR), y no cómo debe hacer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presenta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isión del desarrollad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no necesariamente la d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225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 necesari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resentar prototip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l cliente/usuario para clarificar requisitos de software y completar requisitos de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35A-78D7-46C2-9B03-098BEA874F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0920" y="163008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ntregable principal es el “Documento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D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ada proyecto de software debe tener este docum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be ser revisado por los usuarios, los ingenieros de software, y por el administrador del proyecto, durante la “Revisión de Requisitos de Software” </a:t>
            </a:r>
            <a:r>
              <a:rPr b="1" lang="es-CL" sz="2400" spc="-1" strike="noStrike">
                <a:solidFill>
                  <a:srgbClr val="40458c"/>
                </a:solidFill>
                <a:latin typeface="Tahoma"/>
              </a:rPr>
              <a:t>(SR/R)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4280" indent="-494280">
              <a:lnSpc>
                <a:spcPct val="90000"/>
              </a:lnSpc>
              <a:spcBef>
                <a:spcPts val="1049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C80-9765-415D-9463-CCF5B5DD9F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Requisito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 esta fase se deb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r el Plan de Administración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realizan los mejores esfuerzos para tener estimaciones co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rrores no mayores al 30%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construirse un plan detallado para la fase 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80000"/>
              </a:lnSpc>
              <a:spcBef>
                <a:spcPts val="1749"/>
              </a:spcBef>
              <a:spcAft>
                <a:spcPts val="1925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omitirse terminología de imple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396-8242-4DDF-8A38-8627C29531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20720" y="3121200"/>
            <a:ext cx="6336000" cy="35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58B9-B72A-4B30-A4B4-B5E7AC2AE0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es definir l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ructur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Los requisitos de software son un punto de parti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hac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 gener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la solución con sus macro-compon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le asigna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func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a los componentes de software 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defin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trol y flujo de dato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ntr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2C4-DD95-4A33-91F0-67FA2E6949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a fase puede considera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varias itera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l diseñ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n ser identificadas las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ficultad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écnicas 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artes crític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uede ser necesario realizar prototipos del software par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onfirmar las suposicione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básicas del diseñ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847-8969-4ABD-AF1E-3B100F197B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ítem entregable que constituye la salida formal de esta fase es el Documento de Diseño Arquitectónic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ADD debe ser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ormalmente revis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or los ingenieros de software, por los usuarios, y por el administrador del proyecto, durante el proceso de Revisión del Diseño Arquitectónico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D/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825"/>
              </a:spcBef>
              <a:spcAft>
                <a:spcPts val="137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1E0-E409-4BA2-85DE-3FBCDCF8AA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l Estánd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Fase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ctividades, 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Hitos establecidos por el Está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599"/>
              </a:spcBef>
              <a:spcAft>
                <a:spcPts val="15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C62-3162-49C5-93A7-310829200B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Arquitect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981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AD, debe construirse 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 de Administración de Proyecto de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describa el resto d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lan debe contener un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timación del esfuerz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desarrollo del proyecto, apuntando a un margen de error no mayor a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10%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049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ambién se debe produci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lanes detallad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la fase D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001-8A32-4071-864B-196EC01278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eño Detallado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765440" y="3068640"/>
            <a:ext cx="6119640" cy="301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C237-0550-4E1F-A97F-0556EA44B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pósito de esta fase e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allar el diseñ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odific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arl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n forma concurrente con la codificación y testeo, se produce el Documento de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 y el Manual de Software de Usuari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nicialmente, el DDD y SUM contienen las secciones correspondientes a los niveles superiores del sistema. A medida que el diseño progresa a niveles más bajos (código), se añaden sub-secciones relacion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0EF5-73E5-470F-840F-B817204F30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 la fase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stán completos y, junto con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constituyen los ítems entregables de esta f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urante esta fase, deben realizarse las actividades d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unitari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integra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 sistem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acuerdo con los planes de verificación establecidos en las fases SR y AD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ambién deb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verificarse la calidad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259-164B-4512-BFB6-D8CA22F1CC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Diseño Detallado y P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os 3 entregables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código, DDD y SUM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tos deben ser revisados formalmente por los ingenieros de software y el administrador, durante el proceso de Revisión del Diseño Detallado (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D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/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l final del proceso de revisión, el software puede considerarse como listo para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esteo de aceptación provision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incipal responsable de todas las revisiones es el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téste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48h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spués de cualquier revisión s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b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tregar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ocumento de revis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que indique las falencias encontradas. Esto también es responsabilidad del té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4BE-7E98-4276-B0BA-941BFE946C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480360" cy="331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E74C-6BF7-4618-A622-996F2258F8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pósito de esta fase es establecer que 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oftware cumple con los requisitos de usuario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pecifica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o es hecho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instalando 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la organización cliente y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alizando test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aceptación, con clientes/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 el software demuestra que provee las capacidades requeridas, entonces puede ser aceptado provisionalmente y con ello, puede empezar la oper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8CA-0BA2-4070-ABE1-8AFD2FA569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Fase de Transfer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urante la fase TR, debe producirse el Documento de Transferencia de Software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T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, qu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ocumente el proceso de transferenci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l software al equipo de oper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83F-E681-4617-A9D8-DEDEE4E007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9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eración y Man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260360" y="3068640"/>
            <a:ext cx="68407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EAED-6C15-4875-AAF1-2306C76DB1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8001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a vez que el software ha entrado en operación, 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nitoreado cuidadosament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para confirmar que cumple con los requisitos definidos en el UR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gunos requisitos, tales como los referentes a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isponibilida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puede tomar algún tiempo validarl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uando el software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ha pasado todos los tests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 aceptación, entonces recién puede ser finalmente acep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F63-E1BA-4E54-9C21-5DDAF792FB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63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de la ESA presenta un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gener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puede ser utilizado para abordar un proyecto de softwa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stándar establece la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cro-actividades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que deben hacerse en el proyecto,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o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involucrados, y los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roductos intermed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deberían obtene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04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nque en este curso nosotros utilizaremos una adaptación del estándar, éste nos servirá como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rco de re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much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6659640" y="278928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6BE-B5B6-466E-BE81-C8059A253B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Documento de Historia del Proyecto (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PHD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) resume la información administrativa de importancia, la cual se ha acumulado en el transcurso del proyect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documento debe ser generado después de la aceptación fi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Debe ser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-hecho al final del ciclo de vi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con información acumulada durante la fase OM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7C7-EC7E-4F19-B4DB-7D2AD19B0A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60066"/>
                </a:solidFill>
                <a:latin typeface="Tahoma"/>
              </a:rPr>
              <a:t>Fase de Operación y Mantenimien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espués de la aceptación final, el software puede ser modificado para corregir errores no detectados durante fases anteriore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correctivo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También pueden aparecer nuevos requisitos que necesitas ser incorporados. A esto se le denomina </a:t>
            </a:r>
            <a:r>
              <a:rPr b="1" lang="es-CL" sz="2200" spc="-1" strike="noStrike" u="sng">
                <a:solidFill>
                  <a:srgbClr val="40458c"/>
                </a:solidFill>
                <a:uFillTx/>
                <a:latin typeface="Tahoma"/>
              </a:rPr>
              <a:t>mantenimiento adaptativ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Durante todo el período de operación, se debe hacer un esfuerzo especial para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ntener la documentación al día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645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nformación sobre </a:t>
            </a: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llas y caídas debe ser registrada </a:t>
            </a: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para establecer datos para el establecimiento de métricas de calidad de software para proyectos sigu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E65-D6EB-42CA-99D6-9A4E4FE068D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604800" y="1752480"/>
            <a:ext cx="79120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odelo de proceso a utilizar en el curso es un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aptación del modelo propuesto por la ES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adaptación apunta 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ificar el modelo original, haciéndolo más aplicabl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yectos ch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izar un desarrollo incremental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umentar el paralelismo entre las tareas que realizan lo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embros del equipo de traba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ontinuación se muestra la dinámica del modelo d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ceso adaptad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85B-40C3-427D-87CB-346F4A3CFCD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3098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3403440"/>
            <a:ext cx="13716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3403440"/>
            <a:ext cx="18288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Diseño / Implement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403440"/>
            <a:ext cx="762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ransf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1480" y="2754360"/>
            <a:ext cx="106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20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954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831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640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449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639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452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3252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1340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946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136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9456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97544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1880" y="302256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962520"/>
            <a:ext cx="1752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nálisi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3962520"/>
            <a:ext cx="28069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seño / Implement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88400" y="3962520"/>
            <a:ext cx="3934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Arial"/>
              </a:rPr>
              <a:t>Tr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271764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CFB-3FF9-47B4-A7BB-9F07B2BB5A9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2592360"/>
            <a:ext cx="67053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279576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14880" y="2795760"/>
            <a:ext cx="177768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92560" y="279576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19200" y="2247840"/>
            <a:ext cx="14256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93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305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17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926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116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925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738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8802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6112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20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6104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44228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82316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29600" y="2516040"/>
            <a:ext cx="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9320" y="3951360"/>
            <a:ext cx="18032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92560" y="3951360"/>
            <a:ext cx="274320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35760" y="3951360"/>
            <a:ext cx="4064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81080" y="2211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5360" y="17524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Analist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17720" y="3201840"/>
            <a:ext cx="393696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4632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7492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57680" y="320184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86280" y="32018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6120" y="320184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01920" y="4344840"/>
            <a:ext cx="492768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17920" y="4344840"/>
            <a:ext cx="2808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59120" y="4344840"/>
            <a:ext cx="28116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89320" y="4344840"/>
            <a:ext cx="2160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92640" y="4344840"/>
            <a:ext cx="444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49840" y="4344840"/>
            <a:ext cx="2808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13280" y="4344840"/>
            <a:ext cx="26676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79560" y="580536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92160" y="602136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79560" y="558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92160" y="6249960"/>
            <a:ext cx="228600" cy="763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20760" y="5487840"/>
            <a:ext cx="624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opilación de Inform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Especificación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Validación de Requisitos (con el cliente y/o con los diseñadores / implementadore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ntrol de Cumplimiento de Requisit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B05-FAEA-4F81-AB17-084B4830539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2870280"/>
            <a:ext cx="14349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67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45200" y="2870280"/>
            <a:ext cx="76176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 (2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71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2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954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76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83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64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44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39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45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26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2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13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94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13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94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754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18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4025880"/>
            <a:ext cx="17528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45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88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7956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5120" y="182736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Diseño / Implement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70000" y="3276720"/>
            <a:ext cx="393696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73400" y="3276720"/>
            <a:ext cx="220968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57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59400" y="4419720"/>
            <a:ext cx="382248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044800" y="65530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31200" y="4584600"/>
            <a:ext cx="838080" cy="84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57880" y="4419720"/>
            <a:ext cx="231120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32240" y="4584600"/>
            <a:ext cx="2298960" cy="85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3184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44800" y="5702400"/>
            <a:ext cx="228600" cy="7596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3184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44800" y="5931000"/>
            <a:ext cx="228600" cy="7596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1924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eparación de Herramientas y Definición de Reglas de Funcionamien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totip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Cumplimiento del Diseñ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Diseño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mplementación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rrección y Ajuste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02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3429000"/>
            <a:ext cx="444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36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75120" y="431784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Dis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80808"/>
                </a:solidFill>
                <a:latin typeface="Arial"/>
              </a:rPr>
              <a:t>Impl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44800" y="635004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44800" y="6146640"/>
            <a:ext cx="22860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460-D53E-4E8C-9223-C5830BF1FC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660066"/>
                </a:solidFill>
                <a:latin typeface="Tahoma"/>
              </a:rPr>
              <a:t>Modelo del Proceso 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895400" y="2666880"/>
            <a:ext cx="67057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5400" y="2870280"/>
            <a:ext cx="14353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1 (3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05160" y="2870280"/>
            <a:ext cx="177804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2870280"/>
            <a:ext cx="762120" cy="3045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322360"/>
            <a:ext cx="1425600" cy="29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Seman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Fas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Referencias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400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338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147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211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020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29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023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832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640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7052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14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326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5168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256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81380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0240" y="2590920"/>
            <a:ext cx="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30720" y="4025880"/>
            <a:ext cx="175248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A2 (4,5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83200" y="4025880"/>
            <a:ext cx="274320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DI2 (7 s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26400" y="4025880"/>
            <a:ext cx="40644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7172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1   2     3    4    5    6    7     8    9   10  11  12  13   14 15  16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600" y="182736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99"/>
                </a:solidFill>
                <a:latin typeface="Arial"/>
              </a:rPr>
              <a:t>Administración / Testing (~ SQ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8000" y="3276720"/>
            <a:ext cx="39373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9540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59320" y="4419720"/>
            <a:ext cx="4660920" cy="7596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82800" y="6324480"/>
            <a:ext cx="228600" cy="7632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69200" y="4584600"/>
            <a:ext cx="685800" cy="7488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30720" y="4584600"/>
            <a:ext cx="4038480" cy="7488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870200" y="5486400"/>
            <a:ext cx="228600" cy="7632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82800" y="6134040"/>
            <a:ext cx="2286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70200" y="5270400"/>
            <a:ext cx="228600" cy="763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11400" y="5168880"/>
            <a:ext cx="7086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Interacción con el Clien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Monitoreo, Redefinición y Coordinación de Tareas (Guiar el Barco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Entreg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lanificación de Controles, y Definición del Tipo de Revisión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ontrol de Productos y Emisión de Alerta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Prueba del Produc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40000" y="3429000"/>
            <a:ext cx="274320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95400" y="3429000"/>
            <a:ext cx="444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4840" y="31622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97200" y="430524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Adm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</a:rPr>
              <a:t>Test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70200" y="5931000"/>
            <a:ext cx="2286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55000" y="4419720"/>
            <a:ext cx="152280" cy="7596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16720" y="3276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30720" y="4419720"/>
            <a:ext cx="228600" cy="7596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0200" y="5715000"/>
            <a:ext cx="228600" cy="7632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0EB-F250-42C1-90A7-458BD8ECF69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Conclusiones 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tándar de la ESA propone un conjunto de actividades para atacar el “ciclo de vida” de un proyecto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daptado a la realidad de una empresa específic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ede ser aplicado en forma parcial, según la naturaleza del problema a resolve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 simple, por lo tanto, con poca práctica se puede hacer un buen uso de é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4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os podría ayudar a certificar ISO 9000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886-65B5-4FCE-8C78-679265ED10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Bibliografía y Ca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. Sommerville, P. Sawyer. Requirements Engineering, A Good Practice Guide.Wi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. Robertson, J. Robertson. Mastering the Requirements Process. Addison-Wesley, 199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SA, SOFTWARE ENGINEERING STANDARDS, ISSUE 2. Preparado por: ESA Board for Software Standardisation and Control (BSSC). URL: http://www.estec.esa.nl/wmwww/WME/index.htm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8C8-62AE-415B-B9D7-92F2E99B326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Establece: Fases, Actividades e Hi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3179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iclo de vida del softwar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se inicia cuando el producto de software se concibe, y termina cuando ya no está disponible para su uso (el producto es retirad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Un </a:t>
            </a:r>
            <a:r>
              <a:rPr b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model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ciclo de vida defin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Fas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Objetiv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que componen las fases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35920" indent="-276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Hit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4762440"/>
            <a:ext cx="3419640" cy="209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2F9-AD73-45A9-B4CF-5EF963837C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Fases en el Ciclo de Vida según la ES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U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Usuari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R: Definición de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Requisitos de Software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D: Definición del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Arquitectónic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D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Diseño Detalla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producción d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TR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TRansferenci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software a oper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OM: </a:t>
            </a:r>
            <a:r>
              <a:rPr b="0" lang="es-CL" sz="2400" spc="-1" strike="noStrike">
                <a:solidFill>
                  <a:srgbClr val="6f89f7"/>
                </a:solidFill>
                <a:latin typeface="Tahoma"/>
              </a:rPr>
              <a:t>Operación y Mantenimien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stos no son exactamente los pasos que nosotros vamos a seguir en el proyec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DF5-84A8-453D-A37C-903AF00E0A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29600" cy="513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F1E5-C51F-486E-BDD9-DC4F8693CE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90680" y="1190520"/>
            <a:ext cx="8076960" cy="559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A8C-5A99-49C4-B4DE-4EED0AA951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Fases, Actividades e Hi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81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 algn="just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6f89f7"/>
              </a:buClr>
              <a:buSzPct val="11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Tahoma"/>
              </a:rPr>
              <a:t>Hitos principales</a:t>
            </a: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 que establece el estándar de la  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 algn="just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Usuario (U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Requisitos de Software (SR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Arquitectónico (AD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robación del Documento de Diseño Detallado  (DDD), el Manual de Software de Usuario (SUM), el código, y la declaración de terminación del producto por parte del desarrollador (da lugar a las pruebas de aceptación provisional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provisional y la confección del Documento de Transferencia de Software (STD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68320" indent="-357840">
              <a:lnSpc>
                <a:spcPct val="80000"/>
              </a:lnSpc>
              <a:spcBef>
                <a:spcPts val="75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claración de aceptación final y entrega del Documento de Historia del Proyecto (PHD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5A5-9C3C-4F05-ACFF-A063276595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quisitos de Usu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08200" y="3141720"/>
            <a:ext cx="5600520" cy="296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919C-1169-4E30-9E7A-37018C3ED0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04:54:06Z</dcterms:created>
  <dc:creator>Sergio Ochoa</dc:creator>
  <dc:description/>
  <dc:language>en-US</dc:language>
  <cp:lastModifiedBy>Sergio F. Ochoa</cp:lastModifiedBy>
  <cp:lastPrinted>2000-08-22T14:09:48Z</cp:lastPrinted>
  <dcterms:modified xsi:type="dcterms:W3CDTF">2006-08-10T12:35:12Z</dcterms:modified>
  <cp:revision>518</cp:revision>
  <dc:subject/>
  <dc:title>CC51A</dc:title>
</cp:coreProperties>
</file>