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png" ContentType="image/pn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6B2E-BC43-46AD-9329-09E8DE20C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A2B7-E5B6-4608-95B4-DC9EED61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89D7-F4F1-45A2-955D-BCA4A48B8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54BA-8AA6-454B-A1A7-96CC7FC93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4ABA-F333-4361-A0D6-5BCE56738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5D7C-5801-4AD9-9FD8-5360CCD2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B932-0A88-4D8B-A5A1-6956B031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D47F-80B8-4FF4-86FD-7512133B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122B-27F2-4772-83B0-7F1EBA39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EB9D-1842-42CA-9E9C-10FF4F58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4C6B-62CB-44F4-97ED-9657FA92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18A8-B1F7-4AF3-9A0D-38A97D53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44D0-7036-49A7-B5E9-053122E3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83FB-5AA2-488D-A86E-9EEEA36C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0751-FAE2-413F-8FB3-C22F68C9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C5D1-16F1-4E27-8673-6BFE1E516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CBF5-72E9-440E-AEF0-F696A5261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D66F-2430-4B53-B55F-D4E82BC0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BC9A-D8FD-4899-B1AE-AA48BEED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9A5E-2785-4788-81FE-21733138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DC4A-B489-41BC-860E-6ADB532A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10FB-BA95-4DF0-95C5-89B2C3DC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AEA4-0186-4341-882E-B59F3EDE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37DD-075B-49F8-A9CC-9F36A36D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B848-8604-4C35-9B2F-07584911CBD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E26D-E17E-417A-8FC1-086CE17ED8A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Modelos de Desarrollo de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3 - Versión 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aterfall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914400" y="1676520"/>
          <a:ext cx="5257800" cy="32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76520"/>
                    <a:ext cx="5257800" cy="32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685800" y="5191200"/>
            <a:ext cx="8134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Arial"/>
              </a:rPr>
              <a:t>El modelo de cascada aunque algo desprestigiado continúa siendo usado para visualizar las etapas de desarrollo (¿cómo debería avanzarse?) y funciona bien si no hay grandes sorpresa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aterfal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1523880"/>
            <a:ext cx="8153280" cy="52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n el modelo de cascada puro no hay realimentación entre las distintas etapa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También se usa el modelo con feedback hacia atrá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pendiendo de la versión, posee entre 5 y 10 actividades fundamental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Útil en la identificación de las actividades fundamentales (que aparecen en cualquier proceso) y la definición de los documentos de entrega (deliverables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Los problemas más importantes de este modelo son: (a) que no maneja los riesgos y (b) que obtiene un producto demasiado tard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aterfal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752480" y="1571760"/>
            <a:ext cx="51642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ncremental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125360" y="1828800"/>
          <a:ext cx="7118640" cy="236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1828800"/>
                    <a:ext cx="7118640" cy="23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838080" y="49528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Arial"/>
              </a:rPr>
              <a:t>La idea es combinar los elementos del tradicional modelo de cascada con la filosofía de prototipos (usada principalmente en la etapa de definición de requisito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ncrement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1413000"/>
            <a:ext cx="4897440" cy="58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onjunto de cascadas desarrolladas en forma escalonad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ada cascada genera un incremento del softwar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jemplo: Word Processo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imer incremento: edición y formateo básico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gundo incremento: párrafos y document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ercer incremento: spelling y gramátic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uarto incremento: layout avanzado, etc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532480" y="1916280"/>
            <a:ext cx="3611520" cy="37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ncrement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684360" y="1557360"/>
            <a:ext cx="8135640" cy="54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ada incremento representa una versión reducida del producto final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Que puede ser validado de inmediato por el usuari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 una buena preparación para la vida evolutiva del product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difícil obtener una buena segmentación del product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difícil incorporar cambios (respecto a lo que se pretende obtener), una vez que el proyecto está en march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6400800" cy="31795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609480" y="5348160"/>
            <a:ext cx="800100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Objetivo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Proveer una estructura para el diseño de procesos de producción de software, guiado por los </a:t>
            </a:r>
            <a:r>
              <a:rPr b="1" i="1" lang="es-ES_tradnl" sz="2400" spc="-1" strike="noStrike">
                <a:solidFill>
                  <a:srgbClr val="40458c"/>
                </a:solidFill>
                <a:latin typeface="Tahoma"/>
              </a:rPr>
              <a:t>niveles de riesgo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del proyecto a desarrolla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en espiral puede ser visto como un “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metamodelo”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pues cualquier modelo de proceso puede ser enmarcado en é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finicion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Riesgo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Circunstancias potencialmente adversas que pueden perjudicar el proceso de desarrollo o la calidad del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Manejo del Riesgo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“Disciplina cuyos objetivos son identificar, manejar y eliminar los elementos de riesgo del software, antes que se conviertan en problemas”  B.W. Boeh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en espiral se basa en la identificación y eliminación de problemas de alto riesgo a través de un proceso de diseño cuidado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en espiral tiene como característica principal que es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cíclico y no lineal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radio del espiral marca el costo acumulado en el proceso, mientras que la dimensión angular representa el progreso dentro del proc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uando no existe riesgo, el modelo en espiral puede reducirse a un modelo en casca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lementos de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Técnicas de manej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Riesgo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Riesg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1-  Carencias del personal.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Staff calificado, equipo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       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ntrenamiento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2- Cronogramas y presupuestos    -  Estimación de cronogram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no realistas.                               y costos detallados, reuso de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experiencia previ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3- Desarrollo de funcione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Análisis organizado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quivocadas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prototipación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4- Desarrollo de interfase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Prototipos, escenarios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quivocadas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          caracterización de usuari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5- “Gold plating”...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Análisis costo-benefici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6- Continuos cambios d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Ocultamiento de información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Requisitos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desarrollo increment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1636560"/>
            <a:ext cx="7721640" cy="5069160"/>
          </a:xfrm>
          <a:prstGeom prst="rect">
            <a:avLst/>
          </a:pr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2471760"/>
            <a:ext cx="775656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0" y="1676520"/>
            <a:ext cx="0" cy="518148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Objetivo de la Presentació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Mostrar diferentes formas de organizar el desarrollo de software según el avance de la informát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nalizar los “ciclos de vida” más representativ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Estructura de la Presentació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finición y Objetivos de los Modelos de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volución de estos mode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nclus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lementos de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Técnicas de manej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Riesgo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Riesg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7- Carencias en componentes       -  Análisis de compatibilidad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xternos (soft, hard, etc).          benchmarks, inspeccion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8- Carencias en tarea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       -  Control de referencia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esarrolladas en forma              contratos cuidadosos,   externa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selección de subcontrata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9- Carencias de performanc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Simulación, prototipos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n tiempo real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           benchmark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10- Forzar la computación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Análisis técnico, prototipos y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honestida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1636560"/>
            <a:ext cx="7721640" cy="4764240"/>
          </a:xfrm>
          <a:prstGeom prst="rect">
            <a:avLst/>
          </a:pr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2529000"/>
            <a:ext cx="775656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0" y="1676520"/>
            <a:ext cx="0" cy="47480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mponent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5257800" cy="25369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96960" y="4286160"/>
            <a:ext cx="7761240" cy="24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mponent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1676520"/>
            <a:ext cx="78483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l desarrollo basado en componentes contempla la construcción de sistemas, a través del ensamble de módulos predefinidos (componentes)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tos módulos son genéricos (sirven para más de un sistema), configurables, y pueden ser desarrollados por cualquier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Para que esto sea factible, los módulos deben adherir a una especificación de componentes de software como: JavaBeans, ActiveX, EJB, COM, DCOM, etc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l desarrollo basado en componentes tiene un sin número de ventajas, en lo relacionado con el tiempo y costo de desarrollo, y también en lo que respecta a la calidad del producto final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RUP (Rational Unified Proces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76760" cy="48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RUP (Rational Unified Proces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"/>
          <p:cNvSpPr/>
          <p:nvPr/>
        </p:nvSpPr>
        <p:spPr>
          <a:xfrm>
            <a:off x="762120" y="1676520"/>
            <a:ext cx="7848360" cy="49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 un modelo moderno, que incorpora las recomendaciones (buenas prácticas) de la ingeniería de softwar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Tiene mucho respaldo, pero es un tanto complejo (se requiere entrenamiento par usarlo)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tá muy atado a UML (Unified Modeling Language)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Hasta el momento, sólo ha demostrado ser uno má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 diferencia del resto, RUP considera la arquitectura como una pieza clave del desarroll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No es demasiado fuerte para apoyar el desarrollo de proyectos Web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ebE (Web Engineering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200016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8" name="pressman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ebE (Web Engineering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1676520"/>
            <a:ext cx="784836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2100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un modelo moderno, aplicable a proyectos Web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2100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finido por R. Pressman en 1998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2100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el primer modelo diseñado específicamente para desarrollar proyectos Web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2100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unque hay otros como RMM, y OOHDM que proponen alternativas a WebE, pero que vienen del lado de los sistemas hipermedial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2100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WebE aún no ha sido probado lo suficiente, y por ahora es sólo una buena propuest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xtreme Programm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4" name=""/>
          <p:cNvSpPr/>
          <p:nvPr/>
        </p:nvSpPr>
        <p:spPr>
          <a:xfrm>
            <a:off x="762120" y="1676520"/>
            <a:ext cx="78483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2100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una práctica ágil (no burocrática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2100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una filosofía de desarrollo, no una metodologí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2100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volucra ir descubriendo la solución, en la medida que se va avanzando en el desarroll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treme Programm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31028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Involuc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ca document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cha interacción con el cliente/usu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ácticas específicas, como por ejemplo: pair-programming, pair- designing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5219640" y="1773360"/>
            <a:ext cx="36115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desarrollo de software debe ser guiado por un modelo, como forma de disciplinar, organizar y gerenciar las actividad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debe ser definido por la organización y adaptado a cada proyecto en particul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s actividades que deben cumplirse en el proceso de desarrollo son básicamente las que establece el modelo en casca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ón y Objetiv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4608360" cy="476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40458c"/>
                </a:solidFill>
                <a:latin typeface="Tahoma"/>
              </a:rPr>
              <a:t>Proceso de producción de softwar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 u="sng">
                <a:solidFill>
                  <a:srgbClr val="40458c"/>
                </a:solidFill>
                <a:uFillTx/>
                <a:latin typeface="Tahoma"/>
              </a:rPr>
              <a:t>Actividades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que se realizan para la construcción, liberación y evolución de un producto de software, comenzando con el estudio de una idea y finalizando con el retiro final del sistema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40458c"/>
                </a:solidFill>
                <a:latin typeface="Tahoma"/>
              </a:rPr>
              <a:t>Ciclo de Vida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0" i="1" lang="es-ES_tradnl" sz="1800" spc="-1" strike="noStrike" u="sng">
                <a:solidFill>
                  <a:srgbClr val="40458c"/>
                </a:solidFill>
                <a:uFillTx/>
                <a:latin typeface="Tahoma"/>
              </a:rPr>
              <a:t>modelos estructurados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de software muestran más claramente los </a:t>
            </a:r>
            <a:r>
              <a:rPr b="0" i="1" lang="es-ES_tradnl" sz="1800" spc="-1" strike="noStrike">
                <a:solidFill>
                  <a:srgbClr val="40458c"/>
                </a:solidFill>
                <a:latin typeface="Tahoma"/>
              </a:rPr>
              <a:t>ciclos de vida 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del software…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El ciclo de vida </a:t>
            </a:r>
            <a:r>
              <a:rPr b="0" i="1" lang="es-ES_tradnl" sz="1800" spc="-1" strike="noStrike" u="sng">
                <a:solidFill>
                  <a:srgbClr val="40458c"/>
                </a:solidFill>
                <a:uFillTx/>
                <a:latin typeface="Tahoma"/>
              </a:rPr>
              <a:t>describe los estados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por los que pasa un producto de software, desde su concepción hasta su muerte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230800" y="2060640"/>
            <a:ext cx="387828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debe ser lo suficientemente flexible como para incorporar el principio de ANTICIPACION AL CAMB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n lo posible debe utilizarse un desarrollo incremental, con entregas parciales al usuario (modelo evolutivo, incremental o espiral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ara los productos que así lo ameriten, realizar análisis de riesgo (modelo espiral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ón y Objetiv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5543280" cy="52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 meta de un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modelo estructurado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proceso es determinar el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orden de las etapa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que componen el desarrollo y la evolución de un software, estableciendo los “criterios de transición” para progresar de una etapa a la siguiente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24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os modelos están hechos para contestar las siguientes preguntas en un proyecto de softwar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240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2" marL="1231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40458c"/>
                </a:solidFill>
                <a:latin typeface="Tahoma"/>
              </a:rPr>
              <a:t>-¿Qué debemos hacer a continuación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2319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40458c"/>
                </a:solidFill>
                <a:latin typeface="Tahoma"/>
              </a:rPr>
              <a:t>-¿Cuánto tiempo debemos continuar haciéndolo?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”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(B.Bohem 1988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310440" y="1341360"/>
            <a:ext cx="283356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ón y Objetiv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5904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Beneficios de los modelos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 u="sng">
                <a:solidFill>
                  <a:srgbClr val="40458c"/>
                </a:solidFill>
                <a:uFillTx/>
                <a:latin typeface="Tahoma"/>
              </a:rPr>
              <a:t>Proveen de guías 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a los ingenieros de software, a cerca del orden en el cual deben ser llevadas a cabo las variadas actividades técnica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 u="sng">
                <a:solidFill>
                  <a:srgbClr val="40458c"/>
                </a:solidFill>
                <a:uFillTx/>
                <a:latin typeface="Tahoma"/>
              </a:rPr>
              <a:t>Dan un marco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o estructura para gerenciar, desarrollar y mantener un desarrollo, lo cual nos permite: estimar recursos, definir hitos intermedios y monitorear los progreso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 u="sng">
                <a:solidFill>
                  <a:srgbClr val="40458c"/>
                </a:solidFill>
                <a:uFillTx/>
                <a:latin typeface="Tahoma"/>
              </a:rPr>
              <a:t>Anticipan y controlan el proceso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para alcanzar las cualidades deseadas del software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 u="sng">
                <a:solidFill>
                  <a:srgbClr val="40458c"/>
                </a:solidFill>
                <a:uFillTx/>
                <a:latin typeface="Tahoma"/>
              </a:rPr>
              <a:t>Sistematizan el proceso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con el uso de estándares, metodologías y herramienta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Permiten la producción de productos </a:t>
            </a:r>
            <a:r>
              <a:rPr b="1" lang="es-ES_tradnl" sz="1800" spc="-1" strike="noStrike">
                <a:solidFill>
                  <a:srgbClr val="40458c"/>
                </a:solidFill>
                <a:latin typeface="Tahoma"/>
              </a:rPr>
              <a:t>confiables, predecibles y eficiente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588000" y="2060640"/>
            <a:ext cx="2556000" cy="19558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948360" y="5373720"/>
            <a:ext cx="1871640" cy="13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volución de Model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odelos o Estrategias de Desarroll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Code &amp; Fix Model (~1960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Waterfall Model (~1970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Incremental Model (~198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Transformation Model (~197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Spiral Model (~1988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Component Model (~1992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RUP (~1997)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WebE (~1998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xtreme Programming (~1998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delos de Desarrollo de Soft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8055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Arial"/>
              </a:rPr>
              <a:t>No basta con seleccionar un modelo genérico de desarrollo de software y tratar de adaptarse a él. Se requiere una definición más precisa de cómo se llevan a cabo las distintas tare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Modelos de Desarrollo Genéric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aquí caen todos los modelos de desarrollo de software tradicionales: cascada, espiral, prototipos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resentan una estrategia muy general para efectuar el proceso de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n la realidad casi nunca es posible efectuar el desarrollo adhiriendo completamente a uno de estos mode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delos de Desarrollo de Soft.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Modelos de Desarrollo Genéric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ermiten un entendimiento de tipo general del proceso pero no es fácil llevarlos a un nivel de detalle más fino, lo cual es necesario para guiar el trabajo de los profesional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No representan en forma precisa lo que realmente se hac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Modelos de Desarrollo Específic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parecen las </a:t>
            </a:r>
            <a:r>
              <a:rPr b="0" i="1" lang="es-ES" sz="2000" spc="-1" strike="noStrike">
                <a:solidFill>
                  <a:srgbClr val="40458c"/>
                </a:solidFill>
                <a:latin typeface="Tahoma"/>
              </a:rPr>
              <a:t>actividades mayores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involucradas en el proces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Brindan una especificación precisa del orden entre ell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tablecen relaciones entre las diversas tareas, los artefactos producidos en ellas, las personas que las realizan y las herramientas utiliza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Usan formalismos gráficos (por ejemplo Redes de Petri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de &amp; Fix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30556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Usado  en los comienzos de la computación, cuando ésta era una actividad personal y artesan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nsta de 2 etapas: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codificar, eliminar errores en el códig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uente de dificultades y deficienci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uego de una secuencia de cambios, el código era tan enredado, que eliminar errores era una tarea pesada y muy difícil de realiza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Cuando el desarrollo de sistemas dejó de ser una actividad personal y artesanal,  el  modelo no podía manejar la complejidad de los  sistemas 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No acepta la rotación de personal en un proyec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una práctica habitual en el desarrollo We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17:31:38Z</dcterms:created>
  <dc:creator>Sergio Ochoa</dc:creator>
  <dc:description/>
  <dc:language>en-US</dc:language>
  <cp:lastModifiedBy>Sergio F. Ochoa</cp:lastModifiedBy>
  <cp:lastPrinted>2001-08-08T05:55:09Z</cp:lastPrinted>
  <dcterms:modified xsi:type="dcterms:W3CDTF">2006-08-03T12:20:02Z</dcterms:modified>
  <cp:revision>46</cp:revision>
  <dc:subject/>
  <dc:title>Ingeniería de Software   </dc:title>
</cp:coreProperties>
</file>