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7.png" ContentType="image/png"/>
  <Override PartName="/ppt/media/image9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FD45-976B-41A9-88F8-0E7B9B0FF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2B99-21B3-4ABC-8987-8C8D19035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B625-7201-47AD-B925-71B59F365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19FA-9127-4116-99AB-510CF9002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96942-24AA-4472-95C3-44D9BA7F3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49419-56F2-4B03-9A66-D1636C5AC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993B2-64EC-486D-8FB1-2D6EA5B70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BC9E0-22DA-460B-8FCC-5D8279993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5F722-3E04-458F-B713-B2C071538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51C53-7BD4-401A-A939-1E0B6026F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BA054-40BB-49E2-B443-C880D7F7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3143-40FF-4EB0-9A1B-423447CD8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252AA-71B4-4932-ADA5-EF73C800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CA2F7-7F69-4FD7-9870-7223B376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1AC57-3F80-4C04-8B3F-7632523C7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CE317-2044-46C5-951A-8E116697A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F6820-818E-4B95-8235-C403CE867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76A5-ACD9-4B10-9114-8B056DC8D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0936-EDE7-4ED4-A7DE-7697EC841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752B-9935-4540-9C14-1C9A94BD2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147A-65D6-4DFD-AB9A-02F2D03D2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E308-0918-4767-9A5B-21A250D5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8FE3-CCF2-4B5C-8449-C5B9720D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4038-4A82-4562-9994-BBAEE80C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143A3-6E8C-495B-A485-15B3248651A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F5C1F-4533-4B20-A65B-BA8EC438627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Modelos de Desarrollo de Softwa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6491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Clase 3 - Versión 5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Waterfall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914400" y="1676520"/>
          <a:ext cx="5257800" cy="32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76520"/>
                    <a:ext cx="5257800" cy="32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685800" y="5191200"/>
            <a:ext cx="8134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Arial"/>
              </a:rPr>
              <a:t>El modelo de cascada aunque algo desprestigiado continúa siendo usado para visualizar las etapas de desarrollo (¿cómo debería avanzarse?) y funciona bien si no hay grandes sorpresa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Waterfall Model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762120" y="1523880"/>
            <a:ext cx="8153280" cy="52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n el modelo de cascada puro no hay realimentación entre las distintas etapa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También se usa el modelo con feedback hacia atrá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Dependiendo de la versión, posee entre 5 y 10 actividades fundamentale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Útil en la identificación de las actividades fundamentales (que aparecen en cualquier proceso) y la definición de los documentos de entrega (deliverables)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Arial"/>
              </a:rPr>
              <a:t>Los problemas más importantes de este modelo son: (a) que no maneja los riesgos y (b) que obtiene un producto demasiado tard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Waterfall Model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752480" y="1571760"/>
            <a:ext cx="516420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Incremental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125360" y="1828800"/>
          <a:ext cx="7118640" cy="236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5360" y="1828800"/>
                    <a:ext cx="7118640" cy="23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838080" y="49528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Arial"/>
              </a:rPr>
              <a:t>La idea es combinar los elementos del tradicional modelo de cascada con la filosofía de prototipos (usada principalmente en la etapa de definición de requisitos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Incremental Model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611280" y="1413000"/>
            <a:ext cx="4897440" cy="58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onjunto de cascadas desarrolladas en forma escalonada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ada cascada genera un incremento del software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–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jemplo: Word Processor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rimer incremento: edición y formateo básicos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gundo incremento: párrafos y documento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ercer incremento: spelling y gramática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uarto incremento: layout avanzado, etc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5532480" y="1916280"/>
            <a:ext cx="3611520" cy="37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Incremental Model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"/>
          <p:cNvSpPr/>
          <p:nvPr/>
        </p:nvSpPr>
        <p:spPr>
          <a:xfrm>
            <a:off x="684360" y="1557360"/>
            <a:ext cx="8135640" cy="54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Cada incremento representa una versión reducida del producto final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Que puede ser validado de inmediato por el usuario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Es una buena preparación para la vida evolutiva del producto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 difícil obtener una buena segmentación del producto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 difícil incorporar cambios (respecto a lo que se pretende obtener), una vez que el proyecto está en marcha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Spiral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6400800" cy="31795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609480" y="5348160"/>
            <a:ext cx="800100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Objetivo: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Proveer una estructura para el diseño de procesos de producción de software, guiado por los </a:t>
            </a:r>
            <a:r>
              <a:rPr b="1" i="1" lang="es-ES_tradnl" sz="2400" spc="-1" strike="noStrike">
                <a:solidFill>
                  <a:srgbClr val="40458c"/>
                </a:solidFill>
                <a:latin typeface="Tahoma"/>
              </a:rPr>
              <a:t>niveles de riesgo </a:t>
            </a: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del proyecto a desarrollar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Spiral Model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modelo en espiral puede ser visto como un “</a:t>
            </a: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metamodelo”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pues cualquier modelo de proceso puede ser enmarcado en é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finicione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Riesgo: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Circunstancias potencialmente adversas que pueden perjudicar el proceso de desarrollo o la calidad del produ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Manejo del Riesgo: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“Disciplina cuyos objetivos son identificar, manejar y eliminar los elementos de riesgo del software, antes que se conviertan en problemas”  B.W. Boehm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Spiral Model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modelo en espiral se basa en la identificación y eliminación de problemas de alto riesgo a través de un proceso de diseño cuidados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modelo en espiral tiene como característica principal que es </a:t>
            </a: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cíclico y no lineal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radio del espiral marca el costo acumulado en el proceso, mientras que la dimensión angular representa el progreso dentro del proces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uando no existe riesgo, el modelo en espiral puede reducirse a un modelo en cascad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Spiral Model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        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Elementos de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       Técnicas de manej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              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Riesgo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            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Riesg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1-  Carencias del personal.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- Staff calificado, equipos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           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ntrenamiento, etc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2- Cronogramas y presupuestos    -  Estimación de cronograma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no realistas.                               y costos detallados, reuso de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experiencia previ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3- Desarrollo de funcione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-  Análisis organizado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quivocadas.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prototipación, etc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4- Desarrollo de interfase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-  Prototipos, escenarios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quivocadas.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           caracterización de usuari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5- “Gold plating”...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-  Análisis costo-benefici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6- Continuos cambios de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-  Ocultamiento de información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Requisitos.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desarrollo incremental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685800" y="1636560"/>
            <a:ext cx="7721640" cy="5069160"/>
          </a:xfrm>
          <a:prstGeom prst="rect">
            <a:avLst/>
          </a:prstGeom>
          <a:noFill/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5800" y="2471760"/>
            <a:ext cx="775656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0" y="1676520"/>
            <a:ext cx="0" cy="518148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40458c"/>
                </a:solidFill>
                <a:latin typeface="Tahoma"/>
              </a:rPr>
              <a:t>Objetivo de la Presentació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Mostrar diferentes formas de organizar el desarrollo de software según el avance de la informátic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nalizar los “ciclos de vida” más representativ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40458c"/>
                </a:solidFill>
                <a:latin typeface="Tahoma"/>
              </a:rPr>
              <a:t>Estructura de la Presentació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finición y Objetivos de los Modelos de Desarroll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volución de estos model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onclusio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Spiral Model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        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Elementos de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       Técnicas de manej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              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Riesgo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            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Riesg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7- Carencias en componentes       -  Análisis de compatibilidad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45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xternos (soft, hard, etc).          benchmarks, inspeccion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8- Carencias en tarea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        -  Control de referencias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45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desarrolladas en forma              contratos cuidadosos,   externa.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selección de subcontratado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9- Carencias de performance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-  Simulación, prototipos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45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n tiempo real.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            benchmark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10- Forzar la computación.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-  Análisis técnico, prototipos y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 honestida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1636560"/>
            <a:ext cx="7721640" cy="4764240"/>
          </a:xfrm>
          <a:prstGeom prst="rect">
            <a:avLst/>
          </a:prstGeom>
          <a:noFill/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2529000"/>
            <a:ext cx="775656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72000" y="1676520"/>
            <a:ext cx="0" cy="474804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mponent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5257800" cy="253692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696960" y="4286160"/>
            <a:ext cx="7761240" cy="242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mponent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1676520"/>
            <a:ext cx="78483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1749"/>
              </a:spcAft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l desarrollo basado en componentes contempla la construcción de sistemas, a través del ensamble de módulos predefinidos (componentes)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1749"/>
              </a:spcAft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stos módulos son genéricos (sirven para más de un sistema), configurables, y pueden ser desarrollados por cualquiera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1749"/>
              </a:spcAft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Para que esto sea factible, los módulos deben adherir a una especificación de componentes de software como: JavaBeans, ActiveX, EJB, COM, DCOM, etc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1749"/>
              </a:spcAft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l desarrollo basado en componentes tiene un sin número de ventajas, en lo relacionado con el tiempo y costo de desarrollo, y también en lo que respecta a la calidad del producto final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RUP (Rational Unified Proces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476760" cy="488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RUP (Rational Unified Proces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4" name=""/>
          <p:cNvSpPr/>
          <p:nvPr/>
        </p:nvSpPr>
        <p:spPr>
          <a:xfrm>
            <a:off x="762120" y="1676520"/>
            <a:ext cx="7848360" cy="49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1749"/>
              </a:spcAft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s un modelo moderno, que incorpora las recomendaciones (buenas prácticas) de la ingeniería de software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1749"/>
              </a:spcAft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Tiene mucho respaldo, pero es un tanto complejo (se requiere entrenamiento par usarlo)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1749"/>
              </a:spcAft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stá muy atado a UML (Unified Modeling Language)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1749"/>
              </a:spcAft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Hasta el momento, sólo ha demostrado ser uno más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1749"/>
              </a:spcAft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 diferencia del resto, RUP considera la arquitectura como una pieza clave del desarrollo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1749"/>
              </a:spcAft>
              <a:buSzPct val="1131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No es demasiado fuerte para apoyar el desarrollo de proyectos Web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WebE (Web Engineering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7" name=""/>
          <p:cNvSpPr/>
          <p:nvPr/>
        </p:nvSpPr>
        <p:spPr>
          <a:xfrm>
            <a:off x="2000160" y="150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8" name="pressman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70572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WebE (Web Engineering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1676520"/>
            <a:ext cx="7848360" cy="49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2100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 un modelo moderno, aplicable a proyectos Web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2100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finido por R. Pressman en 1998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2100"/>
              </a:spcAft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 el primer modelo diseñado específicamente para desarrollar proyectos Web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2100"/>
              </a:spcAft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unque hay otros como RMM, y OOHDM que proponen alternativas a WebE, pero que vienen del lado de los sistemas hipermediale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2100"/>
              </a:spcAft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WebE aún no ha sido probado lo suficiente, y por ahora es sólo una buena propuesta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xtreme Programm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4" name=""/>
          <p:cNvSpPr/>
          <p:nvPr/>
        </p:nvSpPr>
        <p:spPr>
          <a:xfrm>
            <a:off x="762120" y="1676520"/>
            <a:ext cx="784836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2100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 una práctica ágil (no burocrática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2100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 una filosofía de desarrollo, no una metodología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2100"/>
              </a:spcAft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Involucra ir descubriendo la solución, en la medida que se va avanzando en el desarrollo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xtreme Programm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431028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Involucr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1400"/>
              </a:spcAft>
              <a:buClr>
                <a:srgbClr val="6f89f7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oca document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1400"/>
              </a:spcAft>
              <a:buClr>
                <a:srgbClr val="6f89f7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ucha interacción con el cliente/usuari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1400"/>
              </a:spcAft>
              <a:buClr>
                <a:srgbClr val="6f89f7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ácticas específicas, como por ejemplo: pair-programming, pair- designing, et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5219640" y="1773360"/>
            <a:ext cx="36115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desarrollo de software debe ser guiado por un modelo, como forma de disciplinar, organizar y gerenciar las actividad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modelo debe ser definido por la organización y adaptado a cada proyecto en particula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as actividades que deben cumplirse en el proceso de desarrollo son básicamente las que establece el modelo en cascad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efinición y Objetiv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10920" y="1699920"/>
            <a:ext cx="4608360" cy="476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40458c"/>
                </a:solidFill>
                <a:latin typeface="Tahoma"/>
              </a:rPr>
              <a:t>Proceso de producción de software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 u="sng">
                <a:solidFill>
                  <a:srgbClr val="40458c"/>
                </a:solidFill>
                <a:uFillTx/>
                <a:latin typeface="Tahoma"/>
              </a:rPr>
              <a:t>Actividades</a:t>
            </a: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 que se realizan para la construcción, liberación y evolución de un producto de software, comenzando con el estudio de una idea y finalizando con el retiro final del sistema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40458c"/>
                </a:solidFill>
                <a:latin typeface="Tahoma"/>
              </a:rPr>
              <a:t>Ciclo de Vida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Los </a:t>
            </a:r>
            <a:r>
              <a:rPr b="0" i="1" lang="es-ES_tradnl" sz="1800" spc="-1" strike="noStrike" u="sng">
                <a:solidFill>
                  <a:srgbClr val="40458c"/>
                </a:solidFill>
                <a:uFillTx/>
                <a:latin typeface="Tahoma"/>
              </a:rPr>
              <a:t>modelos estructurados</a:t>
            </a: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 de software muestran más claramente los </a:t>
            </a:r>
            <a:r>
              <a:rPr b="0" i="1" lang="es-ES_tradnl" sz="1800" spc="-1" strike="noStrike">
                <a:solidFill>
                  <a:srgbClr val="40458c"/>
                </a:solidFill>
                <a:latin typeface="Tahoma"/>
              </a:rPr>
              <a:t>ciclos de vida </a:t>
            </a: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 del software…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El ciclo de vida </a:t>
            </a:r>
            <a:r>
              <a:rPr b="0" i="1" lang="es-ES_tradnl" sz="1800" spc="-1" strike="noStrike" u="sng">
                <a:solidFill>
                  <a:srgbClr val="40458c"/>
                </a:solidFill>
                <a:uFillTx/>
                <a:latin typeface="Tahoma"/>
              </a:rPr>
              <a:t>describe los estados</a:t>
            </a: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 por los que pasa un producto de software, desde su concepción hasta su muerte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5230800" y="2060640"/>
            <a:ext cx="3878280" cy="39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modelo debe ser lo suficientemente flexible como para incorporar el principio de ANTICIPACION AL CAMBI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n lo posible debe utilizarse un desarrollo incremental, con entregas parciales al usuario (modelo evolutivo, incremental o espiral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Para los productos que así lo ameriten, realizar análisis de riesgo (modelo espiral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efinición y Objetivo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5543280" cy="52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a meta de un </a:t>
            </a: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modelo estructurado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 proceso es determinar el 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orden de las etapas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que componen el desarrollo y la evolución de un software, estableciendo los “criterios de transición” para progresar de una etapa a la siguiente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24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os modelos están hechos para contestar las siguientes preguntas en un proyecto de softwar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2404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2" marL="1231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40458c"/>
                </a:solidFill>
                <a:latin typeface="Tahoma"/>
              </a:rPr>
              <a:t>-¿Qué debemos hacer a continuación?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2319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40458c"/>
                </a:solidFill>
                <a:latin typeface="Tahoma"/>
              </a:rPr>
              <a:t>-¿Cuánto tiempo debemos continuar haciéndolo?</a:t>
            </a: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” 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(B.Bohem 1988)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6310440" y="1341360"/>
            <a:ext cx="283356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efinición y Objetivo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5904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458c"/>
                </a:solidFill>
                <a:latin typeface="Tahoma"/>
              </a:rPr>
              <a:t>Beneficios de los modelos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 u="sng">
                <a:solidFill>
                  <a:srgbClr val="40458c"/>
                </a:solidFill>
                <a:uFillTx/>
                <a:latin typeface="Tahoma"/>
              </a:rPr>
              <a:t>Proveen de guías </a:t>
            </a: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a los ingenieros de software, a cerca del orden en el cual deben ser llevadas a cabo las variadas actividades técnicas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 u="sng">
                <a:solidFill>
                  <a:srgbClr val="40458c"/>
                </a:solidFill>
                <a:uFillTx/>
                <a:latin typeface="Tahoma"/>
              </a:rPr>
              <a:t>Dan un marco</a:t>
            </a: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 o estructura para gerenciar, desarrollar y mantener un desarrollo, lo cual nos permite: estimar recursos, definir hitos intermedios y monitorear los progresos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 u="sng">
                <a:solidFill>
                  <a:srgbClr val="40458c"/>
                </a:solidFill>
                <a:uFillTx/>
                <a:latin typeface="Tahoma"/>
              </a:rPr>
              <a:t>Anticipan y controlan el proceso</a:t>
            </a: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 para alcanzar las cualidades deseadas del software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 u="sng">
                <a:solidFill>
                  <a:srgbClr val="40458c"/>
                </a:solidFill>
                <a:uFillTx/>
                <a:latin typeface="Tahoma"/>
              </a:rPr>
              <a:t>Sistematizan el proceso</a:t>
            </a: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 con el uso de estándares, metodologías y herramientas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Permiten la producción de productos </a:t>
            </a:r>
            <a:r>
              <a:rPr b="1" lang="es-ES_tradnl" sz="1800" spc="-1" strike="noStrike">
                <a:solidFill>
                  <a:srgbClr val="40458c"/>
                </a:solidFill>
                <a:latin typeface="Tahoma"/>
              </a:rPr>
              <a:t>confiables, predecibles y eficientes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6588000" y="2060640"/>
            <a:ext cx="2556000" cy="19558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6948360" y="5373720"/>
            <a:ext cx="1871640" cy="135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volución de Model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Modelos o Estrategias de Desarrollo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Code &amp; Fix Model (~1960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Waterfall Model (~1970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Incremental Model (~1985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Transformation Model (~1975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Spiral Model (~1988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Component Model (~1992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RUP (~1997)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WebE (~1998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xtreme Programming (~1998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odelos de Desarrollo de Soft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80550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0458c"/>
                </a:solidFill>
                <a:latin typeface="Arial"/>
              </a:rPr>
              <a:t>No basta con seleccionar un modelo genérico de desarrollo de software y tratar de adaptarse a él. Se requiere una definición más precisa de cómo se llevan a cabo las distintas tare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Modelos de Desarrollo Genéric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aquí caen todos los modelos de desarrollo de software tradicionales: cascada, espiral, prototipos,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presentan una estrategia muy general para efectuar el proceso de desarroll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en la realidad casi nunca es posible efectuar el desarrollo adhiriendo completamente a uno de estos model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odelos de Desarrollo de Soft.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Modelos de Desarrollo Genéric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–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Permiten un entendimiento de tipo general del proceso pero no es fácil llevarlos a un nivel de detalle más fino, lo cual es necesario para guiar el trabajo de los profesional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–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No representan en forma precisa lo que realmente se hac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Modelos de Desarrollo Específic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–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Aparecen las </a:t>
            </a:r>
            <a:r>
              <a:rPr b="0" i="1" lang="es-ES" sz="2000" spc="-1" strike="noStrike">
                <a:solidFill>
                  <a:srgbClr val="40458c"/>
                </a:solidFill>
                <a:latin typeface="Tahoma"/>
              </a:rPr>
              <a:t>actividades mayores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 involucradas en el proces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–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Brindan una especificación precisa del orden entre ell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–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stablecen relaciones entre las diversas tareas, los artefactos producidos en ellas, las personas que las realizan y las herramientas utilizad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–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Usan formalismos gráficos (por ejemplo Redes de Petri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de &amp; Fix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830556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lvl="1" marL="676080" indent="-25992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Usado  en los comienzos de la computación, cuando ésta era una actividad personal y artesan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onsta de 2 etapas: </a:t>
            </a: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codificar, eliminar errores en el códig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Fuente de dificultades y deficienci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2" marL="1040040" indent="-207720" algn="just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Luego de una secuencia de cambios, el código era tan enredado, que eliminar errores era una tarea pesada y muy difícil de realizar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40040" indent="-207720" algn="just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Cuando el desarrollo de sistemas dejó de ser una actividad personal y artesanal,  el  modelo no podía manejar la complejidad de los  sistemas 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40040" indent="-207720" algn="just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No acepta la rotación de personal en un proyect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 una práctica habitual en el desarrollo We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2T17:31:38Z</dcterms:created>
  <dc:creator>Sergio Ochoa</dc:creator>
  <dc:description/>
  <dc:language>en-US</dc:language>
  <cp:lastModifiedBy>Sergio F. Ochoa</cp:lastModifiedBy>
  <cp:lastPrinted>2001-08-08T05:55:09Z</cp:lastPrinted>
  <dcterms:modified xsi:type="dcterms:W3CDTF">2006-08-03T12:20:02Z</dcterms:modified>
  <cp:revision>46</cp:revision>
  <dc:subject/>
  <dc:title>Ingeniería de Software   </dc:title>
</cp:coreProperties>
</file>