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FE98-90AE-43C1-8D78-5D7ED429E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8F91-FCC0-4092-BD56-86407B554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A9BE-92D4-4443-B7BA-E0F194F41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06B0-FC81-4EE9-8BEA-31E697446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8022D-690D-4FC2-B95B-8D7180B78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EC281-F80A-4462-A947-5A64DFFC7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B4DD1-04DC-4B67-BF41-9D9180D91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E845F-2DC8-429B-A3C5-4C0C70749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30622-7359-41EA-8CA8-1EAB712BB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439AA-0F09-4ACF-BD6B-9ACC24F5B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3AC56-5367-4246-8C7E-98D55BCAC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0CCA-33F1-480C-B568-907A44389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4F909-17CA-4E31-B1CF-A75A668CC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0FFF1-C755-437B-95F6-F709C6E8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F83AE-23D8-4E0D-8F47-5E1CDC1B5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B7AE6-BB1A-4D3F-95BF-4E151ADAA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A2DD7-3E86-45EF-9BA8-7656E7AC9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DA4C-437D-4021-8B04-C4BA1458A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5B2D-1802-482C-9CC5-207C0F703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E380-9440-4A3E-B254-13D93F02B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8A2E-E886-4C63-B8CB-D889E7855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8BD5-7897-4AD4-81D8-84ECD1F5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0099-E340-4E0D-8D88-EE7A1DEAC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BB1F-7671-4568-A8E7-98E73B18A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6655F-2021-4AC4-9850-AFAC20783C57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3C05B-06CA-4EF7-B157-4FF07083AB40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617040"/>
            <a:ext cx="795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Haettenschweiler"/>
                <a:ea typeface="Times New Roman"/>
              </a:rPr>
              <a:t>SIMPOSIO SIS 2006 Y TELEMEDICINA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15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0152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ra Giselle Ricur, Oftalmóloga, especialista en telemedicina, Argentin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101520" indent="-10152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s primeras menciones fueron en los 66, (militares, astronautas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01520" indent="-10152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uevo México y Australia tienen los mejores sistemas telemédicos (en Nuevo México, porque ahí se probaban lo que se usaría con los astronauta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01520" indent="-10152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 el mundo se habla de telemedicina más en los foros económicos que en los de salu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01520" indent="-10152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ustentabilidad: Principal preocupación al diseñar un proyecto, la mayoría termina al año o dos, porque se terminaron los fondos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01520" indent="-10152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ideo conferencia con David Balch: uso en teledermatología y en desastr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0152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0152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6248520" y="655308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C50M Prof. Sandra de la Fu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617040"/>
            <a:ext cx="795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Haettenschweiler"/>
                <a:ea typeface="Times New Roman"/>
              </a:rPr>
              <a:t>SIMPOSIO SIS 2006 Y TELEMEDICINA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15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0152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RA, ROSA TANG, NEUROOFTALMÓLOGA, TEXA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101520" indent="-10152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 USA también hay 6-8 meses de espera para operación en cataratas, en Canadá   ¡ 1 año !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01520" indent="-10152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 Texas, el 48% de la población no tiene seguro de salu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01520" indent="-10152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ómo utilizarla en problemas reales y actuales: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0152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Lepra (signos internos, externos, cómo se contagia, cómo se trata)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0152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diarrea en niños  en Perú (Lima: Un solo hospital de niño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1911240" indent="-285480">
              <a:lnSpc>
                <a:spcPct val="11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tos de los 4 grados de turbo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1911240" indent="-285480">
              <a:lnSpc>
                <a:spcPct val="11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pt,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1911240" indent="-285480">
              <a:lnSpc>
                <a:spcPct val="11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stribuir en postas rurales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1911240" indent="-285480">
              <a:lnSpc>
                <a:spcPct val="11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lases a las madr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655308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C50M Prof. Sandra de la Fu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617040"/>
            <a:ext cx="795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Haettenschweiler"/>
                <a:ea typeface="Times New Roman"/>
              </a:rPr>
              <a:t>SIMPOSIO SIS 2006 Y TELEMEDICINA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15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0152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RA, ROSA TANG, Penitenciarías de Texas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101520" indent="-10152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enitenciarias, 180.000 presos, 2,1 billones de US$ gasto anual en salud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01520" indent="-10152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s de 100 cárceles en Texas, 75% tiene videoconferenci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01520" indent="-10152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incipal problema: enfermedades infecciosas VIH, hepatitis  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01520" indent="-10152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ácil contagio porque : no hay examen de ingreso ni aislamient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01520" indent="-10152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 preso no autoriza examen VIH, =&gt; con examen de retina se puede sabe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01520" indent="-10152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 reo debe tener igual salud que el resto, sino, demanda al estado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6248520" y="655308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C50M Prof. Sandra de la Fu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617040"/>
            <a:ext cx="795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Haettenschweiler"/>
                <a:ea typeface="Times New Roman"/>
              </a:rPr>
              <a:t>SIMPOSIO SIS 2006 Y TELEMEDICINA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15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0152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RA, ROSA TA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10152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tes de telemedicina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01520" indent="-10152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 todas las prisiones hay postas médicas, 1 conjuntivitis no diagnosticada, 5 días de viaje en bus (no más de 6 horas diarias, van encadenados), con 3, 6 o 12 guardias, según peligrosidad (12: area roja o condenado a muerte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0152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01520" indent="-10152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 reo pregunta cuándo es su próxima visita, y planifica la fuga. (hoy no se informa fecha próxima visita, y además salen 3 carros de seguridad, y no se sabe en cual va el/los preso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6248520" y="655308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C50M Prof. Sandra de la Fu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617040"/>
            <a:ext cx="795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Haettenschweiler"/>
                <a:ea typeface="Times New Roman"/>
              </a:rPr>
              <a:t>SIMPOSIO SIS 2006 Y TELEMEDICINA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8820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8820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RA, ROSA TANG,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8820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 telemedicina. (programa tiene 12 años en ejecución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88200" indent="-8820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 ahorran 214 millones de US$ al añ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88200" indent="-8820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3.500 prescripciones de medicamentos por día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88200" indent="-8820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 principio, se hacía en vivo, aprox. ½ hora por paciente, caro, complejo,  se perdía la comunicación, el registro médico (ficha) debía llegar por fax, muchas veces el dr. debía esperar que llegara para comenzar…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88200" indent="-8820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y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1662480" indent="-248040">
              <a:lnSpc>
                <a:spcPct val="11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ME en línea,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1662480" indent="-248040">
              <a:lnSpc>
                <a:spcPct val="11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ay enfermeras practitioners (que pueden recetar, lo que alivia el trabajo del dr.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1662480" indent="-248040">
              <a:lnSpc>
                <a:spcPct val="11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n millón de documentos electrónicos de salu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1662480" indent="-248040">
              <a:lnSpc>
                <a:spcPct val="11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.000 usuario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1662480" indent="-248040">
              <a:lnSpc>
                <a:spcPct val="11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 agosto 2006, 3 millones de registro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1662480" indent="-248040">
              <a:lnSpc>
                <a:spcPct val="11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yor uso: medicina general, traumatología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6248520" y="655308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C50M Prof. Sandra de la Fu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617040"/>
            <a:ext cx="795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Haettenschweiler"/>
                <a:ea typeface="Times New Roman"/>
              </a:rPr>
              <a:t>SIMPOSIO SIS 2006 Y TELEMEDICINA : PROBLEMA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15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alta de políticas de pago, debe ser autosustentabl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01520" indent="-10152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ay que considerar costos adicionales (linea de comunicación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01520" indent="-10152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ay pc’s, en hospitales, pero: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1911240" indent="-285480">
              <a:lnSpc>
                <a:spcPct val="11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 usan para otra cos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1911240" indent="-285480">
              <a:lnSpc>
                <a:spcPct val="11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 entran viru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1911240" indent="-285480">
              <a:lnSpc>
                <a:spcPct val="11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 tienen mantencion adecuada (personal especializado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101520" indent="-10152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blemas de hardware, redes, cables, periféricos…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01520" indent="-10152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genda: el paciente no llega, y la hora se pierd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01520" indent="-10152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ersonal: cambian personal especializado, y no resultan las cosa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01520" indent="-10152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 teleconsulta hay más actores presentes, esto le puede afectar al paciente (relación médico-paciente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01520" indent="-10152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 teleconsulta, el médico pierde información fina que obtiene en la atención directa (por ej. Reacciones del paciente, modo de dar la mano,…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6248520" y="655308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C50M Prof. Sandra de la Fu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8T06:03:07Z</dcterms:created>
  <dc:creator>Administrator</dc:creator>
  <dc:description/>
  <dc:language>en-US</dc:language>
  <cp:lastModifiedBy>Cristóbal Muñoz</cp:lastModifiedBy>
  <dcterms:modified xsi:type="dcterms:W3CDTF">2006-09-12T20:48:44Z</dcterms:modified>
  <cp:revision>197</cp:revision>
  <dc:subject/>
  <dc:title>Sin título de diapositiva</dc:title>
</cp:coreProperties>
</file>