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90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D2B3-3CAA-474B-9DF2-410C99A29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9849-6173-49D0-B58F-1C9D2DE4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76C5-8C32-4289-ADFC-CFF9FBCA2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1C00-F770-4D4E-B091-9A29BDA79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4B23-E666-45E4-AC2E-121D194C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7546-6E02-4EA7-9872-9A654322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364D-0ED2-48C1-9CB7-CF5080216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8D9B3-E44E-4D84-87FB-689FFB37A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8DA61-0AFD-4234-9E21-2122212E7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44058-B1D4-463F-B141-32ABF9A47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2AA-1AF0-4B39-B652-AE4FACCF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A60C-5B5E-480E-AD5A-986F8FE1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544A2-F8A0-471B-BFF2-E2656605D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0F2A9-8B54-498B-8C0C-9A9B46C53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09A7F-E8B4-4575-81AF-10E5DF7B2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EECC6-E781-4BF1-933F-56890F21A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00D7D-51A1-4719-BD2F-72A1FDB1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617D-9355-4DB9-B87E-8BD4A085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6E2A4-AADB-4C18-A562-A0E086CD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6A5F-110A-4C19-B280-54CA0933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8596-A1DA-479E-8ED0-AC0C16E2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8067-18B2-4391-B4EC-F08122C2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968BC-FD5E-413A-A33F-5EF96CE01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2715-8534-4171-8FFC-5EC7460D7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2F2-FEA9-462C-B869-3529A852F89A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DFB27-BDCE-4BE6-B5A7-814054089231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 Giselle Ricur, Oftalmóloga, especialista en telemedicina, Argentin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as primeras menciones fueron en los 66, (militares, astronautas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uevo México y Australia tienen los mejores sistemas telemédicos (en Nuevo México, porque ahí se probaban lo que se usaría con los astronauta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el mundo se habla de telemedicina más en los foros económicos que en los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ustentabilidad: Principal preocupación al diseñar un proyecto, la mayoría termina al año o dos, porque se terminaron los fondos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Video conferencia con David Balch: uso en teledermatología y en desastre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NEUROOFTALMÓLOGA, TEXA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USA también hay 6-8 meses de espera para operación en cataratas, en Canadá   ¡ 1 año !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xas, el 48% de la población no tiene seguro de salud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ómo utilizarla en problemas reales y actuales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Lepra (signos internos, externos, cómo se contagia, cómo se trata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 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- diarrea en niños  en Perú (Lima: Un solo hospital de niñ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otos de los 4 grados de turbo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pt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istribuir en postas rurales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lases a las madr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Penitenciarías de Texas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nitenciarias, 180.000 presos, 2,1 billones de US$ gasto anual en salud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s de 100 cárceles en Texas, 75% tiene videoconferencia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incipal problema: enfermedades infecciosas VIH, hepatitis  C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ácil contagio porque : no hay examen de ingreso ni aislamient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preso no autoriza examen VIH, =&gt; con examen de retina se puede saber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debe tener igual salud que el resto, sino, demanda al estado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" dur="500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ntes de telemedicin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odas las prisiones hay postas médicas, 1 conjuntivitis no diagnosticada, 5 días de viaje en bus (no más de 6 horas diarias, van encadenados), con 3, 6 o 12 guardias, según peligrosidad (12: area roja o condenado a muerte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l reo pregunta cuándo es su próxima visita, y planifica la fuga. (hoy no se informa fecha próxima visita, y además salen 3 carros de seguridad, y no se sabe en cual va el/los presos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8820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3333cc"/>
                </a:solidFill>
                <a:latin typeface="Comic Sans MS"/>
                <a:ea typeface="Times New Roman"/>
              </a:rPr>
              <a:t>DRA, ROSA TANG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88200"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Con telemedicina. (programa tiene 12 años en ejecu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ahorran 214 millones de US$ al año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13.500 prescripciones de medicamentos por día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l principio, se hacía en vivo, aprox. ½ hora por paciente, caro, complejo,  se perdía la comunicación, el registro médico (ficha) debía llegar por fax, muchas veces el dr. debía esperar que llegara para comenzar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8200" indent="-8820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oy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RME en línea, 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enfermeras practitioners (que pueden recetar, lo que alivia el trabajo del dr.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Un millón de documentos electrónicos de salu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3.000 usuari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agosto 2006, 3 millones de registro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662480" indent="-24804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Mayor uso: medicina general, traumatología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90720" y="617040"/>
            <a:ext cx="795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333399"/>
                </a:solidFill>
                <a:latin typeface="Haettenschweiler"/>
                <a:ea typeface="Times New Roman"/>
              </a:rPr>
              <a:t>SIMPOSIO SIS 2006 Y TELEMEDICINA : PROBLEMAS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8288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01520" indent="0" algn="just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Falta de políticas de pago, debe ser autosustentabl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que considerar costos adicionales (linea de comunicación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Hay pc’s, en hospitales, pero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usan para otra cos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Le entran viru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1911240" indent="-285480">
              <a:lnSpc>
                <a:spcPct val="110000"/>
              </a:lnSpc>
              <a:spcBef>
                <a:spcPts val="34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No tienen mantencion adecuada (personal especializado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roblemas de hardware, redes, cables, periféricos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Agenda: el paciente no llega, y la hora se pierd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Personal: cambian personal especializado, y no resultan las cosas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 hay más actores presentes, esto le puede afectar al paciente (relación médico-paciente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01520" indent="-101520">
              <a:lnSpc>
                <a:spcPct val="11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n teleconsulta, el médico pierde información fina que obtiene en la atención directa (por ej. Reacciones del paciente, modo de dar la mano,…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6248520" y="6553080"/>
            <a:ext cx="289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CC50M Prof. Sandra de la Fu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8T06:03:07Z</dcterms:created>
  <dc:creator>Administrator</dc:creator>
  <dc:description/>
  <dc:language>en-US</dc:language>
  <cp:lastModifiedBy>Cristóbal Muñoz</cp:lastModifiedBy>
  <dcterms:modified xsi:type="dcterms:W3CDTF">2006-09-12T20:48:44Z</dcterms:modified>
  <cp:revision>197</cp:revision>
  <dc:subject/>
  <dc:title>Sin título de diapositiva</dc:title>
</cp:coreProperties>
</file>