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C51-67C7-422E-851A-6B764771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2B1-165F-4E52-A9E7-15586D43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E71-7FEB-4DDA-8D7E-221E29A6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9E6-5ABF-4AAF-B15A-D2F5A438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0E28-01D8-4A85-92A8-17E22E98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C834-6290-4B6A-BFF7-9C7344F2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1666-5FD4-48DF-AC72-DE942C3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C248-F2B6-4616-BE9A-F87D267D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DB67-FC60-41F7-88B3-77CAE1E3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AF3F-EDC4-4A83-970D-2D9AED6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7B4A-3907-4B3D-8DF4-E51EB36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203-5C4C-47F0-83F5-AC209AEE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879B-5E54-4168-998E-D0A393E4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1ECA-D424-4E16-AD8F-8723BF9C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0250-504E-4049-8B0D-B28854FE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CB9E-053C-41E0-A180-23E9935F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8EB0-1EF7-4C0D-B1C6-012A8711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EC8-550F-48D7-93B1-CD06CCC4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415-2B83-48B4-86CE-DBAE0A61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63A-1D72-4D62-AE43-6908EFA3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805-D40F-4DF4-B227-A148D466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C69-9A04-492B-BAEC-6520C9C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848-C012-476D-9BD3-47FD1C94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779-33EC-4C12-98CB-1A3882C6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13C5-20A3-4A8D-989C-FE400D2B232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DA68-6B23-4B1F-81DD-77B1740DB97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 Giselle Ricur, Oftalmóloga, especialista en telemedicina, Argenti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primeras menciones fueron en los 66, (militares, astronautas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evo México y Australia tienen los mejores sistemas telemédicos (en Nuevo México, porque ahí se probaban lo que se usaría con los astronaut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l mundo se habla de telemedicina más en los foros económicos que en los de 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entabilidad: Principal preocupación al diseñar un proyecto, la mayoría termina al año o dos, porque se terminaron los fondo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 conferencia con David Balch: uso en teledermatología y en desastr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NEUROOFTALMÓLOGA, TEX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SA también hay 6-8 meses de espera para operación en cataratas, en Canadá   ¡ 1 año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xas, el 48% de la población no tiene seguro de 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mo utilizarla en problemas reales y actuales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epra (signos internos, externos, cómo se contagia, cómo se trata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arrea en niños  en Perú (Lima: Un solo hospital de niñ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tos de los 4 grados de turb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t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ir en postas rural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es a las madr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Penitenciarías de Texa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nitenciarias, 180.000 presos, 2,1 billones de US$ gasto anual en salu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s de 100 cárceles en Texas, 75% tiene videoconfer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 problema: enfermedades infecciosas VIH, hepatitis 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ácil contagio porque : no hay examen de ingreso ni aisl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reso no autoriza examen VIH, =&gt; con examen de retina se puede sab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reo debe tener igual salud que el resto, sino, demanda al esta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es de telemedicin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odas las prisiones hay postas médicas, 1 conjuntivitis no diagnosticada, 5 días de viaje en bus (no más de 6 horas diarias, van encadenados), con 3, 6 o 12 guardias, según peligrosidad (12: area roja o condenado a muerte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reo pregunta cuándo es su próxima visita, y planifica la fuga. (hoy no se informa fecha próxima visita, y además salen 3 carros de seguridad, y no se sabe en cual va el/los pres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8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 telemedicina. (programa tiene 12 años en ejecu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horran 214 millones de US$ al añ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3.500 prescripciones de medicamentos por dí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 principio, se hacía en vivo, aprox. ½ hora por paciente, caro, complejo,  se perdía la comunicación, el registro médico (ficha) debía llegar por fax, muchas veces el dr. debía esperar que llegara para comenzar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ME en línea,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enfermeras practitioners (que pueden recetar, lo que alivia el trabajo del dr.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millón de documentos electrónicos de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000 usuari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agosto 2006, 3 millones de regis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or uso: medicina general, traumatologí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 : PROBLEM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lta de políticas de pago, debe ser autosustentab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que considerar costos adicionales (linea de comunic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pc’s, en hospitales, pero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usan para otra co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entran viru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tienen mantencion adecuada (personal especializad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as de hardware, redes, cables, periféricos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enda: el paciente no llega, y la hora se pier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sonal: cambian personal especializado, y no resultan las cos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leconsulta hay más actores presentes, esto le puede afectar al paciente (relación médico-pacien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leconsulta, el médico pierde información fina que obtiene en la atención directa (por ej. Reacciones del paciente, modo de dar la mano,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Cristóbal Muñoz</cp:lastModifiedBy>
  <dcterms:modified xsi:type="dcterms:W3CDTF">2006-09-12T20:48:44Z</dcterms:modified>
  <cp:revision>197</cp:revision>
  <dc:subject/>
  <dc:title>Sin título de diapositiva</dc:title>
</cp:coreProperties>
</file>