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06CC-C9AF-4E18-B59A-A3B9CD0B2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EC5B-8974-44ED-BAF8-429F429E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5BE7-F518-4655-9304-C743E2531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06EA-3AF7-455A-AB19-F5BE74D68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33C1C-C247-412C-9A0B-93E4C01EF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1731-DAC7-49BA-A3EF-67413ECD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986A-FFDB-4F44-8126-A94D81FA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FE29-9ACB-4853-84C0-6598E1B8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2BB20-1FD7-44CA-92D8-B6349F63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B4326-1C18-4105-BC93-F6CCDC21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142EB-5C72-4C3B-91EC-473B6D7D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396B-5D61-4A7A-A2C3-08185599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78E8-2D7A-4D49-B91E-4DF06395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92C2-F8AC-4E7C-BA79-CA0758E2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3E94-89E5-49EB-856B-2E3F4156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2DE7-AEE8-47FF-81C8-575CFF350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0E9A-FEBF-4C6F-8878-FCB1542FA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DF3D-A7D3-4FC7-821B-62C3B5B2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E347-21C5-4DC9-B273-EF6CD17F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E81A-1293-4800-82FB-AA8318BC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E9FF-6DED-4952-9123-CCBDC2D2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95D5-6B4C-4360-B1E8-907C3A01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D512-BF46-4CAD-A468-5933546D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0491-B913-48C8-B569-EF9723AF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8078-8F18-48EB-A4E9-EA32FC26D432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4DC0-CEC2-49B2-8107-70466BB881EC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SIMPOSIO SIS 2006 Y TELEMEDICIN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15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ra Giselle Ricur, Oftalmóloga, especialista en telemedicina, Argentin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s primeras menciones fueron en los 66, (militares, astronautas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uevo México y Australia tienen los mejores sistemas telemédicos (en Nuevo México, porque ahí se probaban lo que se usaría con los astronauta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 el mundo se habla de telemedicina más en los foros económicos que en los de salu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stentabilidad: Principal preocupación al diseñar un proyecto, la mayoría termina al año o dos, porque se terminaron los fondos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ideo conferencia con David Balch: uso en teledermatología y en desastr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SIMPOSIO SIS 2006 Y TELEMEDICIN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15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RA, ROSA TANG, NEUROOFTALMÓLOGA, TEX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 USA también hay 6-8 meses de espera para operación en cataratas, en Canadá   ¡ 1 año 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 Texas, el 48% de la población no tiene seguro de salu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ómo utilizarla en problemas reales y actuales: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Lepra (signos internos, externos, cómo se contagia, cómo se trata)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diarrea en niños  en Perú (Lima: Un solo hospital de niño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11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tos de los 4 grados de turbo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11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pt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11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stribuir en postas rurales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11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es a las madr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SIMPOSIO SIS 2006 Y TELEMEDICIN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15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RA, ROSA TANG, Penitenciarías de Texa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enitenciarias, 180.000 presos, 2,1 billones de US$ gasto anual en salud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s de 100 cárceles en Texas, 75% tiene videoconferenc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ncipal problema: enfermedades infecciosas VIH, hepatitis  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ácil contagio porque : no hay examen de ingreso ni aislamient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preso no autoriza examen VIH, =&gt; con examen de retina se puede sab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reo debe tener igual salud que el resto, sino, demanda al estad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SIMPOSIO SIS 2006 Y TELEMEDICIN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15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RA, ROSA TA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015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tes de telemedicin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 todas las prisiones hay postas médicas, 1 conjuntivitis no diagnosticada, 5 días de viaje en bus (no más de 6 horas diarias, van encadenados), con 3, 6 o 12 guardias, según peligrosidad (12: area roja o condenado a muerte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reo pregunta cuándo es su próxima visita, y planifica la fuga. (hoy no se informa fecha próxima visita, y además salen 3 carros de seguridad, y no se sabe en cual va el/los preso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SIMPOSIO SIS 2006 Y TELEMEDICIN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8820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820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RA, ROSA TANG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882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 telemedicina. (programa tiene 12 años en ejecució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8200" indent="-8820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ahorran 214 millones de US$ al añ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8200" indent="-8820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3.500 prescripciones de medicamentos por dí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8200" indent="-8820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 principio, se hacía en vivo, aprox. ½ hora por paciente, caro, complejo,  se perdía la comunicación, el registro médico (ficha) debía llegar por fax, muchas veces el dr. debía esperar que llegara para comenzar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8200" indent="-8820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y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662480" indent="-248040">
              <a:lnSpc>
                <a:spcPct val="11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ME en línea,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662480" indent="-248040">
              <a:lnSpc>
                <a:spcPct val="11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y enfermeras practitioners (que pueden recetar, lo que alivia el trabajo del dr.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662480" indent="-248040">
              <a:lnSpc>
                <a:spcPct val="11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 millón de documentos electrónicos de salu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662480" indent="-248040">
              <a:lnSpc>
                <a:spcPct val="11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.000 usuari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662480" indent="-248040">
              <a:lnSpc>
                <a:spcPct val="11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 agosto 2006, 3 millones de registr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662480" indent="-248040">
              <a:lnSpc>
                <a:spcPct val="11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yor uso: medicina general, traumatología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SIMPOSIO SIS 2006 Y TELEMEDICINA : PROBLEMA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15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alta de políticas de pago, debe ser autosustentabl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y que considerar costos adicionales (linea de comunicació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y pc’s, en hospitales, pero: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11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usan para otra cos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11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 entran viru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11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 tienen mantencion adecuada (personal especializado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blemas de hardware, redes, cables, periféricos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genda: el paciente no llega, y la hora se pierd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ersonal: cambian personal especializado, y no resultan las cosa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 teleconsulta hay más actores presentes, esto le puede afectar al paciente (relación médico-pacient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 teleconsulta, el médico pierde información fina que obtiene en la atención directa (por ej. Reacciones del paciente, modo de dar la mano,…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8T06:03:07Z</dcterms:created>
  <dc:creator>Administrator</dc:creator>
  <dc:description/>
  <dc:language>en-US</dc:language>
  <cp:lastModifiedBy>Cristóbal Muñoz</cp:lastModifiedBy>
  <dcterms:modified xsi:type="dcterms:W3CDTF">2006-09-12T20:48:44Z</dcterms:modified>
  <cp:revision>197</cp:revision>
  <dc:subject/>
  <dc:title>Sin título de diapositiva</dc:title>
</cp:coreProperties>
</file>