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B72-832C-44BD-8019-19660238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4D5-6D0A-4277-8C67-EE6AF0EB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B5F-DF64-407C-A381-E0B17DD3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C54-BB2C-417F-9557-2CDCA2B1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5E8A-CCB0-4E48-A804-25D92933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128E-069F-441A-B326-A2BDF935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0925-D428-47FA-AB3F-56DA9FA9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2B7E-AE1B-418F-8242-6854FCBA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E81E-5C5C-4435-8500-01F4771E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E27E-C582-4FDE-87AB-F21C39B1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1664-2FF0-436D-842A-C679CB35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D1A-6C3C-43E2-AEB8-9FBAE4D0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D845-128C-41FB-97B9-79A3AECD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AE2D-4B3D-4542-9AD1-999BE0E4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4BED-70E0-49C1-84E8-519D833A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39EB-EDC6-4C20-88AD-8D8E6740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4B37-8134-4D10-A756-C43112F8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40A-B87B-46C0-8C26-4C0284E0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C24-DB3E-4919-B715-E77982FD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3C2-2320-40BA-A5B5-1CDCAE1D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7DE-9321-4241-B722-D33A9196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E77-60BD-478B-8A83-1BF2A94A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F7F-0782-4E3A-8301-26DC5071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B00-326E-4C12-B3AD-4AF1924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86D8-DB08-4B99-A9C4-F4A46FCADF10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869F-71EE-4074-A6D7-0A094445DE23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spositivos móviles en medicina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Guillermo Wer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ituación actu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Los dispositivos actuales de sanidad-m permiten vigilar continuamente el pulso y la presión sanguínea de un individuo, así como detectar trastornos respiratori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Vigilancia continua de las funciones del corazón y del cerebr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álisis de sangre esporádicamente, y transmitir los resultados a un supervisor (un médico, una base de datos o un sistema de diagnóstico automatizado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vigilancia continua del contenido sanguíneo, así como la toma de imágenes médicas en tiempo re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óxima etap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eaeaea"/>
                </a:solidFill>
                <a:latin typeface="Arial"/>
              </a:rPr>
              <a:t>La próxima etapa en el desarrollo de la sanidad-m supondrá probablemente un uso más generalizado de sistemas de bajo coste, con menos participación directa de los profesionales médicos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(Automatizar proceso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Reducción del tiempo de espera al socorro para pacientes que se mueven al az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muestra la reducción estimada del tiempo necesario para que llegue la asistencia, cuando se utilizan sistemas de diagnóstico móviles</a:t>
            </a: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Los usuarios actuales de la sanidad-m aprecian en general la libertad de movimientos que les proporciona, y también que les permite evitar los largos y estresantes reconocimientos médic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A medida que los sistemas de sanidad-m asuman más funciones de decisión, se necesitarán salvaguardas para garantizar que las decisiones difíciles se someten a profesionales médicos cualificad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A medida que los operadores de comunicaciones móviles manejen mayores volúmenes de datos médicos, será necesario proteger la información contra la revelación, accidental o deliberada, a tercer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análisis costo-beneficio de la sanidad móvil preventiva es aún más directo, ya que la prevención es más barata también en la medicina tradicional y que las aplicaciones de la sanidad-m preventiva se pueden estandarizar y dirigir mejor hacia la obtención de datos no intrusiv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mentar el mercado potencial de los sistemas de comunicaciones móvil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jemplo aplicaciones pal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124000" y="1628640"/>
          <a:ext cx="3811680" cy="45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28640"/>
                    <a:ext cx="381168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148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urse ‘s pocket drug gu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rresponde a una guía con toda las  drogas utilizadas en enfermería en donde se explica su administración y efectos secundari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" descr="Nurse's Pocket Drug Guide 2005"/>
          <p:cNvPicPr/>
          <p:nvPr/>
        </p:nvPicPr>
        <p:blipFill>
          <a:blip r:embed="rId1"/>
          <a:stretch/>
        </p:blipFill>
        <p:spPr>
          <a:xfrm>
            <a:off x="684360" y="4365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413000"/>
            <a:ext cx="72849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Biometric Weight Manag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ermite controlar peso , calculando la cantidad de calorías consumida en alimentos y  determinando la cantidad de calorías que se queman según actividad físic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276720" y="4005360"/>
          <a:ext cx="2286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00536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puede utilizar bien para mejorar la calidad general de la asistencia sanitaria, proporcionando una fuente inmediata y fiable de asistencia médica, bien como un sustitutivo barato de los servicios médicos, o bien como un servicio de valor añadido que pagan los abonados a teléfonos móviles en sus recibos mensual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e las desigualdades en el acceso a los servicios de asistencia sanitaria, haciéndolos disponibles a distancia y gratuitamente o a bajo cost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Dispositivos móvi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elula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plicaciones se basan en envío de información, para que un equipo o sistema realice diagnóstico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al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plicaciones enfocadas a procesar información , o realizar consulta en diccionario de dat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podría llevar a una reacción del sistema de asistencia sanitaria para defender sus intereses económicos (la asistencia sanitaria consume hasta el 20 % del PIB en los países desarrollados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desarrollo de la sanidad móvil exigirá la armonización con la evolución general de la asistencia sanitari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anidad móv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La sanidad-m se refiere a la vigilancia del estado de salud y a proporcionar tratamiento a personas que no están en una localización determinada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lemedic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centra en la transferencia de datos médicos, especialmente de imágene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lev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ambio relación atención 1:1 médico pacie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ificación entre asistencia médica profesional y “medicina en casa”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mento en el número de actos méd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tomatización de diagnóst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ambios en políticas de salu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lasificación de sistem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gún las características de la fuente y el destino de la información médica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supervisor (médico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médic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édico a médic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édico a sistema expert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sistema médico CRM (gestión de pacientes e intervenciones médica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lasificación de sistem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gún el grupo objetiv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pacientes de hospitales (es decir, que se mueven dentro de límites espaciales estrictos y prescrito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personas sanas (sanidad-m preventiva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enfermos crónicos o personas vulnerabl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squema dispositivo móv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rupo objeti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on aquellas personas que busquen 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agnóstico rápido para determinar acción a seguir (Utilización de inyección nitroglicerin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igilancia constante de estado de salud (pilotos ,GPS, Adultos mayor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rapia independiente de la localiz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Principales enfermedades que demandan utilización dispositivos móvi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nfermedades cardiovasculares, especialmente las que suponen riesgo de ataque cardíac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s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8:42:50Z</dcterms:created>
  <dc:creator>gwerner</dc:creator>
  <dc:description/>
  <dc:language>en-US</dc:language>
  <cp:lastModifiedBy>gwerner</cp:lastModifiedBy>
  <dcterms:modified xsi:type="dcterms:W3CDTF">2006-11-07T20:44:31Z</dcterms:modified>
  <cp:revision>5</cp:revision>
  <dc:subject/>
  <dc:title>Dispositivos móviles en medicin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