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5B6-F7B7-46E3-8B20-9C1DD0E4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880B-0CEF-4263-B6BF-0A930B7C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9D7E-4873-4B5D-AB0A-D5E21AB2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DF2-6B1D-47A1-92E4-14C6F0DF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B979-5B25-40F2-A606-C54254BD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1A3-8471-45D7-8ECD-C0003162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0BC5-AB88-49DB-A9DF-4C678655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C36E-BB85-4FDB-BAD0-0F78A6B5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011B-7FF8-4DE1-8B28-11FE129E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E493-D82B-4701-9ED0-25248232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360DE-5368-4359-8E27-3ECA37F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4EA1-A84E-4F3E-A2C8-857C596A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FB27-1AE4-41C6-B783-548F03A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56DA-4B32-47E3-8309-7082C23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3DDC-5A3F-49FB-A93D-5811318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81E9-94D2-4864-B3EA-0F276AE4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C3F-11AC-4B55-93E5-3BDE650A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B65-6265-4AD7-BADF-48FFDBCC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09F4-87BA-4C96-B1FA-9663518D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18B-29F8-4836-92CB-FE009BE2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D2B-5757-4118-B177-7307D7F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E3F-4578-4CB5-B7B1-D7410E24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08B0-6D7D-4B1E-8AE6-BA63ABB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FD5-F60B-46BE-B583-3FD0DE27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CCFF-3B60-4673-87EA-EBE899E6CCD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2F23-2FDC-49F0-BE37-8187722F0A3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spositivos móviles en medicina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Guillermo Wern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ituación actu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dispositivos actuales de sanidad-m permiten vigilar continuamente el pulso y la presión sanguínea de un individuo, así como detectar trastornos respiratori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Vigilancia continua de las funciones del corazón y del cerebro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nálisis de sangre esporádicamente, y transmitir los resultados a un supervisor (un médico, una base de datos o un sistema de diagnóstico automatizado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vigilancia continua del contenido sanguíneo, así como la toma de imágenes médicas en tiempo re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óxima etap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La próxima etapa en el desarrollo de la sanidad-m supondrá probablemente un uso más generalizado de sistemas de bajo coste, con menos participación directa de los profesionales médicos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(Automatizar proces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Reducción del tiempo de espera al socorro para pacientes que se mueven al a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ecff"/>
                </a:solidFill>
                <a:latin typeface="Arial"/>
              </a:rPr>
              <a:t>muestra la reducción estimada del tiempo necesario para que llegue la asistencia, cuando se utilizan sistemas de diagnóstico móviles</a:t>
            </a: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Los usuarios actuales de la sanidad-m aprecian en general la libertad de movimientos que les proporciona, y también que les permite evitar los largos y estresantes reconocimientos médic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sistemas de sanidad-m asuman más funciones de decisión, se necesitarán salvaguardas para garantizar que las decisiones difíciles se someten a profesionales médicos cualificad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A medida que los operadores de comunicaciones móviles manejen mayores volúmenes de datos médicos, será necesario proteger la información contra la revelación, accidental o deliberada, a tercer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mplic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análisis costo-beneficio de la sanidad móvil preventiva es aún más directo, ya que la prevención es más barata también en la medicina tradicional y que las aplicaciones de la sanidad-m preventiva se pueden estandarizar y dirigir mejor hacia la obtención de datos no intrusiv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ar el mercado potencial de los sistemas de comunicaciones móvil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jemplo aplicaciones pal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124000" y="1628640"/>
          <a:ext cx="381168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8640"/>
                    <a:ext cx="381168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14860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urse ‘s pocket drug gu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orresponde a una guía con toda las  drogas utilizadas en enfermería en donde se explica su administración y efectos secundario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7" name="" descr="Nurse's Pocket Drug Guide 2005"/>
          <p:cNvPicPr/>
          <p:nvPr/>
        </p:nvPicPr>
        <p:blipFill>
          <a:blip r:embed="rId1"/>
          <a:stretch/>
        </p:blipFill>
        <p:spPr>
          <a:xfrm>
            <a:off x="684360" y="4365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413000"/>
            <a:ext cx="728496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Biometric Weight Manag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ermite controlar peso , calculando la cantidad de calorías consumida en alimentos y  determinando la cantidad de calorías que se queman según actividad físic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76720" y="4005360"/>
          <a:ext cx="2286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4005360"/>
                    <a:ext cx="2286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puede utilizar bien para mejorar la calidad general de la asistencia sanitaria, proporcionando una fuente inmediata y fiable de asistencia médica, bien como un sustitutivo barato de los servicios médicos, o bien como un servicio de valor añadido que pagan los abonados a teléfonos móviles en sus recibos mensual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e las desigualdades en el acceso a los servicios de asistencia sanitaria, haciéndolos disponibles a distancia y gratuitamente o a bajo cos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Dispositivos móvi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elula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plicaciones se basan en envío de información, para que un equipo o sistema realice diagnóstico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al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plicaciones enfocadas a procesar información , o realizar consulta en diccionario de dato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Arial"/>
              </a:rPr>
              <a:t>¿Preguntas?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podría llevar a una reacción del sistema de asistencia sanitaria para defender sus intereses económicos (la asistencia sanitaria consume hasta el 20 % del PIB en los países desarrollados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l desarrollo de la sanidad móvil exigirá la armonización con la evolución general de la asistencia sanitaria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ncept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anidad móvi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La sanidad-m se refiere a la vigilancia del estado de salud y a proporcionar tratamiento a personas que no están en una localización determinada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lemedic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 centra en la transferencia de datos médicos, especialmente de imáge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levan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 relación atención 1:1 médico pacie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ificación entre asistencia médica profesional y “medicina en casa”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mento en el número de actos méd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utomatización de diagnóst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Cambios en políticas de salu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las características de la fuente y el destino de la información médic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upervisor (médico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médic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édico a sistema expert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aciente a sistema médico CRM (gestión de pacientes e intervenciones médica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lasificación de sistem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egún el grupo objetiv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acientes de hospitales (es decir, que se mueven dentro de límites espaciales estrictos y prescrito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personas sanas (sanidad-m preventiva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anidad-m para enfermos crónicos o personas vulnerabl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Esquema dispositivo móv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rupo objetiv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on aquellas personas que busquen 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gnóstico rápido para determinar acción a seguir (Utilización de inyección nitroglicerina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igilancia constante de estado de salud (pilotos ,GPS, Adultos mayore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erapia independiente de la localiza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Principales enfermedades que demandan utilización dispositivos móvi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nfermedades cardiovasculares, especialmente las que suponen riesgo de ataque cardíac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abe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s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8:42:50Z</dcterms:created>
  <dc:creator>gwerner</dc:creator>
  <dc:description/>
  <dc:language>en-US</dc:language>
  <cp:lastModifiedBy>gwerner</cp:lastModifiedBy>
  <dcterms:modified xsi:type="dcterms:W3CDTF">2006-11-07T20:44:31Z</dcterms:modified>
  <cp:revision>5</cp:revision>
  <dc:subject/>
  <dc:title>Dispositivos móviles en medicin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