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7F7-D454-4D37-810A-1E9A69F9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55F-FCAD-4FF3-97F4-428458CA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6EF-2CCA-46F7-91FB-E1347E3F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182-88CC-4390-9350-153A0F2E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B41B-74C9-4FE0-9B3C-C0FE9E8A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1AFF-852A-4BED-BF04-D42C1397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65E5-728B-4CFC-84C2-677A456F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CCCD-8AAA-4C30-8FF9-001730A4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8622-7692-4EFC-8E81-ADBC0A0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9EBB-B252-4473-916C-0481B16B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B655-46C0-4625-92AD-A610ED36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296-0E33-40DA-9B02-4466AA8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A052-4757-44DF-B717-F58AC73C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8100-A815-4540-962C-CB26611E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7CBC-F0C6-4275-AA83-D9C89707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7B92-4BFD-40EC-A5DD-CF328052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AC25-D0BE-4802-A275-4919474C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AF5-08CA-4202-BE27-4A52345F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89C-1FE8-49B3-AE52-319553DE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98B-DD43-407F-AD7B-B555E647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EC6-9F78-4976-A424-61AA9512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200-D1D3-4C1F-A3F3-ED6E131F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E1A-480E-466D-8E08-A552185E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1FE-D62D-4291-903B-BB4F522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0BA1-D5FA-454E-B906-B4DF8697D252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06D6-2C53-48A8-9B92-F5F3C3C8113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spositivos móviles en medicin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Guillermo Wer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ituación actu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Los dispositivos actuales de sanidad-m permiten vigilar continuamente el pulso y la presión sanguínea de un individuo, así como detectar trastornos respiratori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Vigilancia continua de las funciones del corazón y del cerebr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álisis de sangre esporádicamente, y transmitir los resultados a un supervisor (un médico, una base de datos o un sistema de diagnóstico automatizado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vigilancia continua del contenido sanguíneo, así como la toma de imágenes médicas en tiempo re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óxima etap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Arial"/>
              </a:rPr>
              <a:t>La próxima etapa en el desarrollo de la sanidad-m supondrá probablemente un uso más generalizado de sistemas de bajo coste, con menos participación directa de los profesionales médicos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(Automatizar proceso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Reducción del tiempo de espera al socorro para pacientes que se mueven al az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muestra la reducción estimada del tiempo necesario para que llegue la asistencia, cuando se utilizan sistemas de diagnóstico móviles</a:t>
            </a: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Los usuarios actuales de la sanidad-m aprecian en general la libertad de movimientos que les proporciona, y también que les permite evitar los largos y estresantes reconocimientos médic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A medida que los sistemas de sanidad-m asuman más funciones de decisión, se necesitarán salvaguardas para garantizar que las decisiones difíciles se someten a profesionales médicos cualificad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A medida que los operadores de comunicaciones móviles manejen mayores volúmenes de datos médicos, será necesario proteger la información contra la revelación, accidental o deliberada, a tercer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análisis costo-beneficio de la sanidad móvil preventiva es aún más directo, ya que la prevención es más barata también en la medicina tradicional y que las aplicaciones de la sanidad-m preventiva se pueden estandarizar y dirigir mejor hacia la obtención de datos no intrusiv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mentar el mercado potencial de los sistemas de comunicaciones móvil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jemplo aplicaciones pal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124000" y="1628640"/>
          <a:ext cx="3811680" cy="45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28640"/>
                    <a:ext cx="381168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48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urse ‘s pocket drug gu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rresponde a una guía con toda las  drogas utilizadas en enfermería en donde se explica su administración y efectos secundari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Nurse's Pocket Drug Guide 2005"/>
          <p:cNvPicPr/>
          <p:nvPr/>
        </p:nvPicPr>
        <p:blipFill>
          <a:blip r:embed="rId1"/>
          <a:stretch/>
        </p:blipFill>
        <p:spPr>
          <a:xfrm>
            <a:off x="684360" y="4365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413000"/>
            <a:ext cx="72849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iometric Weight Manag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ermite controlar peso , calculando la cantidad de calorías consumida en alimentos y  determinando la cantidad de calorías que se queman según actividad físic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76720" y="4005360"/>
          <a:ext cx="2286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00536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puede utilizar bien para mejorar la calidad general de la asistencia sanitaria, proporcionando una fuente inmediata y fiable de asistencia médica, bien como un sustitutivo barato de los servicios médicos, o bien como un servicio de valor añadido que pagan los abonados a teléfonos móviles en sus recibos mensual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e las desigualdades en el acceso a los servicios de asistencia sanitaria, haciéndolos disponibles a distancia y gratuitamente o a bajo cost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Dispositivos móvi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elula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plicaciones se basan en envío de información, para que un equipo o sistema realice diagnóstico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plicaciones enfocadas a procesar información , o realizar consulta en diccionario de dat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podría llevar a una reacción del sistema de asistencia sanitaria para defender sus intereses económicos (la asistencia sanitaria consume hasta el 20 % del PIB en los países desarrollados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desarrollo de la sanidad móvil exigirá la armonización con la evolución general de la asistencia sanitari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anidad móv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La sanidad-m se refiere a la vigilancia del estado de salud y a proporcionar tratamiento a personas que no están en una localización determinada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lemedic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centra en la transferencia de datos médicos, especialmente de imáge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lev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mbio relación atención 1:1 médico pacie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ificación entre asistencia médica profesional y “medicina en casa”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mento en el número de actos méd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tomatización de diagnóst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mbios en políticas de salu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lasificación de sistem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gún las características de la fuente y el destino de la información médic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supervisor (médico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médic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édico a médic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édico a sistema expert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sistema médico CRM (gestión de pacientes e intervenciones médica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lasificación de sistem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gún el grupo objetiv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pacientes de hospitales (es decir, que se mueven dentro de límites espaciales estrictos y prescrito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personas sanas (sanidad-m preventiva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enfermos crónicos o personas vulnerabl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squema dispositivo móv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rupo obje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on aquellas personas que busquen 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agnóstico rápido para determinar acción a seguir (Utilización de inyección nitroglicerin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igilancia constante de estado de salud (pilotos ,GPS, Adultos mayor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rapia independiente de la localiz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incipales enfermedades que demandan utilización dispositivos móvi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nfermedades cardiovasculares, especialmente las que suponen riesgo de ataque cardíac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s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8:42:50Z</dcterms:created>
  <dc:creator>gwerner</dc:creator>
  <dc:description/>
  <dc:language>en-US</dc:language>
  <cp:lastModifiedBy>gwerner</cp:lastModifiedBy>
  <dcterms:modified xsi:type="dcterms:W3CDTF">2006-11-07T20:44:31Z</dcterms:modified>
  <cp:revision>5</cp:revision>
  <dc:subject/>
  <dc:title>Dispositivos móviles en medicin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