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8F3-AF68-468F-87F5-5869F1AE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5BA-9209-4810-91E7-156548DE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A3F-2E42-4934-A0A0-6B2B30CE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30A-9D0A-4A4D-BA04-D22AC5AC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5CD-256E-4680-8595-2667A821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5DB2-4379-411E-9DF8-45AC381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8747-D7B2-4A68-8D20-E0490D28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C683-830D-4674-8E41-A36EB7E6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4E94-C70D-41A7-A2A7-ADB360B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E406-05FD-44E8-9AC1-9BF82694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3276-448A-4C7E-9795-4994C16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AE3-1673-4F45-AB98-D8443E3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BEB-4BC3-45B6-92A7-F4DDD2C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72C-EE85-4EC7-A1E9-E8F77D4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DB58-93BF-439D-A508-979F3A7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4D2-AD3C-4B65-B5F7-B09230E4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A09-DA1D-4E47-9B39-247BD3B1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F10-1CC3-4886-90B6-C5CA3925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553-2D84-44CB-8C23-7E4FCF81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D8B-44DB-439C-B35A-273A6DBB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2CF-1E30-4DD2-AF6C-DFAF0552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93B-8562-4AB9-A40F-928CB8F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F21-F940-4EFD-892F-96F1366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97C-ABBB-4258-8843-BBC21CB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DFF1-426F-4A10-A8DD-E846F226AB2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9BE8-809F-4D6D-979E-9235FF0993A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spositivos móviles en medicin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Guillermo Wer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ituación actu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dispositivos actuales de sanidad-m permiten vigilar continuamente el pulso y la presión sanguínea de un individuo, así como detectar trastornos respiratori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Vigilancia continua de las funciones del corazón y del cerebr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álisis de sangre esporádicamente, y transmitir los resultados a un supervisor (un médico, una base de datos o un sistema de diagnóstico automatizado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vigilancia continua del contenido sanguíneo, así como la toma de imágenes médicas en tiempo re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óxima etap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La próxima etapa en el desarrollo de la sanidad-m supondrá probablemente un uso más generalizado de sistemas de bajo coste, con menos participación directa de los profesionales médicos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(Automatizar proces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Reducción del tiempo de espera al socorro para pacientes que se mueven al a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muestra la reducción estimada del tiempo necesario para que llegue la asistencia, cuando se utilizan sistemas de diagnóstico móviles</a:t>
            </a: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usuarios actuales de la sanidad-m aprecian en general la libertad de movimientos que les proporciona, y también que les permite evitar los largos y estresantes reconocimientos médic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sistemas de sanidad-m asuman más funciones de decisión, se necesitarán salvaguardas para garantizar que las decisiones difíciles se someten a profesionales médicos cualificad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operadores de comunicaciones móviles manejen mayores volúmenes de datos médicos, será necesario proteger la información contra la revelación, accidental o deliberada, a tercer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análisis costo-beneficio de la sanidad móvil preventiva es aún más directo, ya que la prevención es más barata también en la medicina tradicional y que las aplicaciones de la sanidad-m preventiva se pueden estandarizar y dirigir mejor hacia la obtención de datos no intrusiv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ar el mercado potencial de los sistemas de comunicaciones móvil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jemplo aplicaciones pal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124000" y="1628640"/>
          <a:ext cx="381168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8640"/>
                    <a:ext cx="381168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48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urse ‘s pocket drug gu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responde a una guía con toda las  drogas utilizadas en enfermería en donde se explica su administración y efectos secund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Nurse's Pocket Drug Guide 2005"/>
          <p:cNvPicPr/>
          <p:nvPr/>
        </p:nvPicPr>
        <p:blipFill>
          <a:blip r:embed="rId1"/>
          <a:stretch/>
        </p:blipFill>
        <p:spPr>
          <a:xfrm>
            <a:off x="684360" y="4365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413000"/>
            <a:ext cx="72849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iometric Weight Manag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ermite controlar peso , calculando la cantidad de calorías consumida en alimentos y  determinando la cantidad de calorías que se queman según actividad físic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76720" y="4005360"/>
          <a:ext cx="228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0536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puede utilizar bien para mejorar la calidad general de la asistencia sanitaria, proporcionando una fuente inmediata y fiable de asistencia médica, bien como un sustitutivo barato de los servicios médicos, o bien como un servicio de valor añadido que pagan los abonados a teléfonos móviles en sus recibos mensual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e las desigualdades en el acceso a los servicios de asistencia sanitaria, haciéndolos disponibles a distancia y gratuitamente o a bajo cos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Dispositivos móv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elu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plicaciones se basan en envío de información, para que un equipo o sistema realice diagnóstico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plicaciones enfocadas a procesar información , o realizar consulta en diccionario de dat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podría llevar a una reacción del sistema de asistencia sanitaria para defender sus intereses económicos (la asistencia sanitaria consume hasta el 20 % del PIB en los países desarrollados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desarrollo de la sanidad móvil exigirá la armonización con la evolución general de la asistencia sanitari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nidad móv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La sanidad-m se refiere a la vigilancia del estado de salud y a proporcionar tratamiento a personas que no están en una localización determinada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le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entra en la transferencia de datos médicos, especialmente de imáge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lev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 relación atención 1:1 médico paci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ificación entre asistencia médica profesional y “medicina en casa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o en el número de actos méd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tomatización de diagnóst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s en políticas de salu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las características de la fuente y el destino de la información médic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upervisor (médico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sistema exper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istema médico CRM (gestión de pacientes e intervenciones médica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el grupo objetiv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acientes de hospitales (es decir, que se mueven dentro de límites espaciales estrictos y prescrito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ersonas sanas (sanidad-m preventiva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enfermos crónicos o personas vulnerab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squema dispositivo móv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rupo 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n aquellas personas que busquen 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gnóstico rápido para determinar acción a seguir (Utilización de inyección nitrogliceri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igilancia constante de estado de salud (pilotos ,GPS, Adultos mayor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apia independiente de la localiz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incipales enfermedades que demandan utilización dispositivos móvi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nfermedades cardiovasculares, especialmente las que suponen riesgo de ataque cardíac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s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42:50Z</dcterms:created>
  <dc:creator>gwerner</dc:creator>
  <dc:description/>
  <dc:language>en-US</dc:language>
  <cp:lastModifiedBy>gwerner</cp:lastModifiedBy>
  <dcterms:modified xsi:type="dcterms:W3CDTF">2006-11-07T20:44:31Z</dcterms:modified>
  <cp:revision>5</cp:revision>
  <dc:subject/>
  <dc:title>Dispositivos móviles en medicin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