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EDE-6FA9-4F48-9120-C4093F8E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525-7ABF-4449-8A97-6C174D64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D06-0458-4ED0-8184-DA0A7B71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D20-1EA8-46DA-9B29-4038CB2F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CF52-92F8-4F9D-B50D-5FACF217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6387-155C-4BC9-8C36-1555CDB7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FB4A-21B9-496D-A0CD-1D19FF12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8B45-305F-4D0D-AC6D-DF55F25D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75D4-2A78-4C11-B52D-59135D7D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391A-FA30-420C-BFFC-56956B99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0F6B-47C8-4E40-A1E0-A4EB61B9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9EE-4613-45F5-BC0D-33E399FF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A1A2-37CC-4E34-9808-4CDC8A0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BA29-80C3-46E6-AFEF-158DE205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46E-C834-431D-8C16-62AE948E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72E0-4C25-42A1-B763-9BA8201B0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B786-C003-4D0B-B14E-5A65473D2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2BA-6116-4101-B7ED-4472A5157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525C-E6FC-4949-A9C6-459794C5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620-8B23-405D-BF33-FC346053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2562-95DB-4E80-B543-E55BB48F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C81-3815-428C-832B-1C78E241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69B-8AB1-447E-8E0A-4087ED1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0424-B722-46B3-874A-85AA3C60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5721480" y="6267600"/>
            <a:ext cx="901440" cy="5140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71B5-6349-4486-810B-CC7200ADE7B7}" type="slidenum">
              <a:rPr b="1" lang="en-US" sz="2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7" name="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106668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533520"/>
            <a:ext cx="53352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106668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33520"/>
            <a:ext cx="53352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0"/>
            <a:ext cx="53316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70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5721480" y="6267600"/>
            <a:ext cx="901440" cy="5140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9D5C-6476-458A-8A44-93F9326636ED}" type="slidenum">
              <a:rPr b="1" lang="en-US" sz="2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00040" y="10663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Simulación Méd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9966"/>
                </a:solidFill>
                <a:latin typeface="Tahoma"/>
              </a:rPr>
              <a:t>Juan Daniel Canales S.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9966"/>
                </a:solidFill>
                <a:latin typeface="Tahoma"/>
              </a:rPr>
              <a:t>Informática Médica CC50M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Categorías de Simulado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Primera (Anatomí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mulando formas, superficies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rfología y volumen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6194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50" name="Animating_body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13716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Segunda (Fís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mulando formas, superficies,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orfología y volu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0" y="2666880"/>
            <a:ext cx="39052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ahoma"/>
              </a:rPr>
              <a:t>Tercera (Físiológic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élulas sanguíneas, patologías, células de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ígado, órganos, etc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heart_2_b_crop" descr=""/>
          <p:cNvPicPr/>
          <p:nvPr/>
        </p:nvPicPr>
        <p:blipFill>
          <a:blip r:embed="rId1"/>
          <a:stretch/>
        </p:blipFill>
        <p:spPr>
          <a:xfrm>
            <a:off x="3171960" y="1136520"/>
            <a:ext cx="28000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Modelación 3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A través de secuencias de imágenes en 2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T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Computed Tomography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RI (Magnetic Resonance Imaging)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4800600"/>
            <a:ext cx="5610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he Society for Simulation in Healthca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ttp://ssih.org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desde 2004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¿Pregunta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du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ntrenamiento</a:t>
            </a:r>
            <a:br>
              <a:rPr sz="2800"/>
            </a:b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(preoperatori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3759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Simulación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Un ejercicio diseñado a imitar una situación de la vida real en donde el “principiante” tiene la oportunidad de razonar a través de un problema clínico y realizar un diagnóstico y decisiones de tratamiento en tiempo real sin temor de algún tipo de compromiso hacia el paci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ffff"/>
                </a:solidFill>
                <a:uFillTx/>
                <a:latin typeface="Tahoma"/>
              </a:rPr>
              <a:t>Simulador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máquina computarizada, con algunas de las siguientes característica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stema realista que permite al usuario relacionarse con equipos estándar( (monitores, elementos de intubación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armacología y fisiología de alta definición (incluye documentación e información sobre temas específic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na voz para imitar un encuentro más realista con el paci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ffffff"/>
                </a:solidFill>
                <a:uFillTx/>
                <a:latin typeface="Tahoma"/>
              </a:rPr>
              <a:t>Haptic: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istema que permite emular sensaciones de fuerzas que permiten un realismo más avanz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ad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n procedimientos de simulación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0400" y="4657680"/>
            <a:ext cx="304812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71560" y="10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71560" y="1052640"/>
            <a:ext cx="5600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Objetivos/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señar en un ambiente real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ilidad de repetir secuencias comu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gresión de resultados fisiológicos basado en las intervenciones del usu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s eventos ocurren en tiempo re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 hay riesgo involucrado, especialmente en eventos de vida o muer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Objetivos/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rmite autonomía incluso para usuarios no experimen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ventos infrecuentes se pueden reproducir (ej: shock anafi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tic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últiples posibles escenarios para desastres simu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isminuye la curva de aprendizaje y aumenta el entusiasmo por apr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ahoma"/>
              </a:rPr>
              <a:t>Principales Desventaj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 de equip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sto de desarro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676520" y="457200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334120" y="4495680"/>
            <a:ext cx="13842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3:10:23Z</dcterms:created>
  <dc:creator>Juan Daniel</dc:creator>
  <dc:description/>
  <dc:language>en-US</dc:language>
  <cp:lastModifiedBy>Juan Daniel</cp:lastModifiedBy>
  <dcterms:modified xsi:type="dcterms:W3CDTF">2006-11-07T01:55:21Z</dcterms:modified>
  <cp:revision>20</cp:revision>
  <dc:subject/>
  <dc:title>Simulación Médica</dc:title>
</cp:coreProperties>
</file>