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8B4-1937-4008-9F39-7208D938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8F3-53DA-4356-8E26-C449E60E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EC1-A691-4539-83E2-33592780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30C-6545-41F0-A648-6812BBB2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516B-B465-438C-841D-E0B512A2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708B-355D-45CF-A783-44BACBBB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7CF3-EE7A-4137-A861-5A715B4D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D73C-EA03-4111-9732-37917F37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424A-5EC9-4100-AC3C-EE97D1BF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7E56-3011-43D6-88A8-259A9EC3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F67D-6670-4C9E-95BF-BEF1A68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5B0-07A3-4026-8667-066FD220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1437-C98F-4519-A976-E5E7BE29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E312-0204-4D20-AD87-7013978E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A1FF-2B65-432C-9747-4AA9561B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7515-2BCA-49E4-8C23-B68C6343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1B08-0778-4BD7-B442-D42E66D4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250-EFD3-4311-8413-E21B9C2B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B96-4B05-4F10-819A-F28DC49C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FEE-6C1B-4CF9-ABA0-A5261C80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C35-476D-4AAB-8F91-84ED00B9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051-8E2F-4724-AA74-892AAA4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EC9-54FE-4239-A330-F16EFC7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87B-F50A-4697-BFB7-589C0E87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5721480" y="6267600"/>
            <a:ext cx="901440" cy="5140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B1B7-2526-40ED-AD83-8976C71B3A97}" type="slidenum">
              <a:rPr b="1" lang="en-US" sz="2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7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53316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33520"/>
            <a:ext cx="53352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066680"/>
            <a:ext cx="53316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33520"/>
            <a:ext cx="53352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0"/>
            <a:ext cx="53316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70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5721480" y="6267600"/>
            <a:ext cx="901440" cy="5140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20D0-B175-4F02-BCC2-89DB2841EB13}" type="slidenum">
              <a:rPr b="1" lang="en-US" sz="2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00040" y="10663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Simulación Méd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9966"/>
                </a:solidFill>
                <a:latin typeface="Tahoma"/>
              </a:rPr>
              <a:t>Juan Daniel Canales S.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9966"/>
                </a:solidFill>
                <a:latin typeface="Tahoma"/>
              </a:rPr>
              <a:t>Informática Médica CC50M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Categorías de Simulado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ahoma"/>
              </a:rPr>
              <a:t>Primera (Anatom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mulando formas, superficies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rfología y volume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0" name="Animating_body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1371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ahoma"/>
              </a:rPr>
              <a:t>Segunda (Físic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mulando formas, superficies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rfología y volu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3905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ahoma"/>
              </a:rPr>
              <a:t>Tercera (Físiológic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élulas sanguíneas, patologías, células del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ígado, órganos, etc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heart_2_b_crop" descr=""/>
          <p:cNvPicPr/>
          <p:nvPr/>
        </p:nvPicPr>
        <p:blipFill>
          <a:blip r:embed="rId1"/>
          <a:stretch/>
        </p:blipFill>
        <p:spPr>
          <a:xfrm>
            <a:off x="3171960" y="1136520"/>
            <a:ext cx="28000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Modelación 3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 través de secuencias de imágenes en 2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T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(Computed Tomography)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RI (Magnetic Resonance Imaging)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5610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The Society for Simulation in Healthcar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ttp://ssih.org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desde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Pregunta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du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trenamiento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preoperator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3759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ahoma"/>
              </a:rPr>
              <a:t>Simulación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Un ejercicio diseñado a imitar una situación de la vida real en donde el “principiante” tiene la oportunidad de razonar a través de un problema clínico y realizar un diagnóstico y decisiones de tratamiento en tiempo real sin temor de algún tipo de compromiso hacia 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Simulador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máquina computarizada, con algunas de las siguientes característic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stema realista que permite al usuario relacionarse con equipos estándar( (monitores, elementos de intubación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armacología y fisiología de alta definición (incluye documentación e información sobre temas específic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voz para imitar un encuentro más realista con el pac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ahoma"/>
              </a:rPr>
              <a:t>Haptic: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istema que permite emular sensaciones de fuerzas que permiten un realismo más avanz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en procedimientos de simulació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4657680"/>
            <a:ext cx="3048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715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71560" y="1052640"/>
            <a:ext cx="5600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Objetivos/Ventaj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señar en un ambiente rea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ilidad de repetir secuencias comu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esión de resultados fisiológicos basado en las intervenciones del usu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s eventos ocurren en tiempo r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hay riesgo involucrado, especialmente en eventos de vida o muer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Objetivos/Ventaj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rmite autonomía incluso para usuarios no experimen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ventos infrecuentes se pueden reproducir (ej: shock anafi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tic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últiples posibles escenarios para desastres simu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isminuye la curva de aprendizaje y aumenta el entusiasmo por apre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Principales Desventaj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 de equip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 de desarro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457200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138420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3:10:23Z</dcterms:created>
  <dc:creator>Juan Daniel</dc:creator>
  <dc:description/>
  <dc:language>en-US</dc:language>
  <cp:lastModifiedBy>Juan Daniel</cp:lastModifiedBy>
  <dcterms:modified xsi:type="dcterms:W3CDTF">2006-11-07T01:55:21Z</dcterms:modified>
  <cp:revision>20</cp:revision>
  <dc:subject/>
  <dc:title>Simulación Médica</dc:title>
</cp:coreProperties>
</file>