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C22-6955-4AEC-A564-4488CED3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717-F605-4236-9645-8D1D66D8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B26-50CD-4BB8-829B-A72F960F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EA2-5653-4AAB-928C-15BFD1F2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B595-0BB8-4BF4-B328-C7B4ED37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C114-6362-40DE-B50F-E97295F5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F118-85A5-4EE3-8429-5CF8817E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C4D5-02D1-415F-9323-1B6F6DAE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7F3F-5DC9-4F51-A5FE-51CEC825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A9BF-8440-4878-9F05-35E8BF5C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16B1-2994-48D2-974F-DC8E3DEC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6C7-6A19-4A4A-BF4F-D09108FB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704F-AF90-42BF-A211-D172DB34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7A23-6030-4CF0-8D48-50B29894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798C-07E0-420B-82C9-A555EAA8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7099-B604-4879-8F2C-510EBBA0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38E4-650E-4F3F-8AAE-14E30AA4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37A-C1CD-4A5A-9330-684D79A0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F48-3F0C-43B5-AE9D-DEA5A844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1CF4-D7DF-4A2B-9189-C9F0C0EF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449-562D-4482-9B63-109B0E50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2E8-5842-479A-BB5A-E7D8A2DE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BF7-FF79-4077-A79F-7B637017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7E4-ED5A-4D9E-A1A7-693DC49B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5721480" y="6267600"/>
            <a:ext cx="901440" cy="5140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FDE2-DC52-4DAC-B970-620E5554C851}" type="slidenum">
              <a:rPr b="1" lang="en-US" sz="2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7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106668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53316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33520"/>
            <a:ext cx="53352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1066680"/>
            <a:ext cx="53316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33520"/>
            <a:ext cx="53352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0"/>
            <a:ext cx="53316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70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5721480" y="6267600"/>
            <a:ext cx="901440" cy="5140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738E-A00F-4A9A-AA4D-49DBEBC6D258}" type="slidenum">
              <a:rPr b="1" lang="en-US" sz="2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00040" y="10663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Simulación Méd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9966"/>
                </a:solidFill>
                <a:latin typeface="Tahoma"/>
              </a:rPr>
              <a:t>Juan Daniel Canales S.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9966"/>
                </a:solidFill>
                <a:latin typeface="Tahoma"/>
              </a:rPr>
              <a:t>Informática Médica CC50M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Categorías de Simulado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ahoma"/>
              </a:rPr>
              <a:t>Primera (Anatomí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mulando formas, superficies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orfología y volume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769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50" name="Animating_body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13716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ahoma"/>
              </a:rPr>
              <a:t>Segunda (Físic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mulando formas, superficies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orfología y volu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3905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ahoma"/>
              </a:rPr>
              <a:t>Tercera (Físiológic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élulas sanguíneas, patologías, células del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ígado, órganos, etc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heart_2_b_crop" descr=""/>
          <p:cNvPicPr/>
          <p:nvPr/>
        </p:nvPicPr>
        <p:blipFill>
          <a:blip r:embed="rId1"/>
          <a:stretch/>
        </p:blipFill>
        <p:spPr>
          <a:xfrm>
            <a:off x="3171960" y="1136520"/>
            <a:ext cx="28000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Modelación 3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 través de secuencias de imágenes en 2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T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(Computed Tomography)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RI (Magnetic Resonance Imaging)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3880" y="4800600"/>
            <a:ext cx="5610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The Society for Simulation in Healthcar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ttp://ssih.org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(desde 200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¿Pregunta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du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trenamiento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(preoperatori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3759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Defini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Tahoma"/>
              </a:rPr>
              <a:t>Simulación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Un ejercicio diseñado a imitar una situación de la vida real en donde el “principiante” tiene la oportunidad de razonar a través de un problema clínico y realizar un diagnóstico y decisiones de tratamiento en tiempo real sin temor de algún tipo de compromiso hacia 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Simulador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a máquina computarizada, con algunas de las siguientes característic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stema realista que permite al usuario relacionarse con equipos estándar( (monitores, elementos de intubación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armacología y fisiología de alta definición (incluye documentación e información sobre temas específic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a voz para imitar un encuentro más realista con el pac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Tahoma"/>
              </a:rPr>
              <a:t>Haptic: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Sistema que permite emular sensaciones de fuerzas que permiten un realismo más avanz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ad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en procedimientos de simulación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0400" y="4657680"/>
            <a:ext cx="30481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7715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71560" y="1052640"/>
            <a:ext cx="5600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Objetivos/Ventaj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señar en un ambiente rea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cilidad de repetir secuencias comu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esión de resultados fisiológicos basado en las intervenciones del usu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s eventos ocurren en tiempo re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hay riesgo involucrado, especialmente en eventos de vida o muer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Objetivos/Ventaj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ermite autonomía incluso para usuarios no experimen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ventos infrecuentes se pueden reproducir (ej: shock anafi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tic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últiples posibles escenarios para desastres simu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isminuye la curva de aprendizaje y aumenta el entusiasmo por apre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Principales Desventaj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sto de equip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sto de desarro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76520" y="457200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34120" y="4495680"/>
            <a:ext cx="138420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3:10:23Z</dcterms:created>
  <dc:creator>Juan Daniel</dc:creator>
  <dc:description/>
  <dc:language>en-US</dc:language>
  <cp:lastModifiedBy>Juan Daniel</cp:lastModifiedBy>
  <dcterms:modified xsi:type="dcterms:W3CDTF">2006-11-07T01:55:21Z</dcterms:modified>
  <cp:revision>20</cp:revision>
  <dc:subject/>
  <dc:title>Simulación Médica</dc:title>
</cp:coreProperties>
</file>