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9EA-667C-4A0D-812B-EF2D08C2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459-226F-4D86-B5AA-0800280E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462-4276-4AA3-8E6B-4269FAF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3CC-AA1A-4B6E-96AE-28CDCF5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9F8C-4DBE-4A47-95B4-7E861538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DE89-9782-4C3D-9A4D-A2F3CF5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0D0-E123-4A92-B1CA-3F30B7D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967E-C615-47C6-882B-E498F0D1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A89F-9B22-401F-B4B4-AEA76BF9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B8CC-FF96-4F99-8A34-E6B74B20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99B8-82EB-4B82-88B4-DA4B13A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F2F-D0F3-4F89-A3CD-5C680797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A7F1-3687-41BA-8091-D0B3C7A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172E-6973-470E-9A9B-6086D2A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3410-0617-47C8-84E8-98A5464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E494-8EE0-4E67-8480-50707D03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919-CF6A-4578-8997-78D5891B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AD3-3428-4A6F-8732-6290C9A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78F-21DF-4AF5-996A-9862FFB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D66-4CC5-4C7D-9B78-A30D5D3B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A85-B8A3-443F-A89F-45BDB1DC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C98-7231-4F4D-BDD7-268BCD7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B5D-74EF-4BE1-B3A4-FC113E8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13E-82B0-4F5E-9DB3-582E92F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7C3D-398A-465F-98A5-1374F7F75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1B2-D509-48CE-A4F6-7D8DC6B68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tándares d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unicació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ática Médica - Primavera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isco Javier Casals 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clusion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bliografí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sentación Clement McDonald en CTIS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rae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regenstrief.org/loinc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hl7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ansi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ww.bioco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¿“Estándar”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irve como tipo, modelo, norma, patrón o referencia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ipo, modelo, patrón, nivel. (ra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cificación, protocolo. (+ técn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en Sal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faculty.washington.edu/ocarroll/infrmatc/database/data/player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más estánda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5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L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xml) (última version: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COM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igital Imaging and Communications in Medicine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jpe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INC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Logical Observation Identifier Names and Codes) (última versión: 2.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D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“Clinical Data Architecture” para HL7) (no es un estándar propiaemente t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M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menclatura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L7”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quiere decir “Health Level Seven” y es una organización sin fines de lucro*, de participación voluntaria involucrada en el desarrollo de estándares Internacionales para la 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reditada por el AN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érmino “HL7”  también es usado para referirse a algún Standard específico creado por la organización (ejemplos: HL7 v2.x, v3.0, HL7 RIM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HL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to de mens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mensaje se compone de diversas líneas, cada una de las cuales representa un segmento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os de Datos de longitud variable, separados por caracteres espe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57240" y="4070520"/>
          <a:ext cx="8007480" cy="20253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34960"/>
                <a:gridCol w="533520"/>
                <a:gridCol w="533160"/>
                <a:gridCol w="533520"/>
                <a:gridCol w="533520"/>
                <a:gridCol w="531720"/>
                <a:gridCol w="533520"/>
                <a:gridCol w="533160"/>
                <a:gridCol w="533520"/>
                <a:gridCol w="536760"/>
                <a:gridCol w="534960"/>
                <a:gridCol w="536400"/>
                <a:gridCol w="530280"/>
              </a:tblGrid>
              <a:tr h="103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LOIN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se de datos con nombres y códigos estandarizados para la identificación de resultados de laboratorio, observaciones clínicas y observaciones de estudios diagnós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      Facilitar la organización e intercambi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.      Unificar la identificación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      Organización para el intercambio de mensajes por HL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      Sólo identificar el resul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      Relacionarlo con Vocabularios: SNO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SNOM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e aurcdo con una ivanitesigoin de una uinrvesradid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ignlsea, no ipomtra en que odren las lrteas de un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lrabaa etsan, la úncia csoa iprotmatne es que l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iremra y la útmlia lrteas etsen en el lgaur cectorro. El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rseto pedue ser una ttaol doslepete que vos pdoes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eer sin pobrlmea. Etso es poqrue no lemeos cdaa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rtea ailasada, snio la plrabaa cmoo un tdo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guaje médico contro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 de la mano con LOIN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 DIC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estándar para el manejo, almacenamiento, impresión y transmisión de información relativa a medicina de imagen. Incluye un formato de archivo y un protocolo de transmisión para trabajo en redes TCP/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ándares y el Libro Azu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la XML sobre HL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ne una arquitectura de 3 cap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ción de establecimientos a una plataforma de serv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427640" cy="33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4365720"/>
            <a:ext cx="287964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35:42Z</dcterms:created>
  <dc:creator>Francisco Javier Casals O.</dc:creator>
  <dc:description/>
  <dc:language>en-US</dc:language>
  <cp:lastModifiedBy>Sandra de la Fuente</cp:lastModifiedBy>
  <dcterms:modified xsi:type="dcterms:W3CDTF">2006-11-14T01:06:34Z</dcterms:modified>
  <cp:revision>5</cp:revision>
  <dc:subject/>
  <dc:title>Diapositiva 1</dc:title>
</cp:coreProperties>
</file>