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5A6-4BB9-4944-871B-8516C60F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4B4-8CC7-4C9D-A209-A7CD3394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E07-F237-43BB-8D72-2D56E1D7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EFB-EBED-41AA-B719-1E451617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7FD0-893F-4102-949A-69078BBD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8423-E1CD-4BC7-BEC6-E21134E8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3113-1DFA-4958-AD17-95919D9F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0272-14F1-4520-A7A9-9140538F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7BE6-F201-4E68-899C-2D964491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BC7A-BEF5-4865-9338-FDD4F33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9EA4-85EC-49E9-8662-756D5283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DA2-B92F-4869-AFFF-B0E5B058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524D-EFAD-42A5-8C7D-F58EC8D1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D720-CA7A-4994-8CCF-4568C429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391D-2D7F-4B58-8B59-F1FAD25B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A38C-FD21-4EFA-A1C5-E10C0F73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0143-47AE-48E9-BE39-E8883124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AD8-1ABD-414E-B631-5CBB2010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AB5-92D7-40A3-A449-286908E1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517-ED10-43A1-97D1-E91A1243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0D0-44DF-4CF4-9647-ABD8D018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0F4-9336-4AF5-856A-FC2FADCF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1D5-55C2-49F2-B5C9-2F02A9C1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CD0-3F34-42C0-A9BA-4548FFF5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BC78-4258-4D67-A5A9-057135AD6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0473-35CD-4618-80F5-D714D2A5F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stándares de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unicació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ática Médica - Primavera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cisco Javier Casals 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clusion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bliografí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sentación Clement McDonald en CTIS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rae.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regenstrief.org/loinc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hl7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ansi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biocom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¿“Estándar”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irve como tipo, modelo, norma, patrón o referencia. (ra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ipo, modelo, patrón, nivel. (ra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ecificación, protocolo. (+ técn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7720" y="4070520"/>
            <a:ext cx="8007480" cy="20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en Salu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faculty.washington.edu/ocarroll/infrmatc/database/data/player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es más estánda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5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L7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xml) (última version: 3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OM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igital Imaging and Communications in Medicine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jpe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INC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Logical Observation Identifier Names and Codes) (última versión: 2.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D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“Clinical Data Architecture” para HL7) (no es un estándar propiaemente t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OM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menclatura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L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L7”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quiere decir “Health Level Seven” y es una organización sin fines de lucro*, de participación voluntaria involucrada en el desarrollo de estándares Internacionales para la 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reditada por el AN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término “HL7”  también es usado para referirse a algún Standard específico creado por la organización (ejemplos: HL7 v2.x, v3.0, HL7 RIM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HL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to de mens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mensaje se compone de diversas líneas, cada una de las cuales representa un segmento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os de Datos de longitud variable, separados por caracteres espe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57240" y="4070520"/>
          <a:ext cx="8007480" cy="202536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34960"/>
                <a:gridCol w="533520"/>
                <a:gridCol w="533160"/>
                <a:gridCol w="533520"/>
                <a:gridCol w="533520"/>
                <a:gridCol w="531720"/>
                <a:gridCol w="533520"/>
                <a:gridCol w="533160"/>
                <a:gridCol w="533520"/>
                <a:gridCol w="536760"/>
                <a:gridCol w="534960"/>
                <a:gridCol w="536400"/>
                <a:gridCol w="530280"/>
              </a:tblGrid>
              <a:tr h="1033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LOIN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se de datos con nombres y códigos estandarizados para la identificación de resultados de laboratorio, observaciones clínicas y observaciones de estudios diagnós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      Facilitar la organización e intercambi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.      Unificar la identificación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.      Organización para el intercambio de mensajes por HL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.      Sólo identificar el resul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.      Relacionarlo con Vocabularios: SNO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SNOM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De aurcdo con una ivanitesigoin de una uinrvesradid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ignlsea, no ipomtra en que odren las lrteas de un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lrabaa etsan, la úncia csoa iprotmatne es que l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iremra y la útmlia lrteas etsen en el lgaur cectorro. El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rseto pedue ser una ttaol doslepete que vos pdoes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eer sin pobrlmea. Etso es poqrue no lemeos cda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rtea ailasada, snio la plrabaa cmoo un tdo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guaje médico control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 de la mano con LOIN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DICO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estándar para el manejo, almacenamiento, impresión y transmisión de información relativa a medicina de imagen. Incluye un formato de archivo y un protocolo de transmisión para trabajo en redes TCP/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es y el Libro Azu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mpla XML sobre HL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ne una arquitectura de 3 cap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ción de establecimientos a una plataforma de servi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4427640" cy="338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92720" y="4365720"/>
            <a:ext cx="287964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8:35:42Z</dcterms:created>
  <dc:creator>Francisco Javier Casals O.</dc:creator>
  <dc:description/>
  <dc:language>en-US</dc:language>
  <cp:lastModifiedBy>Sandra de la Fuente</cp:lastModifiedBy>
  <dcterms:modified xsi:type="dcterms:W3CDTF">2006-11-14T01:06:34Z</dcterms:modified>
  <cp:revision>5</cp:revision>
  <dc:subject/>
  <dc:title>Diapositiva 1</dc:title>
</cp:coreProperties>
</file>