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759-7EB2-472E-A04F-FB64D16F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A2A-C9EA-401C-9310-3FA479E3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DDA-087C-466F-B78F-5F386DA9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841-7CA3-40F4-A3A7-EB049D47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06BA-7079-4EC9-A037-864277A7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4117-51C8-4839-929C-161E688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1193-0066-42E4-8C82-3AAD3DED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6798-3B73-453D-BC05-561A4AA5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598D-897A-4E61-A8A3-9058567C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5D6E-4350-4E17-A82C-ACB9A9EB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CE6B-7346-4A18-9131-33875A9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CBD-92A7-468C-A698-56FB3955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EDA9-8EF0-4C46-BDB9-17E85E0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D480-F1EE-4B63-B8ED-1F357B71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5DF0-6372-41F4-8B88-8D66A095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47DF-2F10-4206-ADFB-C608968E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6C36-E9A7-42C8-BA03-4D68D1B7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909-B75A-4B3D-9DDF-544B9B3D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C83-4021-4D93-B81A-46528201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3A9-3CC1-48A0-830D-B31F66F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17C-3274-451A-B397-0D014CE1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867-64F2-443E-94B5-454AF750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D87-CD59-4E81-A291-C7621AC2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243-C047-43B2-BA7D-E92801D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4BA7-9638-49AE-85E7-FEBB494A8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454F-5340-4ADB-9750-4C76CADD0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stándares de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unicació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ática Médica - Primavera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cisco Javier Casals 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clusion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bliografí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sentación Clement McDonald en CTIS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rae.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regenstrief.org/loinc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hl7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ansi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biocom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¿“Estándar”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irve como tipo, modelo, norma, patrón o referencia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ipo, modelo, patrón, nivel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ecificación, protocolo. (+ técn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en Salu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faculty.washington.edu/ocarroll/infrmatc/database/data/player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más estánda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5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L7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xml) (última version: 3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OM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igital Imaging and Communications in Medicine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jpe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INC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Logical Observation Identifier Names and Codes) (última versión: 2.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D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“Clinical Data Architecture” para HL7) (no es un estándar propiaemente t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M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menclatura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L7”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quiere decir “Health Level Seven” y es una organización sin fines de lucro*, de participación voluntaria involucrada en el desarrollo de estándares Internacionales para la 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reditada por el AN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érmino “HL7”  también es usado para referirse a algún Standard específico creado por la organización (ejemplos: HL7 v2.x, v3.0, HL7 RIM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to de mens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mensaje se compone de diversas líneas, cada una de las cuales representa un segmento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os de Datos de longitud variable, separados por caracteres espe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57240" y="4070520"/>
          <a:ext cx="8007480" cy="202536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34960"/>
                <a:gridCol w="533520"/>
                <a:gridCol w="533160"/>
                <a:gridCol w="533520"/>
                <a:gridCol w="533520"/>
                <a:gridCol w="531720"/>
                <a:gridCol w="533520"/>
                <a:gridCol w="533160"/>
                <a:gridCol w="533520"/>
                <a:gridCol w="536760"/>
                <a:gridCol w="534960"/>
                <a:gridCol w="536400"/>
                <a:gridCol w="530280"/>
              </a:tblGrid>
              <a:tr h="1033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LOIN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se de datos con nombres y códigos estandarizados para la identificación de resultados de laboratorio, observaciones clínicas y observaciones de estudios diagnós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      Facilitar la organización e intercambi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.      Unificar la identificación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.      Organización para el intercambio de mensajes por HL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.      Sólo identificar el resul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      Relacionarlo con Vocabularios: SNO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SNOM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e aurcdo con una ivanitesigoin de una uinrvesradid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ignlsea, no ipomtra en que odren las lrteas de un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lrabaa etsan, la úncia csoa iprotmatne es que l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iremra y la útmlia lrteas etsen en el lgaur cectorro. El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rseto pedue ser una ttaol doslepete que vos pdoes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eer sin pobrlmea. Etso es poqrue no lemeos cda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rtea ailasada, snio la plrabaa cmoo un tdo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guaje médico control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 de la mano con LOIN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DICO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estándar para el manejo, almacenamiento, impresión y transmisión de información relativa a medicina de imagen. Incluye un formato de archivo y un protocolo de transmisión para trabajo en redes TCP/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y el Libro Azu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mpla XML sobre HL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ne una arquitectura de 3 cap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ción de establecimientos a una plataforma de servi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4427640" cy="338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2720" y="4365720"/>
            <a:ext cx="287964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8:35:42Z</dcterms:created>
  <dc:creator>Francisco Javier Casals O.</dc:creator>
  <dc:description/>
  <dc:language>en-US</dc:language>
  <cp:lastModifiedBy>Sandra de la Fuente</cp:lastModifiedBy>
  <dcterms:modified xsi:type="dcterms:W3CDTF">2006-11-14T01:06:34Z</dcterms:modified>
  <cp:revision>5</cp:revision>
  <dc:subject/>
  <dc:title>Diapositiva 1</dc:title>
</cp:coreProperties>
</file>