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0F92-A56C-4B6D-BB0E-E62C8B985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351A-EED6-4987-BF51-78B320F70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0DDF-95E1-4370-9BFE-92FDC0390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A00B-6713-4249-81F4-2C9560D31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36A36-E9F3-4884-8B7E-F5D9896F0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A7CDE-B65B-403F-8473-5ED634642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E2B7C-0E29-425C-A373-A5DDFEE7D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DB05C-7B5E-471B-875C-F37F7E23D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990E1-93E3-4B5C-9AF8-02F9ADC80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8D852-48B2-4833-A553-39F31F37B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9CC7D-967D-4171-AD34-1D0ED94B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E359-B765-45A7-9993-12D27A1DE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315CC-1BD0-419B-BFFF-092021021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254DC-A161-4F0A-A17F-779B85CD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66F6D-0346-443E-B024-682556495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C9F6E-C2CE-439E-B781-CC0F04169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C45EE-167A-464B-8756-9F2396F4A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3825-C914-46EF-9327-778F63C05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463F-4861-4ADF-B468-C26579253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995E-37ED-49D5-8C1B-7209C64A1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06F0-71A7-47C0-B529-BFB12B24F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342A-A9D3-4CE2-9C6B-EC442974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6D5A-CDF5-4707-94DA-CB8B80522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3A47-58BA-4332-8306-691C64845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C2555-BABF-48B1-B836-67442100A0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8954A-201B-49D7-8FB7-1A0A4D3B66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wikipedia.org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Estándares de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omunicación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ormática Médica - Primavera 200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ancisco Javier Casals 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onclusione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gunt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ibliografí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www.wikipedia.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resentación Clement McDonald en CTIS 200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www.rae.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http://www.regenstrief.org/loinc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www.hl7.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www.ansi.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www.biocom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¿“Estándar”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20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Que sirve como tipo, modelo, norma, patrón o referencia. (ra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ipo, modelo, patrón, nivel. (ra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pecificación, protocolo. (+ técnic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37720" y="4070520"/>
            <a:ext cx="8007480" cy="20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ándares en Salu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ttp://faculty.washington.edu/ocarroll/infrmatc/database/data/players.ht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stándares más estándar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85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HL7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(xml) (última version: 3.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ICOM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(Digital Imaging and Communications in Medicine)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(jpe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OINC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(Logical Observation Identifier Names and Codes) (última versión: 2.17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DA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(“Clinical Data Architecture” para HL7) (no es un estándar propiaemente ta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NOME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nomenclatura)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HL7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HL7”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quiere decir “Health Level Seven” y es una organización sin fines de lucro*, de participación voluntaria involucrada en el desarrollo de estándares Internacionales para la Salu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creditada por el AN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1652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término “HL7”  también es usado para referirse a algún Standard específico creado por la organización (ejemplos: HL7 v2.x, v3.0, HL7 RIM etc.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stándar HL7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20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Formato de mensa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 mensaje se compone de diversas líneas, cada una de las cuales representa un segmento.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mpos de Datos de longitud variable, separados por caracteres especial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957240" y="4070520"/>
          <a:ext cx="8007480" cy="2025360"/>
        </p:xfrm>
        <a:graphic>
          <a:graphicData uri="http://schemas.openxmlformats.org/drawingml/2006/table">
            <a:tbl>
              <a:tblPr/>
              <a:tblGrid>
                <a:gridCol w="534960"/>
                <a:gridCol w="533520"/>
                <a:gridCol w="534960"/>
                <a:gridCol w="533520"/>
                <a:gridCol w="533160"/>
                <a:gridCol w="533520"/>
                <a:gridCol w="533520"/>
                <a:gridCol w="531720"/>
                <a:gridCol w="533520"/>
                <a:gridCol w="533160"/>
                <a:gridCol w="533520"/>
                <a:gridCol w="536760"/>
                <a:gridCol w="534960"/>
                <a:gridCol w="536400"/>
                <a:gridCol w="530280"/>
              </a:tblGrid>
              <a:tr h="10332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E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E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E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E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E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E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92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D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D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D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D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686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stándar LOINC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Base de datos con nombres y códigos estandarizados para la identificación de resultados de laboratorio, observaciones clínicas y observaciones de estudios diagnóst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.      Facilitar la organización e intercambio de result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2.      Unificar la identificación de result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3.      Organización para el intercambio de mensajes por HL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4.      Sólo identificar el result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5.      Relacionarlo con Vocabularios: SNOM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686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stándar SNOME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De aurcdo con una ivanitesigoin de una uinrvesradid</a:t>
            </a:r>
            <a:br>
              <a:rPr sz="2400"/>
            </a:b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ignlsea, no ipomtra en que odren las lrteas de una</a:t>
            </a:r>
            <a:br>
              <a:rPr sz="2400"/>
            </a:b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plrabaa etsan, la úncia csoa iprotmatne es que la</a:t>
            </a:r>
            <a:br>
              <a:rPr sz="2400"/>
            </a:b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piremra y la útmlia lrteas etsen en el lgaur cectorro. El</a:t>
            </a:r>
            <a:br>
              <a:rPr sz="2400"/>
            </a:b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rseto pedue ser una ttaol doslepete que vos pdoes</a:t>
            </a:r>
            <a:br>
              <a:rPr sz="2400"/>
            </a:b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leer sin pobrlmea. Etso es poqrue no lemeos cdaa</a:t>
            </a:r>
            <a:br>
              <a:rPr sz="2400"/>
            </a:b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lrtea ailasada, snio la plrabaa cmoo un tdoo.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eguaje médico control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rabaja de la mano con LOIN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stándar DICOM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un estándar para el manejo, almacenamiento, impresión y transmisión de información relativa a medicina de imagen. Incluye un formato de archivo y un protocolo de transmisión para trabajo en redes TCP/IP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stándares y el Libro Azu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empla XML sobre HL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pone una arquitectura de 3 cap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gración de establecimientos a una plataforma de servici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716360" y="1916280"/>
            <a:ext cx="4427640" cy="33858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292720" y="4365720"/>
            <a:ext cx="2879640" cy="358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2T18:35:42Z</dcterms:created>
  <dc:creator>Francisco Javier Casals O.</dc:creator>
  <dc:description/>
  <dc:language>en-US</dc:language>
  <cp:lastModifiedBy>Sandra de la Fuente</cp:lastModifiedBy>
  <dcterms:modified xsi:type="dcterms:W3CDTF">2006-11-14T01:06:34Z</dcterms:modified>
  <cp:revision>5</cp:revision>
  <dc:subject/>
  <dc:title>Diapositiva 1</dc:title>
</cp:coreProperties>
</file>