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B40-4A48-42F1-8615-29A886F1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7D8-8461-4FEB-B183-E2A9F5CA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EA6-78F8-4B6A-A957-2DBEF33F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407-D5F4-43BA-BAC9-819DBBB0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9F6B-AFDA-426E-AA9F-5DF2AEB1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AA59-C441-4478-8FA7-F507F35E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C3BE-DD2F-48B4-8A4B-28EA5F50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F039-20A0-444B-A7D6-37BD07CB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D7D4-7029-46F9-8627-94978988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721A-D67D-41CB-981B-EF707ABF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EE8E-232C-499E-9BDD-DDC80FF6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E38-036C-4D64-8218-66FDBC40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DE87-70BE-4C19-8904-6DDEBE1C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38B3-2EF8-4F2F-8E61-18A3D671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2967-EB48-4FFF-A3BF-11859703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6183-64EF-43FE-9FFF-8597C61C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6ED9-065A-42AD-8E1A-ADA48CAA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A3A-7709-4022-9E9A-6CB1563E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ADB-7186-4796-BDAA-FC031A9E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AA2-1401-4B1C-9AEE-5C2C318F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11F-761F-44F4-B7B4-39F56827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DEA-DDF5-4583-80D1-713AB43E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7693-DF50-494E-B235-264C63F7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EACF-AA82-4D75-9BDA-AD5D3919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0EE6-B8CF-4346-B101-59B6640E1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91C3-1B0C-468D-9D85-88AEB9ABF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stándares de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unicació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ática Médica - Primavera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ncisco Javier Casals 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nclusion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bliografí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wikipedi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esentación Clement McDonald en CTIS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rae.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ttp://www.regenstrief.org/loinc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hl7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ansi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biocom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¿“Estándar”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sirve como tipo, modelo, norma, patrón o referencia. (ra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ipo, modelo, patrón, nivel. (ra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pecificación, protocolo. (+ técnic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7720" y="4070520"/>
            <a:ext cx="8007480" cy="20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en Salu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faculty.washington.edu/ocarroll/infrmatc/database/data/players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es más estándar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5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L7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xml) (última version: 3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COM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igital Imaging and Communications in Medicine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jpe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INC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Logical Observation Identifier Names and Codes) (última versión: 2.1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D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“Clinical Data Architecture” para HL7) (no es un estándar propiaemente t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OM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omenclatura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L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L7”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quiere decir “Health Level Seven” y es una organización sin fines de lucro*, de participación voluntaria involucrada en el desarrollo de estándares Internacionales para la Sal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reditada por el AN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término “HL7”  también es usado para referirse a algún Standard específico creado por la organización (ejemplos: HL7 v2.x, v3.0, HL7 RIM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HL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to de mensa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mensaje se compone de diversas líneas, cada una de las cuales representa un segmento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pos de Datos de longitud variable, separados por caracteres espe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57240" y="4070520"/>
          <a:ext cx="8007480" cy="2025360"/>
        </p:xfrm>
        <a:graphic>
          <a:graphicData uri="http://schemas.openxmlformats.org/drawingml/2006/table">
            <a:tbl>
              <a:tblPr/>
              <a:tblGrid>
                <a:gridCol w="534960"/>
                <a:gridCol w="533520"/>
                <a:gridCol w="534960"/>
                <a:gridCol w="533520"/>
                <a:gridCol w="533160"/>
                <a:gridCol w="533520"/>
                <a:gridCol w="533520"/>
                <a:gridCol w="531720"/>
                <a:gridCol w="533520"/>
                <a:gridCol w="533160"/>
                <a:gridCol w="533520"/>
                <a:gridCol w="536760"/>
                <a:gridCol w="534960"/>
                <a:gridCol w="536400"/>
                <a:gridCol w="530280"/>
              </a:tblGrid>
              <a:tr h="1033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LOIN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se de datos con nombres y códigos estandarizados para la identificación de resultados de laboratorio, observaciones clínicas y observaciones de estudios diagnós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      Facilitar la organización e intercambi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.      Unificar la identificación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.      Organización para el intercambio de mensajes por HL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.      Sólo identificar el resul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.      Relacionarlo con Vocabularios: SNO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SNOM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De aurcdo con una ivanitesigoin de una uinrvesradid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ignlsea, no ipomtra en que odren las lrteas de una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lrabaa etsan, la úncia csoa iprotmatne es que la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iremra y la útmlia lrteas etsen en el lgaur cectorro. El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rseto pedue ser una ttaol doslepete que vos pdoes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eer sin pobrlmea. Etso es poqrue no lemeos cdaa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rtea ailasada, snio la plrabaa cmoo un tdo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eguaje médico control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a de la mano con LOIN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DICO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estándar para el manejo, almacenamiento, impresión y transmisión de información relativa a medicina de imagen. Incluye un formato de archivo y un protocolo de transmisión para trabajo en redes TCP/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es y el Libro Azu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mpla XML sobre HL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ne una arquitectura de 3 cap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ción de establecimientos a una plataforma de servi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4427640" cy="338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92720" y="4365720"/>
            <a:ext cx="287964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8:35:42Z</dcterms:created>
  <dc:creator>Francisco Javier Casals O.</dc:creator>
  <dc:description/>
  <dc:language>en-US</dc:language>
  <cp:lastModifiedBy>Sandra de la Fuente</cp:lastModifiedBy>
  <dcterms:modified xsi:type="dcterms:W3CDTF">2006-11-14T01:06:34Z</dcterms:modified>
  <cp:revision>5</cp:revision>
  <dc:subject/>
  <dc:title>Diapositiva 1</dc:title>
</cp:coreProperties>
</file>