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325-5F46-4D21-9A72-43BE251E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1CB-51B2-4053-81A2-BE818287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B73-DE99-4B4B-9513-CED53C16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29B-2398-4DBD-85C6-0C4EF81C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A87-3694-4B06-AFD3-C4A2B9DB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45D9-90A4-4299-AF11-4A95E69E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2355-B8FD-4546-AEB8-1B693641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13A7-9631-44FB-8E94-2A0F4F5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34FD-CDFD-49B2-BB15-AD90C89E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0FFD-DFC8-4B3E-A652-F933125B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D35A-18E6-4BE4-9540-F315462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4F0-4C10-41B0-94CE-A1ACF0CA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70BD-7674-456D-A197-D408D01B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1C80-F46B-4CD4-AB67-AFEA18C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FBC8-CF75-4ADA-9601-F9F20898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95A-63FB-4049-BB75-54B03C92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7887-F9CD-4D97-B947-8DD4386D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8F4-FA3C-4AAC-B7FE-A41D927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66D-545E-45BA-A9A9-A3D0E74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347-37A5-476D-B559-C0EB0C5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AB5-ECAD-4AAE-B6BE-4EA85564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D91-D377-445D-924C-85040E6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C4E-19B6-4F96-903A-026243C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E69-8B4E-462D-B1C3-FB3BD6C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ADBE-1002-4BBC-BF2D-9772ABED986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C128-9C59-4D3F-9106-43AC95146F7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692280"/>
            <a:ext cx="822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libre en 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8200" y="2065320"/>
            <a:ext cx="990360" cy="1238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876600" cy="847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30320" y="4365720"/>
            <a:ext cx="10857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667480" y="4270320"/>
            <a:ext cx="1990800" cy="1476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3419640" y="2781360"/>
            <a:ext cx="285732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Por que SL en área salu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l software pertenece a tod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nejo datos (Código fuente disponible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oyan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tabilidad, confiabilidad y plasticida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elocidad evolución y creci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Tipos de desarroll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neración y compartición de imáge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egistro mé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 de gestión y gerenciamien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istemas operativ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neración y compartición de imágen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sirix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3D sli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SIR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8964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a procesar imágenes orientado a las imágenes DICOM, también soporta los estándares como JPEG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lataformas: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 MacOS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Sitio: http://homepage.mac.com/rossetantoine/osirix/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781520" cy="5330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411280" y="907920"/>
            <a:ext cx="4368960" cy="5330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28840" y="1052640"/>
            <a:ext cx="5462640" cy="5545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08000" y="861840"/>
            <a:ext cx="6120000" cy="5538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7728120" cy="499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268360" y="1822320"/>
            <a:ext cx="5761080" cy="3716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3D SLI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o de los mas importantes software de este tem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ue diseñado para asistir a los cirujanos en el quirófano para permitir visualizar los scans MRI en una forma más sencill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uy extendi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taforma: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aris, Linux, MacOSX, y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tio: http://www.slicer.org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77120" cy="5981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048360" cy="6024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Registro medico Electrón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0769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GnuM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OpenClin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OpenEM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Gnu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Med será una suite para muchos propósitos. GnuMed trabajara en red con muchos usuarios. También operara en un solo computad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x, GNU/Linux, MacOSX y Wind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ython, PostgreSQL, LDA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381400" cy="695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6048360" cy="4321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4826160" cy="429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Clin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stinado 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ducación y Centros médic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HP, Mysq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glés, Españo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rmite: Búsqueda, agregación, modificación y elimina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storial clínico, Problemas de reportes, Información soci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clin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76360" y="1598760"/>
            <a:ext cx="6634080" cy="497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771640" cy="55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e es softwa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ún la IEEE (Instituto de Ingenieros Eléctricos y Electrónicos), en su estándar 729: la suma total de los programas de cómputo, procedimientos, reglas, documentación y datos asociados que forman parte de las operaciones de un sistema de cómpu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ftware es también conocido como programática o equipamiento lógico, esto es el conjunto de programas que puede ejecutar el hardware para la realización de la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areas de computación a las que se desti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penEM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861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dministrador practico, Registro medico electrónico, prescripción recetas y pago de cuentas medic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ux, Apple Mac OS X, POSIX,BS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ttp://sourceforge.net/projects/openem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02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Sistema de gestión y gerenciamient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penEM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janta MedSui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ZertisM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Ajanta MedSu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inux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ZertisM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Web basado aplicación de administración medica y registro medico electrónic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dependiente del S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Otr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reeVET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un programa desarrollado bajo Qt.</a:t>
            </a:r>
            <a:br>
              <a:rPr sz="2800"/>
            </a:b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Usa Mysql como base de datos, y su función es facilitar a los veterinarios el llevar una clínica, da igual que sea pequeña o grand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Sistemas opera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ebian-med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ioKnoppix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l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yecto interno para desarrollar una «Distribución Debian a Medida» de la práctica y la investigación médic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truir una base sólida de software para la actividad médica, con énfasis en la instalación sencilla, el mantenimiento sencillo y la seguridad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rear un banco de pruebas para evaluar de forma sencilla la calidad del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porcionar información y documentación sobre software médico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bian-m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388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médica y gestión de pacient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vestigación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nformación para hospital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iología molecular y genética médic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stemas de imagen aplicados a la medicin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dental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áctica veterinar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ase de datos de medicamen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istorial médico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armac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isioterapi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ocumentación e investiga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Otro/s software/proyect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76280" cy="581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1704960" cy="581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www.debian.org/devel/debian-med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BioKnoppi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19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Bioknoppix Live cd con una gran funcionalidad y aplicaciones open source orientadas a la biología molecular. No requiere instalación en el disco dur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plicacione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er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conducto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BioPyth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Rasmo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842080" cy="4381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eaeaea"/>
                </a:solidFill>
                <a:latin typeface="Arial"/>
              </a:rPr>
              <a:t>Sitio: http://bioknoppix.hpcf.upr.edu/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1655640" cy="900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5905440" cy="4430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104292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Y en Chile…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departamento de radiología de la clínica Dávila utiliza Osiri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línica las condes utiliza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3Dslic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11840" y="1598760"/>
            <a:ext cx="3502080" cy="449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¿Qué es el software lib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oftware libre es aquel que puede ser distribuido, modificado, copiado y usado; por lo tanto, debe venir acompañado del código fuente para hacer efectivas las libertades que lo caracteriza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 confundir software gratis con lib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xisten 4 libertades básicas de usuario que se deben cumpli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ejecución independiente propósi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modificación a mis necesidad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distribución para ayudar a otr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ibertad de mejoramiento y publicació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¿Qué es el software propietario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 refiere a cualquier programa informático en el que los usuarios tienen limitadas las posibilidades de usarlo, modificarlo o redistribuirlo (con o sin modificaciones), o que su código fuente no está disponible o el acceso a éste se encuentra restringi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 Software sigue siendo no libre aun si el código fuente es hecho público, cuando se mantiene la reserva de derechos sobre el uso, modificación o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Licencias y Copylef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*General Public License o GPL-GN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correr el programa, para todo propósi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de modificación y estudio de código (Acceso al código fuente es un requisi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recho a redistribuir modificaciones (Copylef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recho a mejorar el programa y publicarlas (Accesos a código fuente es un requisito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enor costo total de propie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dependencia de proveed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sibilidad de adapt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ayor seguridad y fiabilida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o hay descontinu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izab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Innovación tecnológic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ftware y Es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egurid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/garantía/respal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icultad de aprendizaj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Necesidad nociones program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Ventajas S. Propietario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sonal altamente capacitad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común por parte de usu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rol de c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porte y garantí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Software específic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esventajas S. Propietar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Difíciles de aprend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ódigo fuente secre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recho exclusivo de innov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mposibilidad de comparti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legal o costosa la adaptación de un módulo del software a necesidades particula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ependencia a proveed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6:21:46Z</dcterms:created>
  <dc:creator>Francisco Cespedes</dc:creator>
  <dc:description/>
  <dc:language>en-US</dc:language>
  <cp:lastModifiedBy>Francisco Cespedes</cp:lastModifiedBy>
  <dcterms:modified xsi:type="dcterms:W3CDTF">2006-10-24T14:11:48Z</dcterms:modified>
  <cp:revision>31</cp:revision>
  <dc:subject/>
  <dc:title>Diapositiva 1</dc:title>
</cp:coreProperties>
</file>