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D1D-83E1-43C7-92B1-9778CA7A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939-3BC4-41D1-A063-FEC0C8F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143-B8CF-426F-A753-1FE41431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D0A-8DE1-42FD-A105-9506B0B2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4169-8A5B-4343-8B10-302D9008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6909-C386-4D3E-8DB6-8522620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105-918C-4AB3-AE0A-B49696C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9F6-3195-40EB-8468-1B9200F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CFA-7F21-4D6B-9D01-C070C951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7AB8-DACE-4B97-A5AA-D3F25C5C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B8E-182D-44F3-8AA2-11717E2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3C7-F2CC-449B-862F-6B451CED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BAD3-2949-4F45-B05E-0D4A615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760-F390-4A25-B89E-76CC79E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49B-21F5-458B-AB83-B357524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5B3-2677-40D8-91F3-32BF6E0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B8F8-EF07-4D99-9DBC-F41E6622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9D4-1645-4FFA-8B55-8C274222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C1-3BAE-42A2-AB92-CFCF7EC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00-2695-4C61-8B26-B7389D3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CF2-9AA3-43DF-95B2-1B80802A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7E1-0673-4C00-B848-FE887472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567-D3AC-41F0-998F-A05B0B1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FEB-7BC7-4FE4-A1BE-6C8E68B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08A-213C-4354-8320-18C817D4B18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0285-15BB-49C7-A704-3B5CA6D682F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692280"/>
            <a:ext cx="822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libre en 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8200" y="2065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876600" cy="847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30320" y="4365720"/>
            <a:ext cx="10857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667480" y="427032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419640" y="2781360"/>
            <a:ext cx="285732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Por que SL en área salu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software pertenece a to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ejo datos (Código fuente disponible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oyan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abilidad, confiabilidad y plasticida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elocidad evolución y creci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Tipos de desarrol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neración y compartición de imáge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gistro mé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stión y gerencia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s operativ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neración y compartición de imágen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siri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3D sli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SIR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896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 procesar imágenes orientado a las imágenes DICOM, también soporta los estándares como JPEG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taformas: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 MacOS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tio: http://homepage.mac.com/rossetantoine/osirix/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78152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689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28840" y="1052640"/>
            <a:ext cx="5462640" cy="5545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8000" y="861840"/>
            <a:ext cx="6120000" cy="5538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7728120" cy="499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268360" y="1822320"/>
            <a:ext cx="576108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3D SL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mas importantes software de este t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ue diseñado para asistir a los cirujanos en el quirófano para permitir visualizar los scans MRI en una forma más senci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uy extendi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taforma: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aris, Linux, MacOSX, y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tio: http://www.slicer.org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77120" cy="5981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6024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gistro medico Electrón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nuM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penClin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penEM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Gnu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Med será una suite para muchos propósitos. GnuMed trabajara en red con muchos usuarios. También operara en un solo computad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x, GNU/Linux, MacOSX y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ython, PostgreSQL, LDA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81400" cy="69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6048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482616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Cli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stinado 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ducación y Centros médic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HP, Mysq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glés, Españo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mite: Búsqueda, agregación, modificación y elimina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storial clínico, Problemas de reportes, Información soc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cli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98760"/>
            <a:ext cx="6634080" cy="497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71640" cy="55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e es softwa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ún la IEEE (Instituto de Ingenieros Eléctricos y Electrónicos), en su estándar 729: la suma total de los programas de cómputo, procedimientos, reglas, documentación y datos asociados que forman parte de las operaciones de un sistema de cómpu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ftware es también conocido como programática o equipamiento lógico, esto es el conjunto de programas que puede ejecutar el hardware para la realización de l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areas de computación a las que se desti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EM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dministrador practico, Registro medico electrónico, prescripción recetas y pago de cuentas medic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ux, Apple Mac OS X, POSIX,BS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em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2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stión y gerenciamient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penEM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janta MedSui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ZertisM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janta MedSu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inux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ZertisM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dependiente del S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reeVE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un programa desarrollado bajo Qt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a Mysql como base de datos, y su función es facilitar a los veterinarios el llevar una clínica, da igual que sea pequeña o gran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Sistemas opera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ebian-med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ioKnoppix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l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yecto interno para desarrollar una «Distribución Debian a Medida» de la práctica y la investigación médic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truir una base sólida de software para la actividad médica, con énfasis en la instalación sencilla, el mantenimiento sencillo y la seguridad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rear un banco de pruebas para evaluar de forma sencilla la calidad del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porcionar información y documentación sobre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médica y gestión de pacient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estigación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nformación para hospital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iología molecular y genética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magen aplicados a la medicin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dental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veterinar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 de datos de medicamen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istorial médico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armac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isioterap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ocumentación e investiga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tro/s software/proyec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BioKnopp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1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Bioknoppix Live cd con una gran funcionalidad y aplicaciones open source orientadas a la biología molecular. No requiere instalación en el disco du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er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conduct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yth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asmo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842080" cy="4381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bioknoppix.hpcf.upr.edu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655640" cy="90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5905440" cy="4430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Y en Chil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departamento de radiología de la clínica Dávila utiliza Osiri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línica las condes utiliz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3Dslic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11840" y="1598760"/>
            <a:ext cx="3502080" cy="44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é es el software lib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oftware libre es aquel que puede ser distribuido, modificado, copiado y usado; por lo tanto, debe venir acompañado del código fuente para hacer efectivas las libertades que lo caracteriz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confundir software gratis con lib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xisten 4 libertades básicas de usuario que se deben cumpli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ejecución independiente propós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modificación a mis necesidad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distribución para ayudar a 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mejoramiento y publica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¿Qué es el software propietario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refiere a cualquier programa informático en el que los usuarios tienen limitadas las posibilidades de usarlo, modificarlo o redistribuirlo (con o sin modificaciones), o que su código fuente no está disponible o el acceso a éste se encuentra restringi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Software sigue siendo no libre aun si el código fuente es hecho público, cuando se mantiene la reserva de derechos sobre el uso, modificación o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Licencias y Copyle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*General Public License o GPL-G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correr el programa, para todo propósi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de modificación y estudio de código (Acceso al código fuente es un requisi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a redistribuir modificaciones (Copylef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mejorar el programa y publicarlas (Accesos a código fuente es un requisito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nor costo total de propie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dependencia de proveed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sibilidad de adapt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ayor seguridad y fiabili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o hay descontinu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izab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novación tecnológ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ftware y Es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gurid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/garantía/respal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icultad de aprendizaj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ecesidad nociones program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. Propietari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 altamente capaci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común por parte de usu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rol de c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 y garantí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específ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. Propie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íciles de apren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ódigo fuente secre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recho exclusivo de innov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mposibilidad de compart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legal o costosa la adaptación de un módulo del software a necesidades particula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pendencia a provee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6:21:46Z</dcterms:created>
  <dc:creator>Francisco Cespedes</dc:creator>
  <dc:description/>
  <dc:language>en-US</dc:language>
  <cp:lastModifiedBy>Francisco Cespedes</cp:lastModifiedBy>
  <dcterms:modified xsi:type="dcterms:W3CDTF">2006-10-24T14:11:48Z</dcterms:modified>
  <cp:revision>31</cp:revision>
  <dc:subject/>
  <dc:title>Diapositiva 1</dc:title>
</cp:coreProperties>
</file>