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52FF-999D-4955-AB0A-DF24CEA11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4819-AC4A-44AE-991D-6B758DBE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561A-38C4-432A-AF6D-5C8FCE56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AAB4-B7DC-4819-84BC-CFC337DB9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CB31-D4D1-4C2D-AF9F-37852569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1AB1-2DC5-4BC6-97EE-71B19100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6324-2648-40DF-9B0A-4753EA11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EF17-BC4E-42D6-B66A-29822661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C799-FF34-4178-9458-5425BEFE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EFBE-5D04-48B7-AEF5-30E00A51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9A3D-463E-4435-A76F-77F18DC8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9E81-ECAD-40DD-935F-F1722273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ABCE-FE6B-421E-95B6-75DCDC02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09A0-BCD6-4329-B5C6-0970BEBE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EEC3-FD12-4054-B207-0CF6C9E0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57A4-42F8-4DD4-A6ED-E916B7B17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FBE4-A237-4A82-AAE5-072B7FC9B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4A78-F6B4-4813-BD35-6A5572DC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0F28-BAB1-4EBF-BCE5-A5A5B3D6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FCBA-AB04-4B7F-AC80-7EF3A3E2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0C6C-5E5F-4BB3-89DC-31BBD281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4CFC-4A02-4827-91C6-E781F424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90DC-4878-422A-8FB9-0C6D440E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8626-FE0A-4B6B-8F81-2428A1D2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5745-5A3D-482F-BE68-D7027587FC40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86E6-B7FD-40BF-8C2F-C7434367748D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8360" y="692280"/>
            <a:ext cx="8226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Software libre en medicin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978200" y="2065320"/>
            <a:ext cx="990360" cy="1238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588000" y="2133720"/>
            <a:ext cx="876600" cy="847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930320" y="4365720"/>
            <a:ext cx="1085760" cy="1285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5667480" y="4270320"/>
            <a:ext cx="1990800" cy="1476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3419640" y="2781360"/>
            <a:ext cx="2857320" cy="1181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¿Por que SL en área salud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l software pertenece a todo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Manejo datos (Código fuente disponible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Troyano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tabilidad, confiabilidad y plasticidad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Velocidad evolución y crecimient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Tipos de desarroll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istema de generación y compartición de imágen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Registro médico electrónic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istema de gestión y gerenciamient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istemas operativ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Otro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Sistema de generación y compartición de imágene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Osirix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3D slid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OSIRI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9280" y="1598760"/>
            <a:ext cx="89647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ara procesar imágenes orientado a las imágenes DICOM, también soporta los estándares como JPEG, et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lataformas:</a:t>
            </a:r>
            <a:r>
              <a:rPr b="1" lang="es-ES" sz="2800" spc="-1" strike="noStrike">
                <a:solidFill>
                  <a:srgbClr val="eaeaea"/>
                </a:solidFill>
                <a:latin typeface="Arial"/>
              </a:rPr>
              <a:t> MacOSX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Sitio: http://homepage.mac.com/rossetantoine/osirix/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195640" y="981000"/>
            <a:ext cx="4781520" cy="53308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411280" y="907920"/>
            <a:ext cx="4368960" cy="5330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328840" y="1052640"/>
            <a:ext cx="5462640" cy="55450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908000" y="861840"/>
            <a:ext cx="6120000" cy="5538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755640" y="1197000"/>
            <a:ext cx="7728120" cy="49989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2268360" y="1822320"/>
            <a:ext cx="5761080" cy="3716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3D SLID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Uno de los mas importantes software de este tem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Fue diseñado para asistir a los cirujanos en el quirófano para permitir visualizar los scans MRI en una forma más sencill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Muy extendid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lataforma: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aris, Linux, MacOSX, y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tio: http://www.slicer.org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277120" cy="59817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1476360" y="333360"/>
            <a:ext cx="6048360" cy="6024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Registro medico Electrónic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0769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GnuM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OpenClini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OpenEM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GnuM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7861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nuMed será una suite para muchos propósitos. GnuMed trabajara en red con muchos usuarios. También operara en un solo computado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ix, GNU/Linux, MacOSX y Window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ython, PostgreSQL, LDAP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2381400" cy="6951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1619280" y="1916280"/>
            <a:ext cx="6048360" cy="43210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2050920" y="1773360"/>
            <a:ext cx="4826160" cy="4294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OpenClini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0038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Destinado a 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ducación y Centros médico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PHP, Mysq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glés, Españo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Permite: Búsqueda, agregación, modificación y elimina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Historial clínico, Problemas de reportes, Información socia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ttp://sourceforge.net/projects/openclin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476360" y="1598760"/>
            <a:ext cx="6634080" cy="4975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2771640" cy="552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¿Que es softwar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gún la IEEE (Instituto de Ingenieros Eléctricos y Electrónicos), en su estándar 729: la suma total de los programas de cómputo, procedimientos, reglas, documentación y datos asociados que forman parte de las operaciones de un sistema de cómput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ftware es también conocido como programática o equipamiento lógico, esto es el conjunto de programas que puede ejecutar el hardware para la realización de la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areas de computación a las que se desti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OpenEM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7861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Administrador practico, Registro medico electrónico, prescripción recetas y pago de cuentas medica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Linux, Apple Mac OS X, POSIX,BS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ttp://sourceforge.net/projects/openem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802800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Sistema de gestión y gerenciamiento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OpenEM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Ajanta MedSui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ZertisM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Ajanta MedSui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Web basado aplicación de administración medica y registro medico electrónico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Linux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ZertisM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Web basado aplicación de administración medica y registro medico electrónic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Independiente del S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Otr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FreeVET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 un programa desarrollado bajo Qt.</a:t>
            </a:r>
            <a:br>
              <a:rPr sz="2800"/>
            </a:b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Usa Mysql como base de datos, y su función es facilitar a los veterinarios el llevar una clínica, da igual que sea pequeña o grand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Sistemas operativ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Debian-med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BioKnoppix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al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ebian-m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00388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yecto interno para desarrollar una «Distribución Debian a Medida» de la práctica y la investigación médica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bjetivo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truir una base sólida de software para la actividad médica, con énfasis en la instalación sencilla, el mantenimiento sencillo y la seguridad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rear un banco de pruebas para evaluar de forma sencilla la calidad del software médico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porcionar información y documentación sobre software médico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476280" cy="5810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1704960" cy="5810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468360" y="6093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eaeaea"/>
                </a:solidFill>
                <a:latin typeface="Arial"/>
              </a:rPr>
              <a:t>Sitio: http://www.debian.org/devel/debian-med/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ebian-m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00388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áctica médica y gestión de pacientes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nvestigación médica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istemas de información para hospitales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Biología molecular y genética médica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istemas de imagen aplicados a la medicina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áctica dental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áctica veterinaria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Base de datos de medicamentos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istorial médico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armacia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isioterapia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ocumentación e investigación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Otro/s software/proyectos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476280" cy="5810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1704960" cy="5810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468360" y="6093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eaeaea"/>
                </a:solidFill>
                <a:latin typeface="Arial"/>
              </a:rPr>
              <a:t>Sitio: http://www.debian.org/devel/debian-med/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BioKnoppi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198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Bioknoppix Live cd con una gran funcionalidad y aplicaciones open source orientadas a la biología molecular. No requiere instalación en el disco duro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Aplicacione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Bioper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Bioconducto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BioPython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Rasmo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5842080" cy="43812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68360" y="6093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eaeaea"/>
                </a:solidFill>
                <a:latin typeface="Arial"/>
              </a:rPr>
              <a:t>Sitio: http://bioknoppix.hpcf.upr.edu/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258920" y="333360"/>
            <a:ext cx="1655640" cy="9000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1258920" y="1700280"/>
            <a:ext cx="5905440" cy="44305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1042920" y="1700280"/>
            <a:ext cx="5905440" cy="4429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¿Y en Chile…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l departamento de radiología de la clínica Dávila utiliza Osirix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línica las condes utiliza 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3Dslic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911840" y="1598760"/>
            <a:ext cx="3502080" cy="4497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¿Qué es el software libr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l software libre es aquel que puede ser distribuido, modificado, copiado y usado; por lo tanto, debe venir acompañado del código fuente para hacer efectivas las libertades que lo caracteriza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No confundir software gratis con libr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Existen 4 libertades básicas de usuario que se deben cumplir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Libertad de ejecución independiente propósito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Libertad modificación a mis necesidad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Libertad de distribución para ayudar a otro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Libertad de mejoramiento y publicació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¿Pregunta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ecff"/>
                </a:solidFill>
                <a:latin typeface="Arial"/>
              </a:rPr>
              <a:t>¿Qué es el software propietario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 refiere a cualquier programa informático en el que los usuarios tienen limitadas las posibilidades de usarlo, modificarlo o redistribuirlo (con o sin modificaciones), o que su código fuente no está disponible o el acceso a éste se encuentra restringi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 Software sigue siendo no libre aun si el código fuente es hecho público, cuando se mantiene la reserva de derechos sobre el uso, modificación o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Licencias y Copylef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*General Public License o GPL-GNU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erecho a correr el programa, para todo propósito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Derecho de modificación y estudio de código (Acceso al código fuente es un requisi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Derecho a redistribuir modificaciones (Copyleft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erecho a mejorar el programa y publicarlas (Accesos a código fuente es un requisito.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Ventajas S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Menor costo total de propiedad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Independencia de proveed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sibilidad de adapt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Mayor seguridad y fiabilidad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No hay descontinua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Personalizabl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Innovación tecnológic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oftware y Estad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esventajas S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Segurida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Soporte/garantía/respald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Dificultad de aprendizaj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Necesidad nociones program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Ventajas S. Propietario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Personal altamente capacitad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Uso común por parte de usuario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ntrol de calid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Soporte y garantí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Software específico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esventajas S. Propietari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Difíciles de aprend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ódigo fuente secret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erecho exclusivo de innova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Imposibilidad de comparti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Ilegal o costosa la adaptación de un módulo del software a necesidades particular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ependencia a proveedor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16:21:46Z</dcterms:created>
  <dc:creator>Francisco Cespedes</dc:creator>
  <dc:description/>
  <dc:language>en-US</dc:language>
  <cp:lastModifiedBy>Francisco Cespedes</cp:lastModifiedBy>
  <dcterms:modified xsi:type="dcterms:W3CDTF">2006-10-24T14:11:48Z</dcterms:modified>
  <cp:revision>31</cp:revision>
  <dc:subject/>
  <dc:title>Diapositiva 1</dc:title>
</cp:coreProperties>
</file>