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016-F5E0-4661-8365-220818D0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644-413A-47D9-8AB6-3FCBB26C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AA5-21A6-4DF0-8BA2-78AD8CD9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5BD-2B8B-4A8B-A17D-84B37A82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E8AC-3C43-445B-9AAB-643E5C32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BF2E-BCDB-4A58-903E-3E035520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6D13-A181-48F1-A7AA-E2BA663B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7657-1C0B-4B4F-B844-DA057B88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BEE3-10DD-46F1-A146-D98A4A0E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3B6A-2D8F-450B-AEB9-0E12C392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7977-77D6-452F-A649-3F53588D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2152-4076-4FBA-8AFA-73D9D97B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DCAB-E2E9-4107-A444-073D4EF5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1520-9E0F-43D8-BAC5-12A8BEF4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7C7F-0FAC-4F81-96B5-FD5E5DE4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4A2E-618E-4CBB-82A5-AA0B364D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C7A3-B257-4668-B526-F7892577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1742-0A27-4FEC-9748-B1B8A336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67F-472D-46EA-A2C6-962B4157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FA0-07A8-4AE1-98A9-85C70F9A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108-26B4-4754-9F75-278B44F7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992-F361-4A62-BE25-0E854122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C71-9202-497F-B8FE-F088C359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C12-AB19-49B7-B907-CE142355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0CCC-DF55-48AD-93DF-61ADA70F5BE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1617-0D34-45EE-80E8-9A1884122D2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692280"/>
            <a:ext cx="822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ftware libre en medic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78200" y="2065320"/>
            <a:ext cx="990360" cy="1238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876600" cy="847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930320" y="4365720"/>
            <a:ext cx="1085760" cy="12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5667480" y="4270320"/>
            <a:ext cx="1990800" cy="1476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3419640" y="2781360"/>
            <a:ext cx="285732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¿Por que SL en área salu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l software pertenece a tod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nejo datos (Código fuente disponible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Troyan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tabilidad, confiabilidad y plasticida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Velocidad evolución y crecimient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Tipos de desarroll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istema de generación y compartición de imáge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Registro médico electrónic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istema de gestión y gerenciamient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istemas operativ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Otr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stema de generación y compartición de imágene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Osirix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3D sli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OSIRI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9280" y="1598760"/>
            <a:ext cx="8964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ra procesar imágenes orientado a las imágenes DICOM, también soporta los estándares como JPEG, 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lataformas: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 MacOSX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Sitio: http://homepage.mac.com/rossetantoine/osirix/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781520" cy="5330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411280" y="907920"/>
            <a:ext cx="4368960" cy="5330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328840" y="1052640"/>
            <a:ext cx="5462640" cy="5545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908000" y="861840"/>
            <a:ext cx="6120000" cy="5538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755640" y="1197000"/>
            <a:ext cx="7728120" cy="4998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268360" y="1822320"/>
            <a:ext cx="5761080" cy="3716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3D SLI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o de los mas importantes software de este tem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Fue diseñado para asistir a los cirujanos en el quirófano para permitir visualizar los scans MRI en una forma más sencill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uy extendi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taforma: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aris, Linux, MacOSX, y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tio: http://www.slicer.org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77120" cy="5981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6048360" cy="6024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Registro medico Electrónic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0769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GnuM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OpenClin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OpenEM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GnuM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7861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nuMed será una suite para muchos propósitos. GnuMed trabajara en red con muchos usuarios. También operara en un solo computado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x, GNU/Linux, MacOSX y Window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ython, PostgreSQL, LDAP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2381400" cy="6951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619280" y="1916280"/>
            <a:ext cx="6048360" cy="4321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4826160" cy="429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OpenClini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038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estinado a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ducación y Centros médic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HP, Mysq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glés, Españo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ermite: Búsqueda, agregación, modificación y elimina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istorial clínico, Problemas de reportes, Información socia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ttp://sourceforge.net/projects/openclin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76360" y="1598760"/>
            <a:ext cx="6634080" cy="497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2771640" cy="552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¿Que es softwa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gún la IEEE (Instituto de Ingenieros Eléctricos y Electrónicos), en su estándar 729: la suma total de los programas de cómputo, procedimientos, reglas, documentación y datos asociados que forman parte de las operaciones de un sistema de cómpu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ftware es también conocido como programática o equipamiento lógico, esto es el conjunto de programas que puede ejecutar el hardware para la realización de la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areas de computación a las que se desti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OpenEM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7861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dministrador practico, Registro medico electrónico, prescripción recetas y pago de cuentas medic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ux, Apple Mac OS X, POSIX,BS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ttp://sourceforge.net/projects/openem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8028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stema de gestión y gerenciamient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OpenEM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Ajanta MedSui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ZertisM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Ajanta MedSu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Web basado aplicación de administración medica y registro medico electrónic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inux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ZertisM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Web basado aplicación de administración medica y registro medico electrónic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Independiente del S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Otr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FreeVET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 un programa desarrollado bajo Qt.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Usa Mysql como base de datos, y su función es facilitar a los veterinarios el llevar una clínica, da igual que sea pequeña o grand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Sistemas operativ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ebian-med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BioKnoppix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al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ebian-m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0388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yecto interno para desarrollar una «Distribución Debian a Medida» de la práctica y la investigación médica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truir una base sólida de software para la actividad médica, con énfasis en la instalación sencilla, el mantenimiento sencillo y la seguridad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rear un banco de pruebas para evaluar de forma sencilla la calidad del software médico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porcionar información y documentación sobre software médico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76280" cy="581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1704960" cy="581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68360" y="6093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eaeaea"/>
                </a:solidFill>
                <a:latin typeface="Arial"/>
              </a:rPr>
              <a:t>Sitio: http://www.debian.org/devel/debian-med/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ebian-m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0388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áctica médica y gestión de paciente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vestigación médic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stemas de información para hospitale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iología molecular y genética médic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stemas de imagen aplicados a la medicin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áctica dental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áctica veterinari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ase de datos de medicamento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istorial médico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armaci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isioterapi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ocumentación e investigación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Otro/s software/proyecto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76280" cy="5810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1704960" cy="581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68360" y="6093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eaeaea"/>
                </a:solidFill>
                <a:latin typeface="Arial"/>
              </a:rPr>
              <a:t>Sitio: http://www.debian.org/devel/debian-med/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BioKnoppi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198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Bioknoppix Live cd con una gran funcionalidad y aplicaciones open source orientadas a la biología molecular. No requiere instalación en el disco dur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Aplicacione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Bioper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Bioconducto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BioPytho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Rasmo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5842080" cy="4381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68360" y="6093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eaeaea"/>
                </a:solidFill>
                <a:latin typeface="Arial"/>
              </a:rPr>
              <a:t>Sitio: http://bioknoppix.hpcf.upr.edu/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1655640" cy="900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1258920" y="1700280"/>
            <a:ext cx="5905440" cy="44305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1042920" y="170028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¿Y en Chile…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departamento de radiología de la clínica Dávila utiliza Osirix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línica las condes utiliza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3Dslic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911840" y="1598760"/>
            <a:ext cx="3502080" cy="4497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¿Qué es el software lib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oftware libre es aquel que puede ser distribuido, modificado, copiado y usado; por lo tanto, debe venir acompañado del código fuente para hacer efectivas las libertades que lo caracteriza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 confundir software gratis con libr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xisten 4 libertades básicas de usuario que se deben cumplir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ibertad de ejecución independiente propósi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ibertad modificación a mis necesidad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ibertad de distribución para ayudar a otr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ibertad de mejoramiento y publicació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¿Pregunta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¿Qué es el software propietario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 refiere a cualquier programa informático en el que los usuarios tienen limitadas las posibilidades de usarlo, modificarlo o redistribuirlo (con o sin modificaciones), o que su código fuente no está disponible o el acceso a éste se encuentra restringi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 Software sigue siendo no libre aun si el código fuente es hecho público, cuando se mantiene la reserva de derechos sobre el uso, modificación o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Licencias y Copylef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*General Public License o GPL-GN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recho a correr el programa, para todo propósi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erecho de modificación y estudio de código (Acceso al código fuente es un requisi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erecho a redistribuir modificaciones (Copylef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recho a mejorar el programa y publicarlas (Accesos a código fuente es un requisito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Ventajas S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Menor costo total de propieda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ndependencia de proveed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sibilidad de adapt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Mayor seguridad y fiabilida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No hay descontinua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ersonalizab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Innovación tecnológic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oftware y Esta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esventajas S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egurida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porte/garantía/respal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ificultad de aprendizaj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Necesidad nociones program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Ventajas S. Propietari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ersonal altamente capacita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común por parte de usuari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rol de calid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porte y garantí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ftware específic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esventajas S. Propietar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ifíciles de aprend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ódigo fuente secret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erecho exclusivo de innova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mposibilidad de comparti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legal o costosa la adaptación de un módulo del software a necesidades particula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ependencia a proveedo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6:21:46Z</dcterms:created>
  <dc:creator>Francisco Cespedes</dc:creator>
  <dc:description/>
  <dc:language>en-US</dc:language>
  <cp:lastModifiedBy>Francisco Cespedes</cp:lastModifiedBy>
  <dcterms:modified xsi:type="dcterms:W3CDTF">2006-10-24T14:11:48Z</dcterms:modified>
  <cp:revision>31</cp:revision>
  <dc:subject/>
  <dc:title>Diapositiva 1</dc:title>
</cp:coreProperties>
</file>