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7BD-D85C-484A-8B12-58CE9FB7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C13-F1A6-49A9-AA89-D54FD222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331-2CD7-4005-AA7E-97F2B8F5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101-E58A-46DE-A57F-FA3295EF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A22F-2430-4DCD-B1DC-56D6B90B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3C94-DDAC-4CB2-8B94-02D0B7BE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9202-1863-4CCA-855E-3256C9DF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B552-82CF-40F7-AAD5-B6CCEA2F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A325-D424-4996-AA7C-D572568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3498-720E-495E-A7FA-4AD6ED83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5A78-F9C9-454A-9327-05C42CEE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B87-AD38-40BB-9E2D-A8EADA82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47E9-7B92-4A23-A60B-1E97747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0ECD-11CE-4224-BAD9-3BF2EC08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8C86-4549-4298-8EED-7F9C877C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CCC3-370C-441A-BB55-BC800CB7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8B1F-15B0-4118-812F-15529D55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96C-0494-4C7B-B90F-648B6712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14A-46FF-4F8A-9CB4-3FEEE9B3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7D8-EAE9-428D-B6C0-FF0DACD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5E6-6B54-419B-A741-4F93E3EA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E2F-71B8-4D3B-A96C-F95E4E57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7A9-2997-4090-8B54-02F7A76A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4A7-BF4A-4885-BB66-9C7C4AA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6834-E438-41BD-8E10-0259F2561AA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C8A4-7747-4A3D-B1F0-6B15C500C06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0066"/>
                </a:solidFill>
                <a:latin typeface="Arial"/>
              </a:rPr>
              <a:t>Bioinformátic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io C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480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onclus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ioinformática es la mezcla de biología y ciencias de la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entender organismos a nivel molecular puede llevar a encontrar curas o prevenir enfermedades, entender mutaciones y otras cos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tecnología facilita la tarea, en especial a analizar muchos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¿Qué es la bioinformática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informátic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s la aplicación de las matemáticas y de las técnicas informáticas en el procesamiento de datos experimentales para comprender los problemas biológicos, normalmente creando o usando programas informáticos, modelos matemáticos o amb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bioinformática se nutre de las ciencias biológicas y de las ciencias de la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57480" y="3213000"/>
            <a:ext cx="28735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Principales áreas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l AD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 proteínas y aminoác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271620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datos relativos a secuencias o estructura del ADN, genomas, proteínas, etc. se guardan en bases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64000" y="3213000"/>
            <a:ext cx="21747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tarea de analizar millones de esos datos se ve facilitada con el uso de software diseñado específicamente para ell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64816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Proyectos de Software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sten diversos proyectos de software dedicados a la bioinformá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ucho de ellos son de código abierto (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arrollados en diversos lenguajes de progra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lgunos ejemplos…</a:t>
            </a: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Pe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PH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Ru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pyth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06728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1955880" cy="635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627280" y="35002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067280" y="1413000"/>
            <a:ext cx="86652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n el DCC…</a:t>
            </a: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profesor Ricardo Baeza-Yates coordina el laboratorio de bioinformática del Nodo Chileno de la Red Europea de Biología Molecul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47:09Z</dcterms:created>
  <dc:creator>Mario Castro Squella</dc:creator>
  <dc:description/>
  <dc:language>en-US</dc:language>
  <cp:lastModifiedBy>Mario Castro Squella</cp:lastModifiedBy>
  <dcterms:modified xsi:type="dcterms:W3CDTF">2006-11-07T18:52:22Z</dcterms:modified>
  <cp:revision>11</cp:revision>
  <dc:subject/>
  <dc:title>Bioinformática</dc:title>
</cp:coreProperties>
</file>