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9094-BA37-4F23-8122-41C77E429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F7A6-D624-43DE-BD53-E414F3109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F1ACC-1FDC-462B-81EF-C4C1ED3D2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A9FA-CA1A-4D9B-90E4-55D584843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015B4-1FF8-4278-A001-8184ECC5C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4F768-9E86-46F5-B0F8-B9908CC4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3E0B-566B-4C3F-A920-D4DEE8F53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6BC5E-9B96-44EE-A60D-C9937EA0B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87699-6A10-47D9-9373-33E431720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A6AE4-3396-4F79-8064-6B64601A8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D9C95-0141-42E5-AF1B-FD53DF08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2097E-02DB-4BCA-BB78-10BCF0A62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A53E8-C251-4153-ACFE-AC1A397A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B25A2-A22D-4792-86F0-87E628F9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CBAE1-FD08-450A-AD0D-2AC074DCE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9FB12-F931-4906-8267-85030F91B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6BA20-4084-4AA0-8897-551B9FC8C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84F5-AA39-49A0-8382-E4E9E2738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B50CC-F093-46A5-89F3-2F1C2BD05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66FD-E340-4ADA-9EFC-418BF0966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75EA-8D13-4AE8-9873-596128DF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DF9D-EBAB-4A65-9D6D-C83E51CC4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99798-3653-4081-878C-F867DEB0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F8BF-6C71-4244-9407-6DE4D0032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08E83-6E92-43B3-9015-9F923CD7553A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C4B20-16BE-4292-ABDA-D36CE046973E}" type="slidenum"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330066"/>
                </a:solidFill>
                <a:latin typeface="Arial"/>
              </a:rPr>
              <a:t>Bioinformática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00"/>
                </a:solidFill>
                <a:latin typeface="Arial"/>
              </a:rPr>
              <a:t>Mario Cast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4800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Conclusiones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Bioinformática es la mezcla de biología y ciencias de la compu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entender organismos a nivel molecular puede llevar a encontrar curas o prevenir enfermedades, entender mutaciones y otras cos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tecnología facilita la tarea, en especial a analizar muchos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¿Qué es la bioinformática?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Bioinformática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es la aplicación de las matemáticas y de las técnicas informáticas en el procesamiento de datos experimentales para comprender los problemas biológicos, normalmente creando o usando programas informáticos, modelos matemáticos o ambo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bioinformática se nutre de las ciencias biológicas y de las ciencias de la comput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57480" y="3213000"/>
            <a:ext cx="287352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Principales áreas de investigació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udio del AD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studio de proteínas y aminoácid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132000" y="2852640"/>
            <a:ext cx="2716200" cy="316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os datos relativos a secuencias o estructura del ADN, genomas, proteínas, etc. se guardan en bases de dato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564000" y="3213000"/>
            <a:ext cx="2174760" cy="302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5122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La tarea de analizar millones de esos datos se ve facilitada con el uso de software diseñado específicamente para ell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867280" y="1844640"/>
            <a:ext cx="2648160" cy="378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Proyectos de Software 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xisten diversos proyectos de software dedicados a la bioinformát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Mucho de ellos son de código abierto (</a:t>
            </a:r>
            <a:r>
              <a:rPr b="0" i="1" lang="es-CL" sz="3000" spc="-1" strike="noStrike">
                <a:solidFill>
                  <a:srgbClr val="000000"/>
                </a:solidFill>
                <a:latin typeface="Arial"/>
              </a:rPr>
              <a:t>Open Source</a:t>
            </a: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Desarrollados en diversos lenguajes de programació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Algunos ejemplos…</a:t>
            </a: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Per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PH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Rub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pyth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Arial"/>
              </a:rPr>
              <a:t>BioJav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067280" y="5300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564000" y="4508640"/>
            <a:ext cx="1955880" cy="63504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2627280" y="3500280"/>
            <a:ext cx="3809880" cy="7621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067280" y="1413000"/>
            <a:ext cx="866520" cy="1152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En el DCC…</a:t>
            </a:r>
            <a:r>
              <a:rPr b="1" lang="es-CL" sz="3900" spc="-1" strike="noStrike">
                <a:solidFill>
                  <a:srgbClr val="330066"/>
                </a:solidFill>
                <a:latin typeface="Arial"/>
              </a:rPr>
              <a:t>	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El profesor Ricardo Baeza-Yates coordina el laboratorio de bioinformática del Nodo Chileno de la Red Europea de Biología Molecul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Informática Médica - CC50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47:09Z</dcterms:created>
  <dc:creator>Mario Castro Squella</dc:creator>
  <dc:description/>
  <dc:language>en-US</dc:language>
  <cp:lastModifiedBy>Mario Castro Squella</cp:lastModifiedBy>
  <dcterms:modified xsi:type="dcterms:W3CDTF">2006-11-07T18:52:22Z</dcterms:modified>
  <cp:revision>11</cp:revision>
  <dc:subject/>
  <dc:title>Bioinformática</dc:title>
</cp:coreProperties>
</file>