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BF30-501C-4727-A0D1-BBD6B5A5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A77B-A25B-425F-B054-E1065DA2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DED8-79E3-47D1-99F7-C3DFD9CC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2DF9-A16B-4C43-88ED-4C1B373E5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355B-5EA5-4FF7-9EA3-49CD8899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68CB-F743-48CB-AA4E-AB2183DC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D8C8-844E-47EA-98BF-E7EE39E3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7BBB-9B83-4842-87D5-9BD2CDC1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C11A-97E1-438C-BDA2-DCE1E816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02AB-9D96-4AEB-A08A-8ADFF8C9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E3B5-1EAB-4EFD-ADD8-8AC72A6C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AE44-FFC1-42F2-B4A9-0849D209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CEF3-6500-4434-854D-3BD8A026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DC65-993E-49AA-AB0E-7C6AB2EA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ED20-5192-4CEA-B44B-74A9C141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034C-9796-45DB-A234-DA875F93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A026-35B7-4B4C-9117-9F88887D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81D1-BABA-46AB-ADCE-72174460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3350-3395-441A-8DAE-971490D1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22C3-2652-4C33-80AC-F41D6736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D110-793F-4C0F-9AC3-7B79E3F9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560E-B691-4A5A-B917-5EE9798C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D8EC-58E5-46BB-9AAD-57695B05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0F33-46D5-4B1E-9441-4BF12CC1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0258-3123-4D15-87ED-E316DE2FF1B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70D4-2B57-4ACD-9CB9-15AA3167B8D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330066"/>
                </a:solidFill>
                <a:latin typeface="Arial"/>
              </a:rPr>
              <a:t>Bioinformátic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rio Ca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4800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Informática Médica - CC50M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Conclus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Bioinformática es la mezcla de biología y ciencias de la compu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l entender organismos a nivel molecular puede llevar a encontrar curas o prevenir enfermedades, entender mutaciones y otras cos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tecnología facilita la tarea, en especial a analizar muchos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formática Médica - CC50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¿Qué es la bioinformática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oinformátic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s la aplicación de las matemáticas y de las técnicas informáticas en el procesamiento de datos experimentales para comprender los problemas biológicos, normalmente creando o usando programas informáticos, modelos matemáticos o ambo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formática Médica - CC50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bioinformática se nutre de las ciencias biológicas y de las ciencias de la compu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57480" y="3213000"/>
            <a:ext cx="2873520" cy="30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formática Médica - CC50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Principales áreas de investig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udio del AD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udio de proteínas y aminoáci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132000" y="2852640"/>
            <a:ext cx="2716200" cy="31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formática Médica - CC50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os datos relativos a secuencias o estructura del ADN, genomas, proteínas, etc. se guardan en bases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564000" y="3213000"/>
            <a:ext cx="2174760" cy="30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formática Médica - CC50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22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tarea de analizar millones de esos datos se ve facilitada con el uso de software diseñado específicamente para ell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867280" y="1844640"/>
            <a:ext cx="264816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formática Médica - CC50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Proyectos de Software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xisten diversos proyectos de software dedicados a la bioinformá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ucho de ellos son de código abierto (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Open Source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sarrollados en diversos lenguajes de program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formática Médica - CC50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Algunos ejemplos…</a:t>
            </a: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ioPer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ioPH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ioRub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iopyth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ioJ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067280" y="530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564000" y="4508640"/>
            <a:ext cx="1955880" cy="635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627280" y="3500280"/>
            <a:ext cx="3809880" cy="762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4067280" y="1413000"/>
            <a:ext cx="866520" cy="115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formática Médica - CC50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En el DCC…</a:t>
            </a: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l profesor Ricardo Baeza-Yates coordina el laboratorio de bioinformática del Nodo Chileno de la Red Europea de Biología Molecul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formática Médica - CC50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20:47:09Z</dcterms:created>
  <dc:creator>Mario Castro Squella</dc:creator>
  <dc:description/>
  <dc:language>en-US</dc:language>
  <cp:lastModifiedBy>Mario Castro Squella</cp:lastModifiedBy>
  <dcterms:modified xsi:type="dcterms:W3CDTF">2006-11-07T18:52:22Z</dcterms:modified>
  <cp:revision>11</cp:revision>
  <dc:subject/>
  <dc:title>Bioinformática</dc:title>
</cp:coreProperties>
</file>