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D22-DBEA-46AA-9CEE-FC6881D1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344-80E7-4AFD-B681-7CB3103C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796-DD03-4F22-AE24-15836455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31D-FB43-4798-87F7-CC3E177A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641F-522E-484F-9D0F-DB4F35CF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05C7-3D14-48A3-B339-40EFD6B3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557F-715A-4792-97DB-8883D38F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6515-D17B-41A9-9034-FA444B58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3E01-8148-43EE-92F2-DFB0AC67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3E60-B0BC-4D5F-822B-B393C259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FB12-2CC9-4284-8202-F51AFEC5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4CD-34D5-4499-AFBF-B818F542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EAA6-512D-4644-A7DE-FABD280D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7530-F2ED-441C-B554-34B0A59C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D403-A6F1-4872-9A4F-BDA8E550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A0DA-3954-4779-BACF-373C9BD6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DF3B-B7BF-47CC-91B3-89C85A9F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1D5-3C79-4195-961D-8DAB3D5F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957-42EF-48E7-A49C-C5453F90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809-7555-41F7-A02B-FD3EFCA5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C0B-2D3C-49C3-A60B-DDC6E5F4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475-90A3-424E-A9E2-9E2B26F8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87C-6DA1-4425-AA86-9ACF15B5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9BF-2358-450A-A9C7-86D3D3D3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2EE4-B07B-4263-8DA7-2C378CED9504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E7F7-A496-4614-B918-5CEE20EDACEF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BJETIVO Y DIFICULTA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POS DE VOCABUL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CODIFICAC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S MODELOS PARA REPRESENTAR UN VOCABULUARIO CONTROL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POS DE CLASIFICAC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IFICACIONES MAS UT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ESTRUCTURAS DE ORGANIZACIÓN INTER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 Y NOMENCLATURA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eden o no tener estructuras de organización interna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o por 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erarqu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laciones de sinónim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as relaciones (causa de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33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22652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vocabularios se clasifican según su “tipo de organización” o su mecanismo de confec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NGUAJE NATUR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CABULAR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MENCLATU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IFIC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GRUPAMIEN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25909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3200400"/>
            <a:ext cx="30456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380988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44197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CLASIFICACION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STEMAS ORDENADOS DE CONCEPTOS PERTENECIENTES A UN DOMINIO, CON PRINCIPIOS DE ORDEN IMPLÍCITO O EXPLÍCI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n listas, pero de categorías (no de términos como lo era con vocabulario, terminologías y nomenclatura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categorías incluyen gran variedad de términos médicos que tienen algo en comú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 lo tanto, las clasificaciones tienen MENOS ítems que las terminologí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CLASIFICACIONES MAS UTILIZAD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8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DIAGNÓSTIC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E-10  CIE-9CM, CIAP 2E, DSM-I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PROCEDIMIEN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PT4, CIE-10 PC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DROG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C, NDC, Rx-N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ENFERMER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NDA, NIC, NOC, OMAH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NOMED-CT  se puede utilizar en todos estos dominios y tiene mapeos específicos a cada uno de ell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STEMAS DE CLASIFICACIÓ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CD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sification of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eases (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E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CP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sification of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mare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(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AP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SM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agnostic and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tistic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ual for Mental Dis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CD-O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sification of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eases for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colog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PT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rent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ocedur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rminolog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CPM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sification of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ocedures in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dic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1. ICD International Classification of Diseases </a:t>
            </a:r>
            <a:r>
              <a:rPr b="0" lang="es-ES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(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E</a:t>
            </a:r>
            <a:r>
              <a:rPr b="0" lang="es-ES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IE-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IE9-C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IE-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s el estándar más utilizado a nivel mundial. Se revisa aprox. cada 10 añ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 creó con la intención de codificar las causas de muerte, pero después se amplió al diagnóstico de enfermedades  en gener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CIE-9 aún se utili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IE9-CM con modificaciones clínicas: se usa en E.E.U.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IE-10  (creado 1992) desde 1995 se utiliza en varios países, en Chile, se comenzó a usar en 1997, es el estándar utilizado en Europ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ww.proteccioncivil.org/arce/catalogo/cie10/cie10.ht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2. ICPC International Classification of Primare Care </a:t>
            </a:r>
            <a:r>
              <a:rPr b="0" lang="es-ES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(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AP</a:t>
            </a:r>
            <a:r>
              <a:rPr b="0" lang="es-ES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organización muncial de atención primaria, (WONCA), no aceptó el CIE-9, y creó su propia clasific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menos extensa en diagnósticos que CIE, pero además de codificar diagnósticos,  codific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aus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erapi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est de laborato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gran cantidad de sistemas de información de atención primaria, se ingresan los códigos numéricos para resultados de laboratorio, lo que evita codificación  manual, y el módulo de prescripción de medicamentos almacena automáticamente el código de la droga (genérico) y otra información de la prescrip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3. DSM Diagnostic and Statistical Manual for Mental Disorde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ene ampliación en descripción de diagnósticos de ésta área, (en gral letra F de CI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DSM II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DSM III-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DSMI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DSM IV-T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mera edición(DSM-I en 1952, según CIE-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SM II se basó en CIE-8 (196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SM III-R compatible con CIE-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y se utiliza DSM IV-TR (texto revisado), compatible con CIE-1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Nota: ver texto completo y brevari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                                               </a:t>
            </a: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4. SNOMED</a:t>
            </a: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 Systematized Nomenclature of Human and Veterinary Medici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mite la codificación de multiples aspectos de una enferme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un sistema multiaxial (de múltiples ejes), (ultima versión tiene 11 ejes o módulos) cada eje forma un completo sistema de clasificación jerárqu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diagnóstico contiene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ódigo topográfico 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ej. T-28000 : pulm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ódigo morfológico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M-44000 granulom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ódigo de organismo vivo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L-21801 Microbacteria de tb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código de función.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F-03003 fieb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este ejemplo, se describe la tuberulosis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IE:  D-14800),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ero puede llevar a confusiones porque tbc puede ser no sólo en el pulmón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mbién permite combinar conceptos médicos (yuxtaposición de códigos), pero a veces estas combinaciones pueden carecer de significado, lo que es casi imposible chequearlo por comput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4. ICD-O      International Classification of Diseases for Onc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usa bastante en registros de cáncer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bina un código de 4 dígitos de topografía basado en CIE con un código de morfología que incluye un código de comportamiento  de neoplasma y un código de gradiente histológica  (los códigos de morfología se adoptan de SNOM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 : OBJETIVO  Y DIFICULTAD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resentar cosas que pasan en el mundo real, como datos estructurados para que puedan ser manejados en forma computacio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y exten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bigu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pende del contex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y especializ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o de jergas y acrónim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ltan definiciones riguros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5. CPT          Current Procedural Termin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tilizado en Estados Unidos para cobros médicos y reembol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vee un esquema de codificación  de procedimientos diagnósticos y terapéuticos basados en cos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6. ICPM      International Classification of Procedures in Medici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do por la OMS (WHO) , que planeaba agregar más módulos según los comentarios recibidos por los usuarios, pero esto nunca sucedió, sin embargo, sirvió de inspiración para otras clasificaciones de procedimient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j. Módulo de procedimientos de ICD-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22652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vocabularios se clasifican según su “tipo de organización” o su mecanismo de confec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NGUAJE NATUR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CABULAR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MENCLATU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IFIC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GRUPAMIEN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25909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3200400"/>
            <a:ext cx="30456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380988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44197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35640" y="501336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AGRUPACION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961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más conocido es el GRUPO RELACIONADO DE DIAGNOSTICOS (GRD o DRG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un conjunto de reglas que agrupan los códigos de CIE-9CM registrados en un episodio de internación, en las que un solo código resume todo el episod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grupo DRG incluye episodios de internación con diferentes diagnósticos, pero que se agrupan juntos con un criterio de consumo de recursos similar en primera instancia, y de sus caracteristicas clinicas en segunda instancia. Es un agrupador 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socosto.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usa en US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22652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vocabularios se clasifican según su “tipo de organización” o su mecanismo de confec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NGUAJE NATUR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CABULAR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MENCLATU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IFIC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GRUPAMIEN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5909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3200400"/>
            <a:ext cx="30456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380988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44197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35640" y="501336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92720" y="5661000"/>
            <a:ext cx="304920" cy="58752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 : COMO RESOLVER LAS DIFICULTAD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ROL DE VOCABULARI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confeccionan vocabularios con listar estrictas de términos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esto se le llama “VOCABULARIO CONTROLADO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cuerda utilizar exclusivamente estos términos para expresar la información a ingres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CONCEPTOS DE LENGUAJE NATURAL y DE TÉRMINO MÉ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NGUAJE NATU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junto de todas las palabras y expresiones utilizadas por una sociedad. (ej.), independiente si son médicos, pacientes, otr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RMINO MEDIC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labra o conjunto de palabras que expresan un concepto médico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mpl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diopatí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lor de cabe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 MED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22652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vocabularios se clasifican según su “tipo de organización” o su mecanismo de confec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22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NGUAJE NATUR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CABULAR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MENCLATU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IFIC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758240" indent="-262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GRUPAMIEN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2590920"/>
            <a:ext cx="304920" cy="587160"/>
          </a:xfrm>
          <a:custGeom>
            <a:avLst/>
            <a:gdLst/>
            <a:ahLst/>
            <a:rect l="l" t="t" r="r" b="b"/>
            <a:pathLst>
              <a:path w="1620" h="2572">
                <a:moveTo>
                  <a:pt x="183" y="1199"/>
                </a:moveTo>
                <a:lnTo>
                  <a:pt x="0" y="1896"/>
                </a:lnTo>
                <a:lnTo>
                  <a:pt x="625" y="2572"/>
                </a:lnTo>
                <a:lnTo>
                  <a:pt x="1620" y="299"/>
                </a:lnTo>
                <a:lnTo>
                  <a:pt x="1620" y="0"/>
                </a:lnTo>
                <a:lnTo>
                  <a:pt x="510" y="1916"/>
                </a:lnTo>
                <a:lnTo>
                  <a:pt x="183" y="119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el conjunto de términos utilizados en un campo de conocimiento específico, en este caso, la medici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STICAS  DEL VOCABULARIO MED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pl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ímites difus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controla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 Por lo tanto: difícil de utilizar en un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TERMINOLOGÍ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RMIN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a de términos que se utilizan en un campo o dominio específic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una lista real, que surge por ejemplo, de ingresar todos los términos de un conjunto de fichas médicas escritas en papel, durante un período de tiemp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tiene ningún control en el ingreso de términos a esta lis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NOMENCLATUR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MENCLATUR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una lista de términos avalados por una organiz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organización, sociedad científica u otro organismo similar, revisa la terminología 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descarta los términos confusos o inválido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detalla sus alcan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dispone de su utilización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mplo: SNOMED-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VOCABULARIOS, TERMINOLOGÍAS Y NOMENCLATUR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344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1333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CABULARI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33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os los términos de un domin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OLOGÍ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33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a de términos en el dominio (sin contro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MENCLATU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233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a de términos de un dominio, avalada por una organ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6:03:07Z</dcterms:created>
  <dc:creator>Administrator</dc:creator>
  <dc:description/>
  <dc:language>en-US</dc:language>
  <cp:lastModifiedBy>Cristóbal Muñoz</cp:lastModifiedBy>
  <dcterms:modified xsi:type="dcterms:W3CDTF">2006-10-03T20:45:04Z</dcterms:modified>
  <cp:revision>198</cp:revision>
  <dc:subject/>
  <dc:title>Sin título de diapositiva</dc:title>
</cp:coreProperties>
</file>