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8A0-5ACE-451C-8A0E-53EF6E7E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622-1F51-4B10-8425-88C101DC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129-F139-4663-BDD6-E78BB928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BEA-0001-4B7E-B43A-D9278916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2762-20D0-49FE-B9A8-402D4846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C78A-222C-4BA7-B0DC-54FF85A4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AA52-CBC0-4502-BFCF-C98D711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2DCD-C08D-49AB-A6B8-E612CD7C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0EB2-DF42-4B39-AB40-4C720586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2DE1-D5E3-484E-869D-A03A67E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A895-8990-43A4-A466-D4CC575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455-F64E-421D-832B-19E30630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6F1F-936A-493E-908A-3719428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672A-1E4B-4B9C-A29C-AD9B5FE0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05F6-0482-4BB8-A527-DA1B0179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3B09-D745-4FB3-8083-DF3746BF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BFED-6973-469B-AC91-510BFEB0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BCC-2694-434D-B4F1-F89CCCCA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5C1-3E10-4B33-87B7-E2165CDF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415-6155-4FAD-8F06-9A71C33A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A7B-B868-454F-A82F-EBE36599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BED-FF04-488B-8BE6-B5877C4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137-88BA-4D18-8932-48F6F72D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6F0-1114-400F-A67F-E3CC7922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3512-9EA2-45B0-BE56-DB35D3AB15B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01A-36B6-4FE3-900C-1E64FCB5379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BJETIVO Y DIFICULT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POS DE VOCABUL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CODIFICAC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S MODELOS PARA REPRESENTAR UN VOCABULUARIO CONTROL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POS DE CLASIFICAC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 MAS UT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ESTRUCTURAS DE ORGANIZACIÓN INTER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 Y NOMENCLATUR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eden o no tener estructuras de organización interna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por 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erarqu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aciones de sinónim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as relaciones (causa de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200400"/>
            <a:ext cx="30456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80988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44197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CLASIFICAC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STEMAS ORDENADOS DE CONCEPTOS PERTENECIENTES A UN DOMINIO, CON PRINCIPIOS DE ORDEN IMPLÍCITO O EXPLÍC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n listas, pero de categorías (no de términos como lo era con vocabulario, terminologías y nomenclatur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categorías incluyen gran variedad de términos médicos que tienen algo en comú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lo tanto, las clasificaciones tienen MENOS ítems que las terminologí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CLASIFICACIONES MAS UTILIZAD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8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DIAGNÓST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E-10  CIE-9CM, CIAP 2E, DSM-I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PROCEDIMI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PT4, CIE-10 P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DRO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C, NDC, Rx-N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NFERMER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NDA, NIC, NOC, OMAH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NOMED-CT  se puede utilizar en todos estos dominios y tiene mapeos específicos a cada uno de ell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STEMAS DE CLASIFICACIÓ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eases (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E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P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mar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(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S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gnostic and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tistic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ual for Mental Dis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D-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eases for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c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PT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rent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edur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rmin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P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edures in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dic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1. ICD International Classification of Diseases 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(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E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IE-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IE9-C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IE-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s el estándar más utilizado a nivel mundial. Se revisa aprox. cada 10 añ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 creó con la intención de codificar las causas de muerte, pero después se amplió al diagnóstico de enfermedades  en gene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CIE-9 aún se utili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E9-CM con modificaciones clínicas: se usa en E.E.U.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E-10  (creado 1992) desde 1995 se utiliza en varios países, en Chile, se comenzó a usar en 1997, es el estándar utilizado en Europ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ww.proteccioncivil.org/arce/catalogo/cie10/cie10.h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2. ICPC International Classification of Primare Care 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(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P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organización muncial de atención primaria, (WONCA), no aceptó el CIE-9, y creó su propia clasific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menos extensa en diagnósticos que CIE, pero además de codificar diagnósticos,  codific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u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rap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st de laborato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gran cantidad de sistemas de información de atención primaria, se ingresan los códigos numéricos para resultados de laboratorio, lo que evita codificación  manual, y el módulo de prescripción de medicamentos almacena automáticamente el código de la droga (genérico) y otra información de la prescrip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3. DSM Diagnostic and Statistical Manual for Mental Disord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ampliación en descripción de diagnósticos de ésta área, (en gral letra F de CI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 II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 III-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I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 IV-T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mera edición(DSM-I en 1952, según CIE-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SM II se basó en CIE-8 (196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SM III-R compatible con CIE-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y se utiliza DSM IV-TR (texto revisado), compatible con CIE-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Nota: ver texto completo y brevari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                                               </a:t>
            </a: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4. SNOMED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 Systematized Nomenclature of Human and Veterinary Medic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mite la codificación de multiples aspectos de una enferme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 sistema multiaxial (de múltiples ejes), (ultima versión tiene 11 ejes o módulos) cada eje forma un completo sistema de clasificación jerárqu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diagnóstico contien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topográfico 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ej. T-28000 : pulm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morfológico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M-44000 granulo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de organismo vivo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L-21801 Microbacteria de tb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código de función.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F-03003 fieb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ste ejemplo, se describe la tuberulosis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IE:  D-14800),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ero puede llevar a confusiones porque tbc puede ser no sólo en el pulmó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mbién permite combinar conceptos médicos (yuxtaposición de códigos), pero a veces estas combinaciones pueden carecer de significado, lo que es casi imposible chequearlo por comput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4. ICD-O      International Classification of Diseases for Onc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usa bastante en registros de cánce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bina un código de 4 dígitos de topografía basado en CIE con un código de morfología que incluye un código de comportamiento  de neoplasma y un código de gradiente histológica  (los códigos de morfología se adoptan de SNOM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 : OBJETIVO  Y DIFICULTAD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resentar cosas que pasan en el mundo real, como datos estructurados para que puedan ser manejados en forma computacio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y exten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big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pende del contex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y especial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o de jergas y acrónim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ltan definiciones riguro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5. CPT          Current Procedural Termin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ado en Estados Unidos para cobros médicos y reembol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ee un esquema de codificación  de procedimientos diagnósticos y terapéuticos basados en cos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6. ICPM      International Classification of Procedures in Medic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do por la OMS (WHO) , que planeaba agregar más módulos según los comentarios recibidos por los usuarios, pero esto nunca sucedió, sin embargo, sirvió de inspiración para otras clasificaciones de procedimien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j. Módulo de procedimientos de ICD-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200400"/>
            <a:ext cx="30456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80988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4197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501336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AGRUPAC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961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ás conocido es el GRUPO RELACIONADO DE DIAGNOSTICOS (GRD o DRG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 conjunto de reglas que agrupan los códigos de CIE-9CM registrados en un episodio de internación, en las que un solo código resume todo el episod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grupo DRG incluye episodios de internación con diferentes diagnósticos, pero que se agrupan juntos con un criterio de consumo de recursos similar en primera instancia, y de sus caracteristicas clinicas en segunda instancia. Es un agrupador 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socosto.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usa en US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200400"/>
            <a:ext cx="30456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380988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44197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501336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566100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 : COMO RESOLVER LAS DIFICULTAD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 DE VOCABULARI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confeccionan vocabularios con listar estrictas de términos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esto se le llama “VOCABULARIO CONTROLADO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cuerda utilizar exclusivamente estos términos para expresar la información a ingres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CONCEPTOS DE LENGUAJE NATURAL y DE TÉRMINO MÉ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NGUAJE NATU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junto de todas las palabras y expresiones utilizadas por una sociedad. (ej.), independiente si son médicos, pacientes, ot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RMINO MEDIC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labra o conjunto de palabras que expresan un concepto médic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mpl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diopatí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lor de cabe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el conjunto de términos utilizados en un campo de conocimiento específico, en este caso, la medici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STICAS  DEL VOCABULARIO MED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pl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mites difus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control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 Por lo tanto: difícil de utilizar en un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TERMINOLOGÍ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RMIN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 de términos que se utilizan en un campo o dominio específ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a lista real, que surge por ejemplo, de ingresar todos los términos de un conjunto de fichas médicas escritas en papel, durante un período de tiemp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tiene ningún control en el ingreso de términos a esta lis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NOMENCLATU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MENCLATU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a lista de términos avalados por una organiz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organización, sociedad científica u otro organismo similar, revisa la terminología 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escarta los términos confusos o inválido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etalla sus alcan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ispone de su utilización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mplo: SNOMED-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S, TERMINOLOGÍAS Y NOMENCLATUR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términos de un domi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 de términos en el dominio (sin contr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 de términos de un dominio, avalada por una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6:03:07Z</dcterms:created>
  <dc:creator>Administrator</dc:creator>
  <dc:description/>
  <dc:language>en-US</dc:language>
  <cp:lastModifiedBy>Cristóbal Muñoz</cp:lastModifiedBy>
  <dcterms:modified xsi:type="dcterms:W3CDTF">2006-10-03T20:45:04Z</dcterms:modified>
  <cp:revision>198</cp:revision>
  <dc:subject/>
  <dc:title>Sin título de diapositiva</dc:title>
</cp:coreProperties>
</file>