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FE07-7333-4126-AB08-F0F7E65F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451D-71A4-4B14-B7DB-0654C087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E412-542F-4902-BEB8-E03E4F13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182C-7F88-4EB7-9ED8-E5422F64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6F10-A502-489F-9D82-35E037B9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2495-11EE-4ABF-9D69-3028FD37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0002-07F6-42C0-829F-AE89FBE5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7040-442A-4150-81FD-431C6676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7ED4-C895-4132-8E8A-1DA89FCD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1C04-5D7E-4C99-ACC5-E87C3352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F370-DF5F-4531-AF75-3AA6A533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E4E1-BC61-4C5F-B860-0378E2BA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CA6D-0E14-4B13-BBFA-46E9D2E8C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68160" y="655560"/>
          <a:ext cx="828864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55560"/>
                    <a:ext cx="828864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06600" y="482760"/>
          <a:ext cx="7867440" cy="536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82760"/>
                    <a:ext cx="7867440" cy="53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93640" y="469800"/>
          <a:ext cx="8040600" cy="50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469800"/>
                    <a:ext cx="804060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42960" y="506520"/>
          <a:ext cx="8313840" cy="606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06520"/>
                    <a:ext cx="8313840" cy="60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55560" y="642960"/>
          <a:ext cx="822636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642960"/>
                    <a:ext cx="822636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92280" y="606600"/>
          <a:ext cx="799128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06600"/>
                    <a:ext cx="799128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95360" y="457200"/>
          <a:ext cx="8472600" cy="63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57200"/>
                    <a:ext cx="847260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57280" y="557280"/>
          <a:ext cx="847260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57280"/>
                    <a:ext cx="847260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46040" y="531720"/>
          <a:ext cx="859644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531720"/>
                    <a:ext cx="859644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82760" y="544680"/>
          <a:ext cx="8510400" cy="58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44680"/>
                    <a:ext cx="851040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1320" y="619200"/>
          <a:ext cx="7966080" cy="76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19200"/>
                    <a:ext cx="7966080" cy="76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16:08:35Z</dcterms:created>
  <dc:creator>jalvarez</dc:creator>
  <dc:description/>
  <dc:language>en-US</dc:language>
  <cp:lastModifiedBy>jalvarez</cp:lastModifiedBy>
  <cp:lastPrinted>2006-10-03T14:55:59Z</cp:lastPrinted>
  <dcterms:modified xsi:type="dcterms:W3CDTF">2006-10-03T15:00:46Z</dcterms:modified>
  <cp:revision>14</cp:revision>
  <dc:subject/>
  <dc:title>Sin título de diapositiva</dc:title>
</cp:coreProperties>
</file>