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D2E5D-E771-43DC-9978-31238A7F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E345-DBA3-4552-9CE0-922755079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2359-233D-4C1B-93FC-96F00CF6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9C7D-FAEC-4F01-BACD-B59757900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2468-B043-4E54-A450-6620AF27B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77D30-A5B9-48E4-A51A-3A53FCB26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4DF4-6840-4626-A3EC-2A1A6E8C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4B8F-7142-4944-9F21-EAE025AC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30F9-D96B-452C-810A-B24C9510A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E572-57F6-4FEB-A19E-22B700402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0EB4-04F0-422D-8EE6-905553900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ADB9-1082-4B56-A7CE-3360953D4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1077-D0A2-4F93-A8C4-4607948E0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68160" y="655560"/>
          <a:ext cx="8288640" cy="5666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8160" y="655560"/>
                    <a:ext cx="8288640" cy="566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06600" y="482760"/>
          <a:ext cx="7867440" cy="536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482760"/>
                    <a:ext cx="7867440" cy="536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93640" y="469800"/>
          <a:ext cx="8040600" cy="503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469800"/>
                    <a:ext cx="8040600" cy="503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642960" y="506520"/>
          <a:ext cx="8313840" cy="606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506520"/>
                    <a:ext cx="8313840" cy="60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55560" y="642960"/>
          <a:ext cx="822636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642960"/>
                    <a:ext cx="822636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92280" y="606600"/>
          <a:ext cx="799128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06600"/>
                    <a:ext cx="799128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95360" y="457200"/>
          <a:ext cx="8472600" cy="63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57200"/>
                    <a:ext cx="8472600" cy="63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57280" y="557280"/>
          <a:ext cx="8472600" cy="58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57280"/>
                    <a:ext cx="8472600" cy="58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446040" y="531720"/>
          <a:ext cx="8596440" cy="6197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531720"/>
                    <a:ext cx="8596440" cy="619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82760" y="544680"/>
          <a:ext cx="8510400" cy="5851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544680"/>
                    <a:ext cx="8510400" cy="585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41320" y="619200"/>
          <a:ext cx="7966080" cy="7630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619200"/>
                    <a:ext cx="7966080" cy="763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4T16:08:35Z</dcterms:created>
  <dc:creator>jalvarez</dc:creator>
  <dc:description/>
  <dc:language>en-US</dc:language>
  <cp:lastModifiedBy>jalvarez</cp:lastModifiedBy>
  <cp:lastPrinted>2006-10-03T14:55:59Z</cp:lastPrinted>
  <dcterms:modified xsi:type="dcterms:W3CDTF">2006-10-03T15:00:46Z</dcterms:modified>
  <cp:revision>14</cp:revision>
  <dc:subject/>
  <dc:title>Sin título de diapositiva</dc:title>
</cp:coreProperties>
</file>