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E48C-AD9D-435D-A191-B31E561B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8590-9FD0-4591-B6D8-842FEFEF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83CC-209A-44FD-8C6F-E0C326FE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982D-F8CA-41AF-B3BC-C5818397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048D-BCC0-4AED-A65F-A303A841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9DA2-BAE5-4DDE-B518-D0E575EF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3ACB-4114-4F3A-BC45-46AF61A9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FB48-1C4A-494C-9527-61B6975D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6C49-38BE-4893-A6D8-82490BD6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DDCC-AAB9-4999-A83A-ACAA7B30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FC2C-B95D-442F-9E51-C580BF24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10CB-7A97-4D90-B572-018B5C6E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4A97-94DC-456B-A63C-B3D2447EA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68160" y="655560"/>
          <a:ext cx="828864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655560"/>
                    <a:ext cx="828864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06600" y="482760"/>
          <a:ext cx="7867440" cy="536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482760"/>
                    <a:ext cx="7867440" cy="53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93640" y="469800"/>
          <a:ext cx="8040600" cy="503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469800"/>
                    <a:ext cx="8040600" cy="50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42960" y="506520"/>
          <a:ext cx="8313840" cy="606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06520"/>
                    <a:ext cx="8313840" cy="60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55560" y="642960"/>
          <a:ext cx="822636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642960"/>
                    <a:ext cx="822636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92280" y="606600"/>
          <a:ext cx="799128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06600"/>
                    <a:ext cx="799128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95360" y="457200"/>
          <a:ext cx="8472600" cy="63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57200"/>
                    <a:ext cx="8472600" cy="63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57280" y="557280"/>
          <a:ext cx="847260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557280"/>
                    <a:ext cx="847260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46040" y="531720"/>
          <a:ext cx="8596440" cy="619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531720"/>
                    <a:ext cx="8596440" cy="61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82760" y="544680"/>
          <a:ext cx="8510400" cy="58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44680"/>
                    <a:ext cx="851040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41320" y="619200"/>
          <a:ext cx="7966080" cy="763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19200"/>
                    <a:ext cx="7966080" cy="76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16:08:35Z</dcterms:created>
  <dc:creator>jalvarez</dc:creator>
  <dc:description/>
  <dc:language>en-US</dc:language>
  <cp:lastModifiedBy>jalvarez</cp:lastModifiedBy>
  <cp:lastPrinted>2006-10-03T14:55:59Z</cp:lastPrinted>
  <dcterms:modified xsi:type="dcterms:W3CDTF">2006-10-03T15:00:46Z</dcterms:modified>
  <cp:revision>14</cp:revision>
  <dc:subject/>
  <dc:title>Sin título de diapositiva</dc:title>
</cp:coreProperties>
</file>