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8C63-18BD-4B15-9FE7-7536F64E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0AC-76A8-44E4-AABF-1DA9A44D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DE7-9619-4204-A212-CD331ABD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95A-B1AD-44D0-88A8-248CBCAE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707-F75D-4B5C-9C5A-970283DE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5EF-57F4-4782-8E05-966B054C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CC1-A5EF-46D9-8E6B-DFC8CA5C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5F9-587D-4B74-B744-C2275CD0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103-7514-424B-999C-3DB3070D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A0D-EA9F-47E9-9E89-D039D7EB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ABD-A408-42FA-B9D2-4D9A5443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8E5-789E-49BA-984F-EB2B216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0413-5AB2-4B9D-8527-233BDBFEF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482760"/>
          <a:ext cx="7867440" cy="536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82760"/>
                    <a:ext cx="7867440" cy="53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93640" y="469800"/>
          <a:ext cx="804060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69800"/>
                    <a:ext cx="804060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506520"/>
          <a:ext cx="8313840" cy="60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06520"/>
                    <a:ext cx="8313840" cy="60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95360" y="457200"/>
          <a:ext cx="84726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57200"/>
                    <a:ext cx="84726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57280" y="557280"/>
          <a:ext cx="847260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57280"/>
                    <a:ext cx="847260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46040" y="531720"/>
          <a:ext cx="85964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31720"/>
                    <a:ext cx="85964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2760" y="544680"/>
          <a:ext cx="851040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44680"/>
                    <a:ext cx="85104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19200"/>
          <a:ext cx="7966080" cy="76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19200"/>
                    <a:ext cx="7966080" cy="76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6:08:35Z</dcterms:created>
  <dc:creator>jalvarez</dc:creator>
  <dc:description/>
  <dc:language>en-US</dc:language>
  <cp:lastModifiedBy>jalvarez</cp:lastModifiedBy>
  <cp:lastPrinted>2006-10-03T14:55:59Z</cp:lastPrinted>
  <dcterms:modified xsi:type="dcterms:W3CDTF">2006-10-03T15:00:46Z</dcterms:modified>
  <cp:revision>14</cp:revision>
  <dc:subject/>
  <dc:title>Sin título de diapositiva</dc:title>
</cp:coreProperties>
</file>