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9F3-6305-4613-B40E-CB319368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B27-DABF-442B-90F0-C7B8518A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66B-3A14-4AD1-9816-674AC5FD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825-19FE-438A-BEEE-E06F6D09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598-EF42-4F5C-B6E9-1A5C798E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561-469F-4E06-9E9D-EBF2A47E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23C-2CD0-4A7A-AFE5-04AEF6F3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2F4-D551-4B8C-96C4-4F828FDF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7EC-1536-4B91-B5DB-E8C2DDE9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423-B376-4831-AC6C-311BA25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A75-B067-491C-9362-7A348EE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621-ACB5-4E8E-81C8-3B574106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EC4E-2E9F-4D91-AFC7-F31A4514C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2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2-29/3, 5/4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/5, 7-14/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0/7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2-29/3, 5/4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/5, 7-14/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765000"/>
            <a:ext cx="3780000" cy="3831840"/>
            <a:chOff x="539640" y="765000"/>
            <a:chExt cx="3780000" cy="3831840"/>
          </a:xfrm>
        </p:grpSpPr>
        <p:graphicFrame>
          <p:nvGraphicFramePr>
            <p:cNvPr id="110" name=""/>
            <p:cNvGraphicFramePr/>
            <p:nvPr/>
          </p:nvGraphicFramePr>
          <p:xfrm>
            <a:off x="539640" y="765000"/>
            <a:ext cx="3780000" cy="271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76500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539640" y="4076640"/>
              <a:ext cx="37800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364000" y="692280"/>
            <a:ext cx="3780000" cy="5110200"/>
            <a:chOff x="5364000" y="692280"/>
            <a:chExt cx="3780000" cy="5110200"/>
          </a:xfrm>
        </p:grpSpPr>
        <p:graphicFrame>
          <p:nvGraphicFramePr>
            <p:cNvPr id="114" name=""/>
            <p:cNvGraphicFramePr/>
            <p:nvPr/>
          </p:nvGraphicFramePr>
          <p:xfrm>
            <a:off x="5364000" y="692280"/>
            <a:ext cx="3780000" cy="2714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64000" y="692280"/>
                      <a:ext cx="378000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5364000" y="400356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042920" y="59421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55897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Primera semana de Julio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titulacion.ing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00280"/>
            <a:ext cx="1619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espués que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2007 (aprox)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demás para Cyber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Se sube directamente los siguientes arch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Í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90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TENIDA 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May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RUSADELLI ACUÑA, PAULINA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Variaciones de Poblaciones Bacterianas en Procesos de Biolixivi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LANCA ESCOBAR, TOMAS VARGAS, ORIANA SALAZ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ES MARIN, LUIS MARCE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ntrol no Lineal de Oxígeno Disuelto en Lodos Activados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LEANDRO HERRERA, JOSE HERNANDEZ ,JORGE CASTILL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YANADEL MARTINEZ, GERMAN EN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sos alternativos del cob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TOMAS VARGAS, BLANCA ESC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NUÑEZ, YORDI ANDRES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xperimental y modelación de procesos de cristalización de molibda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ESUS MANUEL CASAS , LUIS CIFU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9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Junio 14:30 Sala por fijar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ctividad Oxidativa y Crecimiento de Acidithiobacillus ferrooxidans en la oxidación de ión ferroso en presencia de Carbón Activad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TOMAS VARGAS, BLANCA ESCOBAR, M.ELENA LIENQU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MEMBRANAS POLIMERICAS PARA SEPARACION DE MEZCLA DE GASE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.QUIJADA, F.GRACIA, P.AR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ado del Arte y Evaluación Técnica de la Generación Solar de Electricidad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L.HERRERA, 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Junio 14:30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ducción de una celulasa psicrofilica recombinante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Oriana Salazar Prof Co-guía: M.Elena Lienqueo Prof. Integrante: Leandro Herrera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  </a:t>
            </a:r>
            <a:br>
              <a:rPr sz="1800"/>
            </a:br>
            <a:br>
              <a:rPr sz="18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Optimización del cultivo de células HEK 293 en suspensión para el crecimiento y producción de adenovirus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Z.Gerdtzen Prof Co-guía: B.Andrews Prof. Integrante: I.Rappapor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Prof Co-guía: I. Rapaport Prof. Integrante: B.Andrew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archivo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5-09T22:35:12Z</dcterms:modified>
  <cp:revision>142</cp:revision>
  <dc:subject/>
  <dc:title>El ingeniero, etica y sociedad</dc:title>
</cp:coreProperties>
</file>