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0321-ECE7-4078-A2F6-0AD14A57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FDA-A9E7-40A9-AA57-F985C36A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9357-04DC-4A00-AA9D-A0377982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AC3-2E06-43EF-A182-F2CCE7F6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3BB-2572-4D60-8C5C-A72D2E4A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111-14B7-425F-93FB-BF0BFAE1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D3FF-E621-449E-B2DA-6ED3F09B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109D-A5DE-427C-8727-A0BD870F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4D9D-F4DD-4A1A-9AC8-E4E1C8F5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3528-EEBE-44B0-924E-5DBEBE5C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558F-01DA-4184-BF78-39F90496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9A7B-06E6-42FA-9D1C-E511046C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41D5-A8C6-44BB-BB24-BC556C61D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2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2-29/3, 5/4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1/5, 7-14/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0/7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2-29/3, 5/4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1/5, 7-14/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 </a:t>
            </a: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06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/07/2007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/08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9640" y="765000"/>
            <a:ext cx="3780000" cy="3831840"/>
            <a:chOff x="539640" y="765000"/>
            <a:chExt cx="3780000" cy="3831840"/>
          </a:xfrm>
        </p:grpSpPr>
        <p:graphicFrame>
          <p:nvGraphicFramePr>
            <p:cNvPr id="110" name=""/>
            <p:cNvGraphicFramePr/>
            <p:nvPr/>
          </p:nvGraphicFramePr>
          <p:xfrm>
            <a:off x="539640" y="765000"/>
            <a:ext cx="3780000" cy="2714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9640" y="76500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539640" y="4076640"/>
              <a:ext cx="378000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364000" y="692280"/>
            <a:ext cx="3780000" cy="5110200"/>
            <a:chOff x="5364000" y="692280"/>
            <a:chExt cx="3780000" cy="5110200"/>
          </a:xfrm>
        </p:grpSpPr>
        <p:graphicFrame>
          <p:nvGraphicFramePr>
            <p:cNvPr id="114" name=""/>
            <p:cNvGraphicFramePr/>
            <p:nvPr/>
          </p:nvGraphicFramePr>
          <p:xfrm>
            <a:off x="5364000" y="692280"/>
            <a:ext cx="3780000" cy="27144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64000" y="692280"/>
                      <a:ext cx="378000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" name=""/>
            <p:cNvSpPr/>
            <p:nvPr/>
          </p:nvSpPr>
          <p:spPr>
            <a:xfrm>
              <a:off x="5364000" y="400356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042920" y="59421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55897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99"/>
                </a:solidFill>
                <a:latin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Primera semana de Julio</a:t>
            </a:r>
            <a:br>
              <a:rPr sz="4800"/>
            </a:b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titulacion.ing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700280"/>
            <a:ext cx="1619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Después que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/08/2007 (aprox)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demás para Cybert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Se sube directamente los siguientes arch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Í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90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TENIDA 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1 de May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BRUSADELLI ACUÑA, PAULINA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la Variaciones de Poblaciones Bacterianas en Procesos de Biolixivi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BLANCA ESCOBAR, TOMAS VARGAS, ORIANA SALAZ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CORTES MARIN, LUIS MARCE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Control no Lineal de Oxígeno Disuelto en Lodos Activados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LEANDRO HERRERA, JOSE HERNANDEZ ,JORGE CASTILL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YANADEL MARTINEZ, GERMAN EN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sos alternativos del cob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TOMAS VARGAS, BLANCA ESCO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ÑA NUÑEZ, YORDI ANDRES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experimental y modelación de procesos de cristalización de molibda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ESUS MANUEL CASAS , LUIS CIFU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9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7 de Junio 14:30 Sala por fijar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AZ ROZAS, PATRICIA CARO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Actividad Oxidativa y Crecimiento de Acidithiobacillus ferrooxidans en la oxidación de ión ferroso en presencia de Carbón Activad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TOMAS VARGAS, BLANCA ESCOBAR, M.ELENA LIENQU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COBAR GUTIERREZ, KARLA FABI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MEMBRANAS POLIMERICAS PARA SEPARACION DE MEZCLA DE GASE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R.QUIJADA, F.GRACIA, P.ARAY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INEZ SAPERAS, VERONICA MAR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ado del Arte y Evaluación Técnica de la Generación Solar de Electricidad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L.HERRERA, F.GRAC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4 de Junio 14:30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IN ROMELA</a:t>
            </a: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ducción de una celulasa psicrofilica recombinante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Oriana Salazar Prof Co-guía: M.Elena Lienqueo Prof. Integrante: Leandro Herrera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  </a:t>
            </a:r>
            <a:br>
              <a:rPr sz="1800"/>
            </a:br>
            <a:br>
              <a:rPr sz="18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ÍNEZ VERÓNICA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Optimización del cultivo de células HEK 293 en suspensión para el crecimiento y producción de adenovirus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Z.Gerdtzen Prof Co-guía: B.Andrews Prof. Integrante: I.Rappaport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UDINICH ABARCA, MARK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integrado de flujos metabólicos y regulación génica en levaduras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Asenjo Prof Co-guía: I. Rapaport Prof. Integrante: B.Andrew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archivo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7-05-09T22:35:12Z</dcterms:modified>
  <cp:revision>142</cp:revision>
  <dc:subject/>
  <dc:title>El ingeniero, etica y sociedad</dc:title>
</cp:coreProperties>
</file>