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F851-ECB8-44AC-B907-916F14B2C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1287-2439-4010-9E9E-15EAAE3CA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8D1F-C2FB-45D8-A216-63F5B9FF1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76D5-2783-491D-A5AF-5D4B9530B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39DB-F7D3-44D8-B042-3708E7355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7782-E5B8-4DAF-88CE-55EC4AE89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CC18-DAAE-40EE-BAB9-075E40843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F762-74A9-4ADD-BA45-F591EF419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0FDF-D2C7-4E60-817C-4FDC83D14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DFEE-E6B1-44DB-A016-40A12B08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C9B3-4F01-406A-A92F-300028100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54ED-426C-447E-854C-BCDBE151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0AEA1-07D1-4D22-AE0C-CBA371C2731B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conama.cl/" TargetMode="Externa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bajo de Títul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T-IQ69 F/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2895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560" y="16765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sistencia Obligatoria a TODA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las present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71320" y="3805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Datos Prác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no debe durar más de 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20 min con preguntas (5 m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Log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Se cuenta con PC y Datash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visar los diskettes y  llegar antes para instalar y ver que la presentación func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ebe entregar algún tipo de material escrito a los profesores de la comi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Ver Pauta de Presentaciones Or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71320" y="609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se debe centrar en los siguientes pu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Introducción (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BREVE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Objetivos generales y específicos de la 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sultados obten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iscusión y Conclusiones PA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Actividades 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 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m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052640"/>
            <a:ext cx="77724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 Unicode MS"/>
              </a:rPr>
              <a:t>Tít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 Unicode MS"/>
              </a:rPr>
              <a:t>Res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1 Int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Antecedentes Bibliográf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Descripción del Proyecto y Justifica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Alc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2 Metodolog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ater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étod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3 Resultados ( y Discusion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4 Discu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5 Conclu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6 </a:t>
            </a:r>
            <a:r>
              <a:rPr b="1" lang="es-ES_tradnl" sz="2000" spc="-1" strike="noStrike" u="sng">
                <a:solidFill>
                  <a:srgbClr val="ffff00"/>
                </a:solidFill>
                <a:uFillTx/>
                <a:latin typeface="Arial Unicode MS"/>
                <a:ea typeface="Arial"/>
              </a:rPr>
              <a:t>Bibliograf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Arial"/>
              </a:rPr>
              <a:t>Anex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91520" y="3429000"/>
            <a:ext cx="1752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50 pág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Ca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562720" y="1219320"/>
            <a:ext cx="15238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}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124000" y="-31680"/>
            <a:ext cx="4894200" cy="6931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50920" y="465300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Times New Roman"/>
              </a:rPr>
              <a:t>NUEV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2700360" y="549360"/>
            <a:ext cx="3238560" cy="4680000"/>
            <a:chOff x="2700360" y="549360"/>
            <a:chExt cx="3238560" cy="4680000"/>
          </a:xfrm>
        </p:grpSpPr>
        <p:sp>
          <p:nvSpPr>
            <p:cNvPr id="65" name=""/>
            <p:cNvSpPr/>
            <p:nvPr/>
          </p:nvSpPr>
          <p:spPr>
            <a:xfrm>
              <a:off x="3203640" y="4076640"/>
              <a:ext cx="2735280" cy="11527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00360" y="549360"/>
              <a:ext cx="2735280" cy="35856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71640" y="907920"/>
            <a:ext cx="7323120" cy="12258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547640" y="2276640"/>
            <a:ext cx="385956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7999560" cy="44211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39640" y="5589720"/>
            <a:ext cx="8134560" cy="61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80960" y="1689120"/>
            <a:ext cx="8180280" cy="34876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547640" y="62064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Times New Roman"/>
              </a:rPr>
              <a:t>Consideraciones bás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Representativo, pero bre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ebe dar una </a:t>
            </a: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dea concreta del tema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del tema en estud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EBE ESTAR LI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923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-BT-IQ69F</a:t>
            </a:r>
            <a:br>
              <a:rPr sz="4400"/>
            </a:br>
            <a:r>
              <a:rPr b="1" lang="es-ES" sz="1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0/8</a:t>
            </a:r>
            <a:r>
              <a:rPr b="1" lang="es-E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s-ES" sz="1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aller de Búsquedas Bibliográficas (Optativo, Confirmar)</a:t>
            </a:r>
            <a:r>
              <a:rPr b="1" lang="es-E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es-ES" sz="1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4-31/08, 7-14/09 </a:t>
            </a:r>
            <a:r>
              <a:rPr b="0" lang="es-ES" sz="1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1200"/>
            </a:b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</a:t>
            </a: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9/10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aller sobre redacción borrador de memoria</a:t>
            </a:r>
            <a:br>
              <a:rPr sz="2400"/>
            </a:br>
            <a:br>
              <a:rPr sz="2400"/>
            </a:br>
            <a:br>
              <a:rPr sz="2000"/>
            </a:br>
            <a:r>
              <a:rPr b="0" lang="es-E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/11 - 17:00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Taller sobre preparación de entrevistas y CVs. Ximena Escobar, Deloitte.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Punto de reunión: 16:50</a:t>
            </a:r>
            <a:r>
              <a:rPr b="0" lang="es-ES" sz="4000" spc="-1" strike="noStrike">
                <a:solidFill>
                  <a:srgbClr val="ffff00"/>
                </a:solidFill>
                <a:latin typeface="Times New Roman"/>
              </a:rPr>
              <a:t>Providencia 1760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6/10, 9-16/11 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</a:t>
            </a:r>
            <a:br>
              <a:rPr sz="3600"/>
            </a:br>
            <a:br>
              <a:rPr sz="2400"/>
            </a:br>
            <a:r>
              <a:rPr b="1" lang="es-ES" sz="4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5/12: </a:t>
            </a:r>
            <a:r>
              <a:rPr b="0" lang="es-E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4000"/>
            </a:br>
            <a:br>
              <a:rPr sz="2400"/>
            </a:b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6/12</a:t>
            </a: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 por parte de la comisión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5/01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una de las partes más crucial del Infor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ser de la menor extensión posible (1 a 1 1/2 págin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entregar una visión completa (autocontenido), de modo que los lectores puedan decidir si leen otras sec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tiene antecedentes que justifiquen la realización de la memoria, la metodologías utilizada, lo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sultados  y la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conclu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resentación del tema de estudio, permite ubicar al lector indicando bajo que área se encuentra contenido el estudio específ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los principales aspectos que dan relevancia al estudio específico que se propone desarroll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ntecedentes Bibliográf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recopilación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y análisi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de las  experiencias o publicaciones recientes sobre el tema en estud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incluir en forma oportuna las referenc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!! Es básico investigar sobre el tema del proyecto, adecuada y profunda búsqueda bibliográfica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e realizó el semestre pasado (IQ-BT69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jemplo de entrega de anteced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alfabé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(Charniak y Mc Dermot, 1985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de apar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[1]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fer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itar las que se usarán en el traba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Belter PA, Cussler  E.L., Hu W. (1988) “ Bioseparations:  Processing for Biotechnology",John Wiley &amp; Sons, New York, 368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apítulos en 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Hagel L(1998) “ Gel Filtration" en "Protein Purification: Principles, High-Resolution Methods, and Applications”, Editado por J-C Janson and L. Ryden,2 Edition, Wiley-Liss, New York, 79-144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ap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Eriksson H, Sandahl K, Brewer J, Osterlund B (1991b). “Reactive planning for chromatography”, Chemometrics and Intelligent laboratory Systems: Laboratory Information Management 13: 185-194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emor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Muñoz D (1989) "Metodologías de Adquisición de conocimiento para la construcción de sistemas computacionales basados en el conocimiento (Sistemas Expertos) y aplicación a la ingeniería de procesos", Memoria de Magister en Cs. de la Ingeniería mención Química, Univeridad de Chile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anu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euroData (1991) "Nexpert Object - Reference manual", Neuron Data Inc.,Palo Alto, USA, 284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omunicación Direc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Righetti P.G (1999) Comunicación personal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áginas w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1"/>
              </a:rPr>
              <a:t>www.conama.cl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: Página Comisión Nacional Medio Ambiente, 20/mayo/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escripción del Proyecto y Justific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explicar y fundamentar (con los antecedentes previos) qué problema se pretende abord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la relevancia o utilidad del proyecto propues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dar  las razones que implican que se desarrolle este proyec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é se pier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é se puede ga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46483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un desglose detallado del objetivo general, se relacionan con los resultados parciales que deberán obteners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los logros intermedios que, en conjunto, posibilitan o alcanzar el objetivo gener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342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s Específicos</a:t>
            </a: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presenta en forma breve y precisa lo más relevante que se pretende lograr con el proyec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ser coherente con la justificación previa y con los resultados posteriores que se planteará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os objetivos se deben correlacionar directamente con las conclus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176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99"/>
                </a:solidFill>
                <a:uFillTx/>
                <a:latin typeface="Times New Roman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Específ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1640" y="2590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ccffff"/>
                </a:solidFill>
                <a:uFillTx/>
                <a:latin typeface="Times New Roman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ón Princip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ones de cada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95480" y="3429000"/>
            <a:ext cx="167652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05320" y="4038480"/>
            <a:ext cx="106668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lca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ijar límites al proyecto, se define la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profundidad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del proye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4920" y="2923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-BT-IQ69H</a:t>
            </a:r>
            <a:br>
              <a:rPr sz="3600"/>
            </a:br>
            <a:r>
              <a:rPr b="1" lang="es-E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Otoño 2006</a:t>
            </a:r>
            <a:br>
              <a:rPr sz="3600"/>
            </a:br>
            <a:r>
              <a:rPr b="1" lang="es-E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</a:t>
            </a:r>
            <a:r>
              <a:rPr b="1" lang="es-ES" sz="1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0/8</a:t>
            </a:r>
            <a:r>
              <a:rPr b="1" lang="es-E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s-ES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aller de Búsquedas Bibliográficas (Optativo, Confirmar)</a:t>
            </a:r>
            <a:r>
              <a:rPr b="1" lang="es-E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1" lang="es-ES" sz="1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4-31/08, 7-14/09 </a:t>
            </a:r>
            <a:r>
              <a:rPr b="0" lang="es-ES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1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9/10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aller sobre redacción borrador de memoria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s-E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/11 - 17:00</a:t>
            </a:r>
            <a:r>
              <a:rPr b="0" lang="es-E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Taller sobre preparación de entrevistas y CVs. Ximena Escobar, Deloitte.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6/10, 9-16/11 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</a:t>
            </a:r>
            <a:br>
              <a:rPr sz="3600"/>
            </a:br>
            <a:br>
              <a:rPr sz="2400"/>
            </a:br>
            <a:r>
              <a:rPr b="1" lang="es-ES" sz="4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08/01/2007: </a:t>
            </a:r>
            <a:r>
              <a:rPr b="0" lang="es-E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4000"/>
            </a:br>
            <a:br>
              <a:rPr sz="2400"/>
            </a:b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05/03/2007</a:t>
            </a: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 por parte de la comisión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02/04/07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todolog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ter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ét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2895480"/>
            <a:ext cx="77724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n ser breves y si necesita extenderse más use anex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ltados (y Discusion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dica los productos concretos obteni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comend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dividir el capítulo por objetivos específ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usar tablas y gráficos en forma simultánea. Si piensa que lo necesita colocar uno de ellos en apénd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ir discutiendo inmediatamente los resultados, resulta más fácil para el le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iscus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de las partes más importantes de la memo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todo lo aprendido, junto a la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apacidad de análisis y sínte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estar relacionada y comentar lo presentado tanto en resultados como en los antecedentes bibliográfico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(apoyarlos o refutarlo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onclu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arte más importantes de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be responder a los objetivos propues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Se ha logrado establecer 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o puede contener nada que no tenga respaldo con lo antes expuesto en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No deben aparecer nuevos 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ome tiempo en escribir este capítulo, COMENTELO CON SU PROFESOR GU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enga cuidado en la forma de redacción, pues se confunden los resultados con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as conclusion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l pH óptimo para la reacción en estudio es 7.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Resultado o Conclus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Cómo debería s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criba todo en términos posi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se logró detectar la presencia de orgánicos en la solu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  <a:ea typeface="Times New Roman"/>
              </a:rPr>
              <a:t>¿Correcto o no?, ¿Cómo debería se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La cantidad de orgánicos en la solución se encontraba bajo los niveles de detección. Se recomienda utilizar otros métodos de análi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4920" y="2923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-BT-IQ69H</a:t>
            </a:r>
            <a:br>
              <a:rPr sz="4000"/>
            </a:br>
            <a:r>
              <a:rPr b="1" lang="es-ES" sz="4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rimavera 2006</a:t>
            </a:r>
            <a:br>
              <a:rPr sz="4000"/>
            </a:br>
            <a:r>
              <a:rPr b="1" lang="es-ES" sz="1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0/8</a:t>
            </a:r>
            <a:r>
              <a:rPr b="1" lang="es-E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s-ES" sz="1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aller de Búsquedas Bibliográficas (Optativo, Confirmar)</a:t>
            </a:r>
            <a:r>
              <a:rPr b="1" lang="es-E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es-ES" sz="1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4-31/08, 7-14/09 </a:t>
            </a:r>
            <a:r>
              <a:rPr b="0" lang="es-ES" sz="1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12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9/10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aller sobre redacción borrador de memoria</a:t>
            </a:r>
            <a:br>
              <a:rPr sz="2400"/>
            </a:br>
            <a:br>
              <a:rPr sz="2800"/>
            </a:br>
            <a:r>
              <a:rPr b="1" lang="es-E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/11 - 17:00</a:t>
            </a:r>
            <a:r>
              <a:rPr b="0" lang="es-E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Taller sobre preparación de entrevistas y CVs. Ximena Escobar, Deloitte.</a:t>
            </a:r>
            <a:br>
              <a:rPr sz="2800"/>
            </a:br>
            <a:br>
              <a:rPr sz="2800"/>
            </a:br>
            <a:r>
              <a:rPr b="1" lang="es-E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/12/2006 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Informa de Avance</a:t>
            </a:r>
            <a:br>
              <a:rPr sz="3200"/>
            </a:br>
            <a:br>
              <a:rPr sz="2400"/>
            </a:br>
            <a:br>
              <a:rPr sz="2400"/>
            </a:br>
            <a:r>
              <a:rPr b="1" lang="es-ES" sz="4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7/06/2007: </a:t>
            </a:r>
            <a:r>
              <a:rPr b="0" lang="es-E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4000"/>
            </a:br>
            <a:br>
              <a:rPr sz="2400"/>
            </a:b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3/07/2007</a:t>
            </a: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 por parte de la comisión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0/08/07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306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Fecha de entrega del Borrador de Memoria</a:t>
            </a:r>
            <a:br>
              <a:rPr sz="4400"/>
            </a:br>
            <a:br>
              <a:rPr sz="4400"/>
            </a:br>
            <a:r>
              <a:rPr b="0" lang="es-ES" sz="4800" spc="-1" strike="noStrike">
                <a:solidFill>
                  <a:srgbClr val="ffff00"/>
                </a:solidFill>
                <a:latin typeface="Times New Roman"/>
              </a:rPr>
              <a:t>Martes 5 de Diciembre 2006</a:t>
            </a:r>
            <a:br>
              <a:rPr sz="4800"/>
            </a:br>
            <a:br>
              <a:rPr sz="48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En SECRETARIA DOCENTE DIQBT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Número de Ejemplares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ara cada miembro de la comisión</a:t>
            </a: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Co-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tegrante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vitado (Si lo h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Proceso de Titul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000080" y="-115920"/>
            <a:ext cx="7143840" cy="70992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916360" y="692280"/>
            <a:ext cx="934920" cy="792000"/>
          </a:xfrm>
          <a:prstGeom prst="ellipse">
            <a:avLst/>
          </a:prstGeom>
          <a:noFill/>
          <a:ln w="7632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700280"/>
            <a:ext cx="1619280" cy="16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uando la comisión evaluó su memo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28/12/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5/01/2007</a:t>
            </a:r>
            <a:br>
              <a:rPr sz="5400"/>
            </a:br>
            <a:r>
              <a:rPr b="0" lang="es-E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Número de Ejemplares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en cuero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ara cada miembro de la comisión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 (en tapa blanda)</a:t>
            </a: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Co-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tegrante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vitado (Si lo h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imes New Roman"/>
              </a:rPr>
              <a:t>Además para Cybertesis (NUEVO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CD que contenga los siguientes archivo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Portada de la memoria (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Resumen (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Indice de Contenidos (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Texto de la memoria COMPLETA (PD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894120" y="189000"/>
            <a:ext cx="5249880" cy="6669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95280" y="620640"/>
            <a:ext cx="295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Todas las memorias deberán entregar esta autorización para que sean publicadas en Cyberte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4551480"/>
            <a:ext cx="3780000" cy="18889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924360" y="5084640"/>
            <a:ext cx="2735280" cy="151308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639200" cy="58053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258920" y="18900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Times New Roman"/>
              </a:rPr>
              <a:t>https://titulacion.ing.uchile.c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Examen de Gr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Times New Roman"/>
              </a:rPr>
              <a:t>Lectura del Resu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Times New Roman"/>
              </a:rPr>
              <a:t>Presentación de la memoria (2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Times New Roman"/>
              </a:rPr>
              <a:t>Preguntas de la comisión ( 6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Calend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6740280" cy="66992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427640" y="0"/>
            <a:ext cx="3240000" cy="155736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¿ Consultas  y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 escribir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152280"/>
            <a:ext cx="8229600" cy="67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26 de Octubre 16:15 Sala B1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UÑOZ AGUIRRE, MARCELA EUGENIA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Producción de una subtilisina criofílica recombinante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</a:rPr>
              <a:t>Prof Guía: Juan Asenjo  Prof Co-guía: Oriana Salazar  Prof. Integrante: Barbara Andrews</a:t>
            </a:r>
            <a:br>
              <a:rPr sz="1200"/>
            </a:b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RODRIGUEZ GALLARDO, VIDA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Evolución dirigida de subtilisina criofílica con alta actividad a baja temperatur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  </a:t>
            </a:r>
            <a:br>
              <a:rPr sz="2000"/>
            </a:br>
            <a:r>
              <a:rPr b="1" lang="es-ES" sz="1200" spc="-1" strike="noStrike">
                <a:solidFill>
                  <a:srgbClr val="ffff00"/>
                </a:solidFill>
                <a:latin typeface="Comic Sans MS"/>
              </a:rPr>
              <a:t>Prof Guía: Oriana Salazar Prof Co-guía: Juan Asenjo  Prof. Integrante: Barbara Andre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152280"/>
            <a:ext cx="8229600" cy="53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9 de Noviembre 16:15 Sala B103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OMINGUEZ ZAMBRANO, PAOL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Estudio de la expresión de proteínas en Sulfolobus Metallicus durante la biolixiviación de calcopirit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. Guía: T. Vargas Co-Guia: B.Escobar Integrante: O. Salaza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GIMPEL MUÑOZ, CARLA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Toxicidad de especies orgánicas e inorgánicas sobre la actividad de microorganismos biolixivian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R.Badilla Prof Co-guía: J.Asenjo Prof. Integrante: B.Andre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HOLZER SCHAA, KATHLEEN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Cuantificación de bacterias hierrooxidantes en procesos de biolixiviación mediante NMP PCR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. Guía: B.Escobar Co-Guia: T: Vargas Integrante: O. Salazar</a:t>
            </a:r>
            <a:br>
              <a:rPr sz="2000"/>
            </a:br>
            <a:br>
              <a:rPr sz="20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152280"/>
            <a:ext cx="8229600" cy="66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9 de Noviembre 16:15 Sala Por Fijar (Nuev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ELGADO VARGAS, KATHER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studio de la polimerización de homopolímeros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olipropileno en sistema homogéneos y heterogéne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of Guía: R.Quijada Prof Co-guía: F.Gracia Prof. Integrante: J. RETUE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ULLOA LAMAS, MO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studio de la morfología de superficie de falla de polím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of Guía: MP Jorquera Prof Co-guía:R.Quijada Prof. Integrante: E.Dono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LLANOS JARA, ELIZABE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Reformado de alcoholes para la producción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hidrógeno sobre catalizadores soportados de níqu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of Guía: F.Gracia Prof Co-guía: P.Araya Prof. Integran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152280"/>
            <a:ext cx="8229600" cy="52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16 de Noviembre 16:15 Sala B103 (</a:t>
            </a: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Nuev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ORCHIO VALENZUELA, BARB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studio de mercado y Producción de Compuestos de Molibde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of Guía: J.Casas Prof Co-guía: R.Donoso Prof. Integran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ARA RAMIREZ, CLAU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Gestión Ambiental del Mercurio en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of. Guía: L.Veas Co-Guia: J.Wiertz Integrante: L.Herr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EÑAILILLO BENAVENTE, DANI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iseño de un destilador Solar de mediana esca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of. Guía: L. Herrera Co-Guia: J.Hernandez Integran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0320" y="5445000"/>
            <a:ext cx="772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00"/>
                </a:solidFill>
                <a:uFillTx/>
                <a:latin typeface="Times New Roman"/>
              </a:rPr>
              <a:t>LA ASISTENCIA ES OBLIGATORIA A TODAS LAS PRESENT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Ing Quimica</cp:lastModifiedBy>
  <dcterms:modified xsi:type="dcterms:W3CDTF">2006-10-26T20:19:36Z</dcterms:modified>
  <cp:revision>135</cp:revision>
  <dc:subject/>
  <dc:title>El ingeniero, etica y sociedad</dc:title>
</cp:coreProperties>
</file>