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B1FB-E096-40FD-9C07-6862C82F7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5E47-CDDF-4F47-850D-F79B7D99C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985B-0D2B-4FC1-BCEB-73677CCF8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B79D-B138-4336-9FA0-9DA348A13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A06E1-B3C2-46D7-B525-ABB342EA4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DCAC5-463F-4830-9213-5C3A6FA05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A2A05-05A0-47B0-8221-937AD1A05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D334F-3C47-4F54-9E53-E39CBDD47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90392-EE8C-4F4C-ADB5-0F2ACAF0C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EEF28-CACA-4B37-8F37-56DAC599D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98388-0B13-4494-9817-D8796B46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7BBC-0854-418E-A3CB-058B9853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FDB7A-DD7E-4A5C-8B53-8949AA2D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EA9B4-0723-4492-B559-486FB3E6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271AD-4728-4540-A9AE-3ED2BDF16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1BC63-04B6-46C6-9C6E-4B1B53F0A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EEE3E-6245-454B-8E84-9F9C2C239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D4DD-E6A1-4F8C-B8E8-8479B2A80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DD1F-9E3D-4E98-8432-CA2680AE9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AFD1-2BB8-42FF-8EB3-778FA840C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ED2E-5B96-4B37-8E22-8FE19C58C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B820-E75D-49F1-8649-E660A8AB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1D9E-6973-4811-85DA-163B36E9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E8A4-4F2D-49B6-9DFB-7DFC9C10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2EE1B-BF59-4636-B077-2078F2AD05E2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250920" y="981000"/>
            <a:ext cx="858600" cy="107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5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6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BED35-2BD1-4C54-8962-CD56B0F2A3C2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2492280"/>
            <a:ext cx="914400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ERRAMIENTAS BIBLIOGRA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PARA LA ELABORACION DE T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87280" y="692280"/>
            <a:ext cx="756144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Arial"/>
              </a:rPr>
              <a:t>Biblioteca Central.  Programa de Formación de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acultad de Ingeniería</a:t>
            </a:r>
            <a:r>
              <a:rPr b="0" lang="es-CL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99"/>
                </a:solidFill>
                <a:latin typeface="Arial"/>
              </a:rPr>
              <a:t>Departamento Ingeniería Quím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84760" y="94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96040" y="4365720"/>
            <a:ext cx="437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aborado por:         Rosa Leal </a:t>
            </a:r>
            <a:r>
              <a:rPr b="0" lang="es-CL" sz="1200" spc="-1" strike="noStrike" u="sng">
                <a:solidFill>
                  <a:srgbClr val="3333cc"/>
                </a:solidFill>
                <a:uFillTx/>
                <a:latin typeface="Arial"/>
              </a:rPr>
              <a:t>rleal@ing.uchile.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arolina Campillay </a:t>
            </a:r>
            <a:r>
              <a:rPr b="0" lang="es-CL" sz="1200" spc="-1" strike="noStrike" u="sng">
                <a:solidFill>
                  <a:srgbClr val="3333cc"/>
                </a:solidFill>
                <a:uFillTx/>
                <a:latin typeface="Arial"/>
              </a:rPr>
              <a:t>ccampill@ing.uchile.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Bibliotecarias Servicios al Públ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00560" y="5943600"/>
            <a:ext cx="162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osto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308720" y="5877000"/>
            <a:ext cx="1835280" cy="571320"/>
          </a:xfrm>
          <a:prstGeom prst="wedgeRectCallout">
            <a:avLst>
              <a:gd name="adj1" fmla="val -223097"/>
              <a:gd name="adj2" fmla="val -21944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tón para solicitar se utiliza  cuando la revista no está disponible en texto comple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2286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SOLICITUD  DE ARTÍ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A TRAVÉS DE  CORREO ELECTRÓ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50028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Times New Roman"/>
              </a:rPr>
              <a:t>Si el correo no está registrado, complete el formulario en “</a:t>
            </a:r>
            <a:r>
              <a:rPr b="1" lang="es-ES_tradnl" sz="1800" spc="-1" strike="noStrike" u="sng">
                <a:solidFill>
                  <a:srgbClr val="333399"/>
                </a:solidFill>
                <a:uFillTx/>
                <a:latin typeface="Times New Roman"/>
              </a:rPr>
              <a:t>Nuevo usuario</a:t>
            </a:r>
            <a:r>
              <a:rPr b="1" lang="es-ES_tradnl" sz="1800" spc="-1" strike="noStrike">
                <a:solidFill>
                  <a:srgbClr val="333399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340000" y="4292640"/>
            <a:ext cx="3486240" cy="2257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411280" y="1341360"/>
            <a:ext cx="3254400" cy="2151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99172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96080" y="0"/>
            <a:ext cx="1447920" cy="1066680"/>
          </a:xfrm>
          <a:prstGeom prst="wedgeRectCallout">
            <a:avLst>
              <a:gd name="adj1" fmla="val -29712"/>
              <a:gd name="adj2" fmla="val 7098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 utilizar una cuenta externa de correo electrónico, los artículos tendrán un cos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7696080" y="0"/>
            <a:ext cx="1447920" cy="1219320"/>
          </a:xfrm>
          <a:prstGeom prst="wedgeRectCallout">
            <a:avLst>
              <a:gd name="adj1" fmla="val -43518"/>
              <a:gd name="adj2" fmla="val 111458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 utilizar un cuenta de correo de la Universidad de Chile, los artículos serán gratui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219320" y="304920"/>
            <a:ext cx="761976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Garamond"/>
                <a:ea typeface="Times New Roman"/>
              </a:rPr>
              <a:t>SCIENCE DIRECT-ELSEVI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sciencedirect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9640" y="1836720"/>
            <a:ext cx="832968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Base  de  datos  referencial  que  ofrece  1.800  revistas,  publicadas por </a:t>
            </a:r>
            <a:r>
              <a:rPr b="1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ELSEVIER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  de diversas áreas del conocimien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Realizar diferentes búsquedas (autor, título de rev. y otr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cceso a los abstra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cceso a direcciones electrónicos de aut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cceso al texto completo de artículos revistas suscritas por la Universidad de Chile.  (207 títul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371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276720" y="692280"/>
            <a:ext cx="1079280" cy="718920"/>
          </a:xfrm>
          <a:prstGeom prst="wedgeRectCallout">
            <a:avLst>
              <a:gd name="adj1" fmla="val -281027"/>
              <a:gd name="adj2" fmla="val -11644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úsquedas por temas y ot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932360" y="692280"/>
            <a:ext cx="1655640" cy="431640"/>
          </a:xfrm>
          <a:prstGeom prst="wedgeRectCallout">
            <a:avLst>
              <a:gd name="adj1" fmla="val -242328"/>
              <a:gd name="adj2" fmla="val -16176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úsqueda por publi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40360" y="5229360"/>
            <a:ext cx="1656000" cy="431640"/>
          </a:xfrm>
          <a:prstGeom prst="wedgeRectCallout">
            <a:avLst>
              <a:gd name="adj1" fmla="val -329097"/>
              <a:gd name="adj2" fmla="val 129046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de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249120"/>
            <a:ext cx="8891640" cy="621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588000" y="1484280"/>
            <a:ext cx="1943280" cy="574560"/>
          </a:xfrm>
          <a:prstGeom prst="wedgeRectCallout">
            <a:avLst>
              <a:gd name="adj1" fmla="val -78837"/>
              <a:gd name="adj2" fmla="val 7375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acotar la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8351640" cy="4446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545120" y="765000"/>
            <a:ext cx="690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Arial"/>
              </a:rPr>
              <a:t>Formulario envío art. seleccion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332000" y="549360"/>
            <a:ext cx="7354800" cy="112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CL" sz="3200" spc="-1" strike="noStrike">
                <a:solidFill>
                  <a:srgbClr val="333399"/>
                </a:solidFill>
                <a:latin typeface="Tahoma"/>
              </a:rPr>
              <a:t>RECURSOS DE INFORM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99"/>
                </a:solidFill>
                <a:latin typeface="Tahoma"/>
              </a:rPr>
              <a:t>ACADÉMICA</a:t>
            </a: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84760" y="94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34960" y="2205000"/>
            <a:ext cx="21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TALOGO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33880" y="4941720"/>
            <a:ext cx="353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SI WEB OF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39280" y="3068640"/>
            <a:ext cx="459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CIENCE DIRECT-ELSEV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06600" y="4437000"/>
            <a:ext cx="25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BSCO- 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06600" y="3933720"/>
            <a:ext cx="22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QU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35320" y="2637000"/>
            <a:ext cx="14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 DIA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36040" y="5445000"/>
            <a:ext cx="295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UTA DE TESIS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52320" y="5950080"/>
            <a:ext cx="66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. ELABORACION CITAS BIBLIOGRAFICAS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INN114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37120" y="6400800"/>
            <a:ext cx="276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ECTIVIDAD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36760" y="3500280"/>
            <a:ext cx="171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CO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333399"/>
                </a:solidFill>
                <a:latin typeface="Tahoma"/>
              </a:rPr>
              <a:t>scopus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" y="2276640"/>
            <a:ext cx="856908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n 27 millones de registros y 230 millones de referencias de más de 14.000 publicaciones periódicas, Scopus constituye una de las más grandes Base de Datos multidisciplinaria del mun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ncluye Abstracts desde 19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ncluye listas de Referencias de los artículos desde 199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iteratura relev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ventualmente se tiene acceso a texto completo si la revista en versión electrónica es suscrita por la Univers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ermite crear alertas, guardas búsquedas y listas de resultados para su posterior consul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280360" cy="5761080"/>
          </a:xfrm>
          <a:prstGeom prst="rect">
            <a:avLst/>
          </a:prstGeom>
          <a:ln w="9360">
            <a:solidFill>
              <a:srgbClr val="00e4a8"/>
            </a:solidFill>
            <a:miter/>
          </a:ln>
        </p:spPr>
      </p:pic>
      <p:sp>
        <p:nvSpPr>
          <p:cNvPr id="158" name=""/>
          <p:cNvSpPr/>
          <p:nvPr/>
        </p:nvSpPr>
        <p:spPr>
          <a:xfrm>
            <a:off x="395280" y="333360"/>
            <a:ext cx="1081080" cy="358920"/>
          </a:xfrm>
          <a:prstGeom prst="wedgeRectCallout">
            <a:avLst>
              <a:gd name="adj1" fmla="val -4476"/>
              <a:gd name="adj2" fmla="val 23495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úsque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43640" y="1268280"/>
            <a:ext cx="1008000" cy="360360"/>
          </a:xfrm>
          <a:prstGeom prst="wedgeRectCallout">
            <a:avLst>
              <a:gd name="adj1" fmla="val -147324"/>
              <a:gd name="adj2" fmla="val -330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 Perf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56000" y="333360"/>
            <a:ext cx="1295280" cy="504720"/>
          </a:xfrm>
          <a:prstGeom prst="wedgeRectCallout">
            <a:avLst>
              <a:gd name="adj1" fmla="val 87620"/>
              <a:gd name="adj2" fmla="val 7893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gistrarse como usu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16720" y="1989000"/>
            <a:ext cx="2016000" cy="936720"/>
          </a:xfrm>
          <a:prstGeom prst="wedgeRectCallout">
            <a:avLst>
              <a:gd name="adj1" fmla="val -171574"/>
              <a:gd name="adj2" fmla="val -9898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sta de artículos seleccionados o guardados provisoriam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372360" y="0"/>
            <a:ext cx="2771640" cy="36828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rtada de Scop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68360" y="2421000"/>
            <a:ext cx="1582920" cy="360360"/>
          </a:xfrm>
          <a:prstGeom prst="wedgeRectCallout">
            <a:avLst>
              <a:gd name="adj1" fmla="val -9277"/>
              <a:gd name="adj2" fmla="val -29273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ertas cre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2349360"/>
            <a:ext cx="1584000" cy="574920"/>
          </a:xfrm>
          <a:prstGeom prst="wedgeRectCallout">
            <a:avLst>
              <a:gd name="adj1" fmla="val 35773"/>
              <a:gd name="adj2" fmla="val -19281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úsquedas por publi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990720" y="380880"/>
            <a:ext cx="784836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ACS WEB EDITON</a:t>
            </a:r>
            <a:r>
              <a:rPr b="1" lang="es-ES" sz="2800" spc="-1" strike="noStrike">
                <a:solidFill>
                  <a:srgbClr val="3333cc"/>
                </a:solidFill>
                <a:latin typeface="Garamond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Garamond"/>
                <a:ea typeface="Times New Roman"/>
              </a:rPr>
              <a:t>(American Chemical Society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22860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cceso a más de 700.000 artículos en texto completo de 11 mil fascículos de 35 importantes publicaciones de la American Chemical Soci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71600" y="37339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e el acceso en texto completo de todas     sus revistas, con una cobertura de 1879 a la fech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5200" y="4876920"/>
            <a:ext cx="344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ización dia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32000" y="5445000"/>
            <a:ext cx="649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ye publicaciones ubicadas en los primeros lugares de los índice de impa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72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660680" y="1176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95280" y="457200"/>
            <a:ext cx="73152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Garamond"/>
                <a:ea typeface="Times New Roman"/>
              </a:rPr>
              <a:t>PROQUEST</a:t>
            </a: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proquest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32080" y="3081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03680" y="254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2438280"/>
            <a:ext cx="6858000" cy="28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 el acceso a 29 bases especializa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Recupera información  referencial  y  texto comple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 realizar búsqueda básica, avanzada y por publicación.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Posee  guía temática.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57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627280" y="2060640"/>
            <a:ext cx="2808360" cy="64764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ver art. seleccionados.  Desde aquí se puede guardar, imprimir o enviar por e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148360" y="2708280"/>
            <a:ext cx="2808360" cy="647640"/>
          </a:xfrm>
          <a:prstGeom prst="wedgeRectCallout">
            <a:avLst>
              <a:gd name="adj1" fmla="val -153675"/>
              <a:gd name="adj2" fmla="val 8333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ver art. seleccionados.  Desde aquí se puede guardar, imprimir o enviar por e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130480" y="1197000"/>
            <a:ext cx="36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¿CÓMO INGRES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65240" y="1633680"/>
            <a:ext cx="5197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84680" y="2013120"/>
            <a:ext cx="508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http://biblioteca.ing.uchile.cl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4360" y="2565360"/>
            <a:ext cx="7372080" cy="38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833480" y="907920"/>
            <a:ext cx="569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LISTA DE SELECCIO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2160720"/>
            <a:ext cx="8820000" cy="469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120320" y="1031760"/>
            <a:ext cx="78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VIAR ARTICULOS SELECCIONADOS POR E-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48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116000" y="2781360"/>
            <a:ext cx="6948360" cy="358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 el acceso a las siguientes bases de datos: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ademic Search Premier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usiness Source Premier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linical Pharmac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uentes Académic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ealth Source: Nursing/Academic edi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fessional Development Collec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sychology and Behavioral Sciences Coll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gional Business New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JS E-Jour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ibrary, Information Science &amp; Technology Abstracts</a:t>
            </a:r>
            <a:r>
              <a:rPr b="0" lang="es-ES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 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95280" y="457200"/>
            <a:ext cx="73152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Garamond"/>
                <a:ea typeface="Times New Roman"/>
              </a:rPr>
              <a:t>EBSCO</a:t>
            </a: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ebsco/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059280" y="4797360"/>
            <a:ext cx="1871640" cy="647640"/>
          </a:xfrm>
          <a:prstGeom prst="wedgeRectCallout">
            <a:avLst>
              <a:gd name="adj1" fmla="val -131680"/>
              <a:gd name="adj2" fmla="val -2303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hacer una búsquedas por título de revi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356000" y="1197000"/>
            <a:ext cx="1871640" cy="647640"/>
          </a:xfrm>
          <a:prstGeom prst="wedgeRectCallout">
            <a:avLst>
              <a:gd name="adj1" fmla="val 163740"/>
              <a:gd name="adj2" fmla="val -7377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seleccionar idioma de la interfaz de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708360" y="2997360"/>
            <a:ext cx="1728720" cy="609480"/>
          </a:xfrm>
          <a:prstGeom prst="wedgeRectCallout">
            <a:avLst>
              <a:gd name="adj1" fmla="val -115199"/>
              <a:gd name="adj2" fmla="val -2161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delimitar, solo texto comple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67640" y="1197000"/>
            <a:ext cx="1476360" cy="503280"/>
          </a:xfrm>
          <a:prstGeom prst="wedgeRectCallout">
            <a:avLst>
              <a:gd name="adj1" fmla="val -61398"/>
              <a:gd name="adj2" fmla="val 10110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archivar artículos sel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7991640" y="2997360"/>
            <a:ext cx="1152360" cy="647640"/>
          </a:xfrm>
          <a:prstGeom prst="wedgeRectCallout">
            <a:avLst>
              <a:gd name="adj1" fmla="val -7162"/>
              <a:gd name="adj2" fmla="val 280148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seleccionar artícu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906560" y="620640"/>
            <a:ext cx="569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LISTA DE SELECCIO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(FOLD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8893080" cy="46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4869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120320" y="1031760"/>
            <a:ext cx="78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VIAR ARTICULOS SELECCIONADOS POR E-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295280" y="457200"/>
            <a:ext cx="73152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WEB OF SCIE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isi/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87280" y="393372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e consultar información referencial,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 y retrospect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87280" y="2781360"/>
            <a:ext cx="71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ás 8.600 publicaciones  de alto impac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58920" y="2349360"/>
            <a:ext cx="49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bertura desde 1988 a la fe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075680" y="3357720"/>
            <a:ext cx="368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ización sema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95840" y="1916280"/>
            <a:ext cx="505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 de datos multidisciplin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22680" y="4869000"/>
            <a:ext cx="791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e saber quienes citan determinados artíc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 la manera en que estos influyen sobre la nue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estig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700360" y="4292640"/>
            <a:ext cx="2663640" cy="647640"/>
          </a:xfrm>
          <a:prstGeom prst="wedgeRectCallout">
            <a:avLst>
              <a:gd name="adj1" fmla="val -85699"/>
              <a:gd name="adj2" fmla="val 7965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s las bases de datos y los años de datos disponibles, aparecen seleccionados automáticam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32720" y="3500280"/>
            <a:ext cx="1979640" cy="1008360"/>
          </a:xfrm>
          <a:prstGeom prst="wedgeRectCallout">
            <a:avLst>
              <a:gd name="adj1" fmla="val -79189"/>
              <a:gd name="adj2" fmla="val 6858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 opciones para seleccionar covertura cronológica de una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79280" y="980640"/>
            <a:ext cx="464508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ATÁLOGO BELL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47973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332000" y="189000"/>
            <a:ext cx="1116000" cy="863640"/>
          </a:xfrm>
          <a:prstGeom prst="wedgeRectCallout">
            <a:avLst>
              <a:gd name="adj1" fmla="val -104907"/>
              <a:gd name="adj2" fmla="val 24668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DEMOS VES NUESTROS PRESTAMOS, RESERVA O SUSPENS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5508720" y="1413000"/>
            <a:ext cx="2590560" cy="720720"/>
          </a:xfrm>
          <a:prstGeom prst="wedgeRectCallout">
            <a:avLst>
              <a:gd name="adj1" fmla="val -126226"/>
              <a:gd name="adj2" fmla="val -4339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a la búsqueda sólo para términos que aparezcan  en los títu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5805360"/>
            <a:ext cx="2159280" cy="719280"/>
          </a:xfrm>
          <a:prstGeom prst="wedgeRectCallout">
            <a:avLst>
              <a:gd name="adj1" fmla="val -155365"/>
              <a:gd name="adj2" fmla="val -33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de delimitar su búsqued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 idioma o tipo de document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050920" y="0"/>
            <a:ext cx="1368720" cy="620640"/>
          </a:xfrm>
          <a:prstGeom prst="wedgeRectCallout">
            <a:avLst>
              <a:gd name="adj1" fmla="val -75291"/>
              <a:gd name="adj2" fmla="val 14488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úmeros de documentos encontr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356000" y="2133720"/>
            <a:ext cx="1979640" cy="431640"/>
          </a:xfrm>
          <a:prstGeom prst="wedgeRectCallout">
            <a:avLst>
              <a:gd name="adj1" fmla="val 86888"/>
              <a:gd name="adj2" fmla="val 181986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seleccionar do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 opci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77080" y="1125360"/>
            <a:ext cx="1763640" cy="578160"/>
          </a:xfrm>
          <a:prstGeom prst="wedgeRectCallout">
            <a:avLst>
              <a:gd name="adj1" fmla="val 22365"/>
              <a:gd name="adj2" fmla="val 12005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de cambiar el orden de los result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2792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6588000" y="620640"/>
            <a:ext cx="1944720" cy="576360"/>
          </a:xfrm>
          <a:prstGeom prst="wedgeRectCallout">
            <a:avLst>
              <a:gd name="adj1" fmla="val -170000"/>
              <a:gd name="adj2" fmla="val 53032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tón lista de docs. Seleccionados, para su impre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716360" y="2060640"/>
            <a:ext cx="1656000" cy="647640"/>
          </a:xfrm>
          <a:prstGeom prst="wedgeRectCallout">
            <a:avLst>
              <a:gd name="adj1" fmla="val -252300"/>
              <a:gd name="adj2" fmla="val 18308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a de bibliografías usadas por este au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92360" y="3068640"/>
            <a:ext cx="1729080" cy="503280"/>
          </a:xfrm>
          <a:prstGeom prst="wedgeRectCallout">
            <a:avLst>
              <a:gd name="adj1" fmla="val -118962"/>
              <a:gd name="adj2" fmla="val 4274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Nuevos Documentos que citan este 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020000" y="4653000"/>
            <a:ext cx="1800000" cy="863640"/>
          </a:xfrm>
          <a:prstGeom prst="wedgeRectCallout">
            <a:avLst>
              <a:gd name="adj1" fmla="val -243472"/>
              <a:gd name="adj2" fmla="val -148898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on artículos relacionados que comparten referencias citadas con este do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49417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5580000" y="2421000"/>
            <a:ext cx="2592360" cy="1079280"/>
          </a:xfrm>
          <a:prstGeom prst="wedgeRectCallout">
            <a:avLst>
              <a:gd name="adj1" fmla="val -69106"/>
              <a:gd name="adj2" fmla="val 85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 registros seleccionados pueden: imprimirse, guardarse, o enviarse por correo electrón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12640" y="981000"/>
            <a:ext cx="664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NVIO ARTICULOS SELECCION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AUTA DE TESIS</a:t>
            </a:r>
            <a:br>
              <a:rPr sz="4400"/>
            </a:br>
            <a:r>
              <a:rPr b="0" lang="es-ES" sz="1400" spc="-1" strike="noStrike">
                <a:solidFill>
                  <a:srgbClr val="333399"/>
                </a:solidFill>
                <a:latin typeface="Tahoma"/>
              </a:rPr>
              <a:t>http://www.cybertesis.cl/tesis/uchile/2003/pauta/html/index-frames.html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1832040"/>
            <a:ext cx="914400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ORTADA DE TESIS</a:t>
            </a:r>
            <a:br>
              <a:rPr sz="4400"/>
            </a:br>
            <a:r>
              <a:rPr b="0" lang="es-ES" sz="1400" spc="-1" strike="noStrike">
                <a:solidFill>
                  <a:srgbClr val="333399"/>
                </a:solidFill>
                <a:latin typeface="Tahoma"/>
              </a:rPr>
              <a:t>http://postgrado.ing.uchile.cl/segundo/tramites/otros/tesis_magister_doctorado.doc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332000" y="2421000"/>
            <a:ext cx="626256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GUIA PARA LA ELABORACION DE CITAS BIBLIOGRAFICAS</a:t>
            </a:r>
            <a:r>
              <a:rPr b="0" lang="es-E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333399"/>
                </a:solidFill>
                <a:latin typeface="Tahoma"/>
              </a:rPr>
              <a:t>(INN 1143)</a:t>
            </a:r>
            <a:br>
              <a:rPr sz="1800"/>
            </a:br>
            <a:r>
              <a:rPr b="0" lang="es-ES" sz="1800" spc="-1" strike="noStrike">
                <a:solidFill>
                  <a:srgbClr val="333399"/>
                </a:solidFill>
                <a:latin typeface="Tahoma"/>
              </a:rPr>
              <a:t>http://bibliotecas.uchile.cl//servicios/referencias-bibliograficas.pdf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116000" y="1933560"/>
            <a:ext cx="656424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49417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341080" y="69228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ONECTIV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6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117360"/>
            <a:ext cx="9144000" cy="654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2286000"/>
            <a:ext cx="84582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stema que brinda acceso a tablas de contenidos de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1.887 revistas especializadas nacionales  e  internacional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critas  por destacas universidades chilenas.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11280" y="476280"/>
            <a:ext cx="35290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99"/>
                </a:solidFill>
                <a:latin typeface="Arial"/>
              </a:rPr>
              <a:t>Al D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84760" y="94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36576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e la obtención de artículos de revistas impresas  disponibles en otras Facultades a través de correo electró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43657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e conectarse a más 1.000 revistas en texto compl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479736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e consultar las tablas de contenidos de números anteri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1280" y="522936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orga un servicio de alerta personalizado. (10 títulos de interé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522840" y="189000"/>
            <a:ext cx="2001960" cy="33732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s-CL" sz="1700" spc="-1" strike="noStrike">
                <a:solidFill>
                  <a:srgbClr val="000066"/>
                </a:solidFill>
                <a:latin typeface="Arial"/>
              </a:rPr>
              <a:t>http:www.al-dia.c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268360" y="5373720"/>
            <a:ext cx="1224000" cy="719280"/>
          </a:xfrm>
          <a:prstGeom prst="wedgeRectCallout">
            <a:avLst>
              <a:gd name="adj1" fmla="val -75939"/>
              <a:gd name="adj2" fmla="val -11909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cione la revista de su interé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51640" y="2060640"/>
            <a:ext cx="914400" cy="685800"/>
          </a:xfrm>
          <a:prstGeom prst="wedgeRectCallout">
            <a:avLst>
              <a:gd name="adj1" fmla="val 98611"/>
              <a:gd name="adj2" fmla="val -14837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as de contenido de números anteri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87640" y="3645000"/>
            <a:ext cx="1143000" cy="799920"/>
          </a:xfrm>
          <a:prstGeom prst="wedgeRectCallout">
            <a:avLst>
              <a:gd name="adj1" fmla="val 37638"/>
              <a:gd name="adj2" fmla="val -13531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pliega la tabla de contenido del último número publicado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5T01:05:20Z</dcterms:created>
  <dc:creator>Rafael Castillo Guerrero</dc:creator>
  <dc:description/>
  <dc:language>en-US</dc:language>
  <cp:lastModifiedBy>Ing Quimica</cp:lastModifiedBy>
  <dcterms:modified xsi:type="dcterms:W3CDTF">2006-08-21T20:22:09Z</dcterms:modified>
  <cp:revision>75</cp:revision>
  <dc:subject/>
  <dc:title>BIBLIOTECA</dc:title>
</cp:coreProperties>
</file>