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780F-2D6F-4CF6-A31A-D470A83F7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5E62-AEB2-47A3-8508-D96AC8C2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AA15-0A00-4F81-B5DB-B8B208D30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F5C6-AB35-4357-884C-B2D90B02D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B7B5-F743-46CE-9C36-2A299ACD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FD85-CE54-42A3-94C7-C98351E1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CFD5-9AD9-4943-8321-AE95B6F3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EB37-36B6-4FDA-9400-FEB81B7A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17DD-1815-4FA0-9A9A-E4134E3E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77B3-420D-454E-BAE8-0B6437F2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0CB1-851F-4C5D-A1F1-3625377C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CF89-BB1D-4F16-AFE5-C08B5072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29EF-4FC8-4767-91B5-E4D0FBA14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ttp://tamarugo.cec.uchile.cl/~btcursos/titulo/index_F.htm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152280"/>
            <a:ext cx="8229600" cy="55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9 de Noviembre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ELGADO VARGAS, KATHERIN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polimerización de homopolímeros de polipropileno en sistema homogéneos y heterogéneo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R.Quijada  Prof Co-guía: F.Gracia Prof. Integrante: J. </a:t>
            </a: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RETUE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ARA RAMIREZ, CLAUDI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Gestión Ambiental del Mercurio en Chil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L.Veas Co-Guia: J.Wiertz Integrante: L.Herrer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LANOS JARA, ELIZABETH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Reformado de alcoholes para la producción de hidrógeno sobre catalizadores soportados de níque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F.Gracia Prof Co-guía: P.Araya Prof. Integrant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152280"/>
            <a:ext cx="8229600" cy="50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6 de Noviembre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ORCHIO VALENZUELA, BARBA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mercado y Producción de Compuestos de Molibdeno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J.Casas  Prof Co-guía: R.Donoso Prof. Integrante: </a:t>
            </a: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ÑAILILLO BENAVENTE, DANIE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Diseño de un destilador Solar de mediana escal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L. Herrera Co-Guia: J.Hernandez  Integrante: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LLOA LAMAS, MONICA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morfología de superficie de falla de polímero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MP Jorquera Prof Co-guía:R.Quijada  Prof. Integrante: E.Dono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0320" y="5445000"/>
            <a:ext cx="77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</a:rPr>
              <a:t>LA ASISTENCIA ES OBLIGATORIA A TODAS LAS PRESEN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0/8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de Búsquedas Bibliográficas (Optativo, Confirmar)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4-31/08, 7-14/09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Taller sobre preparación de entrevistas y CVs. 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10, 2-9-16/11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in semestre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 después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 después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90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4 de Agosto 16:15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UÑOZ AGUIRRE, MARCELA EUGENI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Producción de una subtilisina criofílica recombinant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Juan Asenjo  Prof Co-guía: Oriana Salazar  Prof. Integrante: Barbara Andrews</a:t>
            </a:r>
            <a:br>
              <a:rPr sz="12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DRIGUEZ GALLARDO, VID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Evolución dirigida de subtilisina criofílica con alta actividad a baja temperatu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Oriana Salazar Prof Co-guía: Juan Asenjo  Prof. Integrante: Barbara 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ARIN ROM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Producción de una celulasa psicrofilica recombinant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Oriana Salazar Prof Co-guía: M.Elena Lienqueo  Prof. Integrante: Leandro Herre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ARTÍNEZ VE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Optimización del cultivo de células HEK 293 en suspensión para el crecimiento y producción de adenovir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Z.Gerdtzen Prof Co-guía: B.Andrews  Prof. Integrante: I.Rappa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68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31 de Agosto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UDINICH ABARCA, MARK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Modelo integrado de flujos metabólicos y regulación génica en levaduras</a:t>
            </a:r>
            <a:r>
              <a:rPr b="1" lang="es-ES" sz="1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J.Asenjo  Prof Co-guía: I. Rapaport Prof. Integrante: B.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OMINGUEZ ZAMBRANO, PAOL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expresión de proteínas en Sulfolobus Metallicus durante la biolixiviación de calcopirit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T. Vargas Co-Guia: B.Escobar Integrante: O. Salaza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IMPEL MUÑOZ, CARLA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Toxicidad de especies orgánicas e inorgánicas sobre la actividad de microorganismos biolixivi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R.Badilla Prof Co-guía: J.Asenjo Prof. Integrante: B.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OLZER SCHAA, KATHLEEN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Cuantificación de bacterias hierrooxidantes en procesos de biolixiviación mediante NMP PCR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B.Escobar Co-Guia: T: Vargas Integrante: O. Salazar</a:t>
            </a:r>
            <a:br>
              <a:rPr sz="2000"/>
            </a:br>
            <a:br>
              <a:rPr sz="20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55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7 de Septiembre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ELGADO VARGAS, KATHERIN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polimerización de homopolímeros de polipropileno en sistema homogeneos y heterogeneo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R.Quijada  Prof Co-guía: F.Gracia Prof. Integrante: J. </a:t>
            </a: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RETUE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ARA RAMIREZ, CLAUDI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Gestión Ambiental del Mercurio en Chil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L.Veas Co-Guia: J.Wiertz Integrante: L.Herrer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LANOS JARA, ELIZABETH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Reformado de alcoholes para la producción de hidrógeno sobre catalizadores soportados de níque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F.Gracia Prof Co-guía: P.Araya Prof. Integrant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50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4 de Septiembre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ORCHIO VALENZUELA, BARBA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mercado y Producción de Compuestos de Molibdeno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J.Casas  Prof Co-guía: R.Donoso Prof. Integrante: </a:t>
            </a: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ÑAILILLO BENAVENTE, DANIE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Diseño de un destilador Solar de mediana escal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L. Herrera Co-Guia: J.Hernandez  Integrante: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LLOA LAMAS, MONICA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morfología de superficie de falla de polímero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MP Jorquera Prof Co-guía:R.Quijada  Prof. Integrante: E.Dono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0320" y="5445000"/>
            <a:ext cx="77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</a:rPr>
              <a:t>LA ASISTENCIA ES OBLIGATORIA A TODAS LAS PRESEN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152280"/>
            <a:ext cx="8229600" cy="63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6 de Octubre 16:15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UÑOZ AGUIRRE, MARCELA EUGENI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Producción de una subtilisina criofílica recombinant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Juan Asenjo  Prof Co-guía: Oriana Salazar  Prof. Integrante: Barbara Andrews</a:t>
            </a:r>
            <a:br>
              <a:rPr sz="12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DRIGUEZ GALLARDO, VID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Evolución dirigida de subtilisina criofílica con alta actividad a baja temperatu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Oriana Salazar Prof Co-guía: Juan Asenjo  Prof. Integrante: Barbara 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52280"/>
            <a:ext cx="822960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 de Noviembre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OMINGUEZ ZAMBRANO, PAOL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expresión de proteínas en Sulfolobus Metallicus durante la biolixiviación de calcopirit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T. Vargas Co-Guia: B.Escobar Integrante: O. Salaza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IMPEL MUÑOZ, CARLA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Toxicidad de especies orgánicas e inorgánicas sobre la actividad de microorganismos biolixivi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R.Badilla Prof Co-guía: J.Asenjo Prof. Integrante: B.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OLZER SCHAA, KATHLEEN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Cuantificación de bacterias hierrooxidantes en procesos de biolixiviación mediante NMP PCR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B.Escobar Co-Guia: T: Vargas Integrante: O. Salazar</a:t>
            </a:r>
            <a:br>
              <a:rPr sz="2000"/>
            </a:br>
            <a:br>
              <a:rPr sz="20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6-08-02T21:04:25Z</dcterms:modified>
  <cp:revision>126</cp:revision>
  <dc:subject/>
  <dc:title>El ingeniero, etica y sociedad</dc:title>
</cp:coreProperties>
</file>