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E3B69-57F0-4DFC-89B0-3812E1AD8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7197F-84B7-46EF-B400-10ED6B371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449DC-A6EC-432C-B610-19B48D812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7C9CA-5C9B-45EA-BCFB-069635C83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55962-06CD-4CF5-969E-85792ADAC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006AD-2FDA-4C17-A7FB-B06EEECE0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498D6-87BD-4FC3-836B-BFE7EDD9E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56836-530D-4C51-9266-CBC4C46EC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649C0-A89A-444F-941B-F1B0BA1FF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BC0FA-8D59-4DA8-B814-0E15775AA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7BD31-8F42-4C19-B94B-646FD6D63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3C243-EFF7-44F0-84A9-FBAF60916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0B116-2229-4032-AD3D-E9E1B40DA7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rabajo de Título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T-IQ69 F/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04560" y="2895120"/>
            <a:ext cx="80010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PAUTA DE PRESENTAC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http://tamarugo.cec.uchile.cl/~btcursos/titulo/index_F.htm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457200" y="152280"/>
            <a:ext cx="8229600" cy="555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Jueves 9 de Noviembre 16:15 Sala por fijar</a:t>
            </a:r>
            <a:br>
              <a:rPr sz="2000"/>
            </a:br>
            <a:br>
              <a:rPr sz="2000"/>
            </a:b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DELGADO VARGAS, KATHERINE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Estudio de la polimerización de homopolímeros de polipropileno en sistema homogéneos y heterogéneos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Prof Guía: R.Quijada  Prof Co-guía: F.Gracia Prof. Integrante: J. </a:t>
            </a:r>
            <a:r>
              <a:rPr b="1" lang="es-ES" sz="12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RETUER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JARA RAMIREZ, CLAUDIA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Gestión Ambiental del Mercurio en Chile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 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Prof. Guía: L.Veas Co-Guia: J.Wiertz Integrante: L.Herrera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LLANOS JARA, ELIZABETH 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 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000"/>
            </a:br>
            <a:r>
              <a:rPr b="1" lang="es-ES" sz="18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Reformado de alcoholes para la producción de hidrógeno sobre catalizadores soportados de níquel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Prof Guía: F.Gracia Prof Co-guía: P.Araya Prof. Integrante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152280"/>
            <a:ext cx="8229600" cy="50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Jueves 16 de Noviembre 16:15 Sala por fijar</a:t>
            </a:r>
            <a:br>
              <a:rPr sz="2000"/>
            </a:br>
            <a:br>
              <a:rPr sz="2000"/>
            </a:b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MORCHIO VALENZUELA, BARBARA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Estudio de mercado y Producción de Compuestos de Molibdeno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Prof Guía: J.Casas  Prof Co-guía: R.Donoso Prof. Integrante: </a:t>
            </a:r>
            <a:r>
              <a:rPr b="1" lang="es-ES" sz="12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PEÑAILILLO BENAVENTE, DANIEL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Diseño de un destilador Solar de mediana escala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   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Prof. Guía: L. Herrera Co-Guia: J.Hernandez  Integrante: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ULLOA LAMAS, MONICA 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 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 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000"/>
            </a:br>
            <a:r>
              <a:rPr b="1" lang="es-ES" sz="18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Estudio de la morfología de superficie de falla de polímeros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 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Prof Guía: MP Jorquera Prof Co-guía:R.Quijada  Prof. Integrante: E.Donos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60320" y="5445000"/>
            <a:ext cx="772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ffff00"/>
                </a:solidFill>
                <a:uFillTx/>
                <a:latin typeface="Times New Roman"/>
              </a:rPr>
              <a:t>LA ASISTENCIA ES OBLIGATORIA A TODAS LAS PRESENTAC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04560" y="1676520"/>
            <a:ext cx="8001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PAUTA DE PRESENTAC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Asistencia Obligatoria a TODAS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 las presentac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1320" y="380520"/>
            <a:ext cx="80010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Datos Práct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La presentación no debe durar más de </a:t>
            </a:r>
            <a:r>
              <a:rPr b="1" lang="es-ES" sz="24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20 min con preguntas (5 mi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Logís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Se cuenta con PC y Datash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Debe entregar algún tipo de material escrito a los profesores de la comisió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571320" y="609120"/>
            <a:ext cx="80010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La presentación se debe centrar en los siguientes punt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Introducción (</a:t>
            </a:r>
            <a:r>
              <a:rPr b="1" lang="es-ES" sz="24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BREVE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Objetivos generales y específicos de la memo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Metodolog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Resultados obteni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Discusión y Conclusiones PAR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Actividades pend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4920" y="29239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Fechas Importantes</a:t>
            </a:r>
            <a:br>
              <a:rPr sz="4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10/8</a:t>
            </a:r>
            <a:r>
              <a:rPr b="1" lang="es-ES" sz="4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aller de Búsquedas Bibliográficas (Optativo, Confirmar)</a:t>
            </a:r>
            <a:r>
              <a:rPr b="1" lang="es-ES" sz="4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 </a:t>
            </a:r>
            <a:br>
              <a:rPr sz="4400"/>
            </a:br>
            <a:br>
              <a:rPr sz="4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24-31/08, 7-14/09 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esentaciones I</a:t>
            </a:r>
            <a:br>
              <a:rPr sz="2400"/>
            </a:br>
            <a:br>
              <a:rPr sz="2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Por Fijar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: Taller sobre preparación de entrevistas y CVs. </a:t>
            </a:r>
            <a:br>
              <a:rPr sz="2400"/>
            </a:br>
            <a:br>
              <a:rPr sz="2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19/10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Taller sobre redacción borrador de memoria</a:t>
            </a:r>
            <a:br>
              <a:rPr sz="2400"/>
            </a:br>
            <a:br>
              <a:rPr sz="2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26/10, 2-9-16/11 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esentaciones II</a:t>
            </a:r>
            <a:br>
              <a:rPr sz="2400"/>
            </a:br>
            <a:br>
              <a:rPr sz="2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Fin semestre: 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Informe Final</a:t>
            </a:r>
            <a:br>
              <a:rPr sz="2400"/>
            </a:br>
            <a:br>
              <a:rPr sz="2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3 semana después</a:t>
            </a:r>
            <a:br>
              <a:rPr sz="32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de Evaluación del Informe Final por parte de la comisión</a:t>
            </a:r>
            <a:br>
              <a:rPr sz="2400"/>
            </a:br>
            <a:br>
              <a:rPr sz="2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3 semana después</a:t>
            </a:r>
            <a:br>
              <a:rPr sz="32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de memoria en Oficina de títulos y grados</a:t>
            </a:r>
            <a:br>
              <a:rPr sz="24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00"/>
                </a:solidFill>
                <a:latin typeface="Times New Roman"/>
              </a:rPr>
              <a:t>Calendar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152280"/>
            <a:ext cx="8229600" cy="90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00"/>
                </a:solidFill>
                <a:uFillTx/>
                <a:latin typeface="Comic Sans MS"/>
              </a:rPr>
              <a:t>Programación de Presentaciones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Jueves 24 de Agosto 16:15 Sala por fijar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MUÑOZ AGUIRRE, MARCELA EUGENIA</a:t>
            </a:r>
            <a:br>
              <a:rPr sz="2000"/>
            </a:br>
            <a:r>
              <a:rPr b="1" lang="es-ES" sz="1800" spc="-1" strike="noStrike">
                <a:solidFill>
                  <a:srgbClr val="ffff00"/>
                </a:solidFill>
                <a:latin typeface="Comic Sans MS"/>
              </a:rPr>
              <a:t>Producción de una subtilisina criofílica recombinante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00"/>
                </a:solidFill>
                <a:latin typeface="Comic Sans MS"/>
              </a:rPr>
              <a:t>Prof Guía: Juan Asenjo  Prof Co-guía: Oriana Salazar  Prof. Integrante: Barbara Andrews</a:t>
            </a:r>
            <a:br>
              <a:rPr sz="1200"/>
            </a:br>
            <a:br>
              <a:rPr sz="2000"/>
            </a:b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RODRIGUEZ GALLARDO, VIDA</a:t>
            </a:r>
            <a:br>
              <a:rPr sz="2000"/>
            </a:br>
            <a:r>
              <a:rPr b="1" lang="es-ES" sz="1800" spc="-1" strike="noStrike">
                <a:solidFill>
                  <a:srgbClr val="ffff00"/>
                </a:solidFill>
                <a:latin typeface="Comic Sans MS"/>
              </a:rPr>
              <a:t>Evolución dirigida de subtilisina criofílica con alta actividad a baja temperatura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  </a:t>
            </a:r>
            <a:br>
              <a:rPr sz="2000"/>
            </a:br>
            <a:r>
              <a:rPr b="1" lang="es-ES" sz="1200" spc="-1" strike="noStrike">
                <a:solidFill>
                  <a:srgbClr val="ffff00"/>
                </a:solidFill>
                <a:latin typeface="Comic Sans MS"/>
              </a:rPr>
              <a:t>Prof Guía: Oriana Salazar Prof Co-guía: Juan Asenjo  Prof. Integrante: Barbara Andre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MARIN ROME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Comic Sans MS"/>
              </a:rPr>
              <a:t>Producción de una celulasa psicrofilica recombinante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00"/>
                </a:solidFill>
                <a:latin typeface="Comic Sans MS"/>
              </a:rPr>
              <a:t>Prof Guía: Oriana Salazar Prof Co-guía: M.Elena Lienqueo  Prof. Integrante: Leandro Herrera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 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MARTÍNEZ VERÓN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Comic Sans MS"/>
              </a:rPr>
              <a:t>Optimización del cultivo de células HEK 293 en suspensión para el crecimiento y producción de adenoviru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00"/>
                </a:solidFill>
                <a:latin typeface="Comic Sans MS"/>
              </a:rPr>
              <a:t>Prof Guía: Z.Gerdtzen Prof Co-guía: B.Andrews  Prof. Integrante: I.Rappa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152280"/>
            <a:ext cx="8229600" cy="68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Jueves 31 de Agosto 16:15 Sala por fijar</a:t>
            </a:r>
            <a:br>
              <a:rPr sz="2000"/>
            </a:br>
            <a:br>
              <a:rPr sz="2000"/>
            </a:b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BUDINICH ABARCA, MARK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Modelo integrado de flujos metabólicos y regulación génica en levaduras</a:t>
            </a:r>
            <a:r>
              <a:rPr b="1" lang="es-ES" sz="14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Prof Guía: J.Asenjo  Prof Co-guía: I. Rapaport Prof. Integrante: B.Andre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DOMINGUEZ ZAMBRANO, PAOLA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Estudio de la expresión de proteínas en Sulfolobus Metallicus durante la biolixiviación de calcopirita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Prof. Guía: T. Vargas Co-Guia: B.Escobar Integrante: O. Salazar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GIMPEL MUÑOZ, CARLA 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000"/>
            </a:br>
            <a:r>
              <a:rPr b="1" lang="es-ES" sz="18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Toxicidad de especies orgánicas e inorgánicas sobre la actividad de microorganismos biolixiviant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Prof Guía: R.Badilla Prof Co-guía: J.Asenjo Prof. Integrante: B.Andre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HOLZER SCHAA, KATHLEEN 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000"/>
            </a:br>
            <a:r>
              <a:rPr b="1" lang="es-ES" sz="18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Cuantificación de bacterias hierrooxidantes en procesos de biolixiviación mediante NMP PCR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000"/>
            </a:br>
            <a:r>
              <a:rPr b="1" lang="es-ES" sz="12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Prof. Guía: B.Escobar Co-Guia: T: Vargas Integrante: O. Salazar</a:t>
            </a:r>
            <a:br>
              <a:rPr sz="2000"/>
            </a:br>
            <a:br>
              <a:rPr sz="20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152280"/>
            <a:ext cx="8229600" cy="555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Jueves 7 de Septiembre 16:15 Sala por fijar</a:t>
            </a:r>
            <a:br>
              <a:rPr sz="2000"/>
            </a:br>
            <a:br>
              <a:rPr sz="2000"/>
            </a:b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DELGADO VARGAS, KATHERINE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Estudio de la polimerización de homopolímeros de polipropileno en sistema homogeneos y heterogeneos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Prof Guía: R.Quijada  Prof Co-guía: F.Gracia Prof. Integrante: J. </a:t>
            </a:r>
            <a:r>
              <a:rPr b="1" lang="es-ES" sz="12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RETUER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JARA RAMIREZ, CLAUDIA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Gestión Ambiental del Mercurio en Chile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 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Prof. Guía: L.Veas Co-Guia: J.Wiertz Integrante: L.Herrera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LLANOS JARA, ELIZABETH 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 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000"/>
            </a:br>
            <a:r>
              <a:rPr b="1" lang="es-ES" sz="18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Reformado de alcoholes para la producción de hidrógeno sobre catalizadores soportados de níquel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Prof Guía: F.Gracia Prof Co-guía: P.Araya Prof. Integrante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57200" y="152280"/>
            <a:ext cx="8229600" cy="50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Jueves 14 de Septiembre 16:15 Sala por fijar</a:t>
            </a:r>
            <a:br>
              <a:rPr sz="2000"/>
            </a:br>
            <a:br>
              <a:rPr sz="2000"/>
            </a:b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MORCHIO VALENZUELA, BARBARA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Estudio de mercado y Producción de Compuestos de Molibdeno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Prof Guía: J.Casas  Prof Co-guía: R.Donoso Prof. Integrante: </a:t>
            </a:r>
            <a:r>
              <a:rPr b="1" lang="es-ES" sz="12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PEÑAILILLO BENAVENTE, DANIEL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Diseño de un destilador Solar de mediana escala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   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Prof. Guía: L. Herrera Co-Guia: J.Hernandez  Integrante: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ULLOA LAMAS, MONICA 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 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 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000"/>
            </a:br>
            <a:r>
              <a:rPr b="1" lang="es-ES" sz="18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Estudio de la morfología de superficie de falla de polímeros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 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Prof Guía: MP Jorquera Prof Co-guía:R.Quijada  Prof. Integrante: E.Donos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0320" y="5445000"/>
            <a:ext cx="772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ffff00"/>
                </a:solidFill>
                <a:uFillTx/>
                <a:latin typeface="Times New Roman"/>
              </a:rPr>
              <a:t>LA ASISTENCIA ES OBLIGATORIA A TODAS LAS PRESENTAC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152280"/>
            <a:ext cx="8229600" cy="63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00"/>
                </a:solidFill>
                <a:uFillTx/>
                <a:latin typeface="Comic Sans MS"/>
              </a:rPr>
              <a:t>Programación de Presentaciones I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Jueves 26 de Octubre 16:15 Sala por fijar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MUÑOZ AGUIRRE, MARCELA EUGENIA</a:t>
            </a:r>
            <a:br>
              <a:rPr sz="2000"/>
            </a:br>
            <a:r>
              <a:rPr b="1" lang="es-ES" sz="1800" spc="-1" strike="noStrike">
                <a:solidFill>
                  <a:srgbClr val="ffff00"/>
                </a:solidFill>
                <a:latin typeface="Comic Sans MS"/>
              </a:rPr>
              <a:t>Producción de una subtilisina criofílica recombinante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00"/>
                </a:solidFill>
                <a:latin typeface="Comic Sans MS"/>
              </a:rPr>
              <a:t>Prof Guía: Juan Asenjo  Prof Co-guía: Oriana Salazar  Prof. Integrante: Barbara Andrews</a:t>
            </a:r>
            <a:br>
              <a:rPr sz="1200"/>
            </a:br>
            <a:br>
              <a:rPr sz="2000"/>
            </a:b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RODRIGUEZ GALLARDO, VIDA</a:t>
            </a:r>
            <a:br>
              <a:rPr sz="2000"/>
            </a:br>
            <a:r>
              <a:rPr b="1" lang="es-ES" sz="1800" spc="-1" strike="noStrike">
                <a:solidFill>
                  <a:srgbClr val="ffff00"/>
                </a:solidFill>
                <a:latin typeface="Comic Sans MS"/>
              </a:rPr>
              <a:t>Evolución dirigida de subtilisina criofílica con alta actividad a baja temperatura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  </a:t>
            </a:r>
            <a:br>
              <a:rPr sz="2000"/>
            </a:br>
            <a:r>
              <a:rPr b="1" lang="es-ES" sz="1200" spc="-1" strike="noStrike">
                <a:solidFill>
                  <a:srgbClr val="ffff00"/>
                </a:solidFill>
                <a:latin typeface="Comic Sans MS"/>
              </a:rPr>
              <a:t>Prof Guía: Oriana Salazar Prof Co-guía: Juan Asenjo  Prof. Integrante: Barbara Andre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152280"/>
            <a:ext cx="8229600" cy="52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Jueves 2 de Noviembre 16:15 Sala por fijar</a:t>
            </a:r>
            <a:br>
              <a:rPr sz="2000"/>
            </a:br>
            <a:br>
              <a:rPr sz="2000"/>
            </a:b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DOMINGUEZ ZAMBRANO, PAOLA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Estudio de la expresión de proteínas en Sulfolobus Metallicus durante la biolixiviación de calcopirita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Prof. Guía: T. Vargas Co-Guia: B.Escobar Integrante: O. Salazar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GIMPEL MUÑOZ, CARLA 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000"/>
            </a:br>
            <a:r>
              <a:rPr b="1" lang="es-ES" sz="18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Toxicidad de especies orgánicas e inorgánicas sobre la actividad de microorganismos biolixiviant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Prof Guía: R.Badilla Prof Co-guía: J.Asenjo Prof. Integrante: B.Andre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HOLZER SCHAA, KATHLEEN 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000"/>
            </a:br>
            <a:r>
              <a:rPr b="1" lang="es-ES" sz="18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Cuantificación de bacterias hierrooxidantes en procesos de biolixiviación mediante NMP PCR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000"/>
            </a:br>
            <a:r>
              <a:rPr b="1" lang="es-ES" sz="12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Prof. Guía: B.Escobar Co-Guia: T: Vargas Integrante: O. Salazar</a:t>
            </a:r>
            <a:br>
              <a:rPr sz="2000"/>
            </a:br>
            <a:br>
              <a:rPr sz="20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21T21:44:03Z</dcterms:created>
  <dc:creator>Ignacio Badilla</dc:creator>
  <dc:description/>
  <dc:language>en-US</dc:language>
  <cp:lastModifiedBy>Ing Quimica</cp:lastModifiedBy>
  <dcterms:modified xsi:type="dcterms:W3CDTF">2006-08-02T21:04:25Z</dcterms:modified>
  <cp:revision>126</cp:revision>
  <dc:subject/>
  <dc:title>El ingeniero, etica y sociedad</dc:title>
</cp:coreProperties>
</file>