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65E-8765-42DB-8DC6-C9556C1F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8DF-C053-4BEF-A660-C72958BB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97D-3DAB-4548-B61C-8CC455A0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CC4-C171-4670-9512-4F3D7CED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C3C-AA70-411F-BAD6-49F573EB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C98-A85C-4A4F-99B9-38D9B48B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6A6-C322-4FF2-908C-D0A41ECB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A83-BB71-426A-97BE-585390CB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230-5AC0-4C48-B68E-71DDF194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A46-4FA9-4651-9E7C-1E9B5E22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588-5C30-4D5A-B5ED-7C67D3A9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BD8D-9CB1-46DB-8BA1-2C0EAA4A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0934-E0A9-44FB-8E1C-6C0020804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tamarugo.cec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éneos y heterogé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2-9-16/1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 despué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90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4 de Agosto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IN ROM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celulasa psicrofi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M.Elena Lienqueo  Prof. Integrante: Leandro Herre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ÍNEZ VE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Optimización del cultivo de células HEK 293 en suspensión para el crecimiento y producción de 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Z.Gerdtzen Prof Co-guía: B.Andrews  Prof. Integrante: I.Rappa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1 de Agosto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UDINICH ABARCA, MAR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integrado de flujos metabólicos y regulación génica en levaduras</a:t>
            </a:r>
            <a:r>
              <a:rPr b="1" lang="es-ES" sz="1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Asenjo  Prof Co-guía: I. Rapaport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5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7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polimerización de homopolímeros de polipropileno en sistema homogeneos y heterogene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Quijada  Prof Co-guía: F.Gracia Prof. Integrante: J.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TUE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Gestión Ambiental del Mercurio en Chil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Veas Co-Guia: J.Wiertz Integrante: L.Herrer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eformado de alcoholes para la producción de hidrógeno sobre catalizadores soportados de níqu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F.Gracia Prof Co-guía: P.Araya Prof. Integr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4 de Sept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mercado y Producción de Compuestos de Molibden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J.Casas  Prof Co-guía: R.Donoso Prof. Integrante: </a:t>
            </a: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iseño de un destilador Solar de mediana esca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L. Herrera Co-Guia: J.Hernandez  Integrante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morfología de superficie de falla de polímero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MP Jorquera Prof Co-guía:R.Quijada  Prof. Integrante: E.Don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Noviembre 16:15 Sala por fijar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8-02T21:04:25Z</dcterms:modified>
  <cp:revision>126</cp:revision>
  <dc:subject/>
  <dc:title>El ingeniero, etica y sociedad</dc:title>
</cp:coreProperties>
</file>