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BD2-51BE-40DD-94FC-624F97B8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297-9DFD-4541-941D-12A7B807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96F-DF55-406F-857E-C21B367E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B33-6C47-40B6-A59C-868FC845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8DE-526E-4234-85CB-0C0F9442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181-DB44-49CD-9518-B35467DE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15E-AA30-4003-AD48-15604D5B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388-2A2B-4137-9771-DEBF12C5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F72-11D3-4D32-8BEC-660E3A72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E3F-9BF4-4C96-B14B-EA44CD8C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798-3AAF-4DCA-8637-DCD35B1D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70E-8B4A-4035-9A1C-440AB9A8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682D-5E1C-4371-926F-1680540F490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5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unto de reunión: 16:50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Providencia 176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12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2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oño 2006</a:t>
            </a:r>
            <a:br>
              <a:rPr sz="36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/8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8/01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3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2/04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4000"/>
            </a:b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40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2800"/>
            </a:br>
            <a:br>
              <a:rPr sz="28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/12/2006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Informa de Avance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06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7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/08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Martes 5 de Diciembre 2006</a:t>
            </a:r>
            <a:br>
              <a:rPr sz="4800"/>
            </a:b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7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B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B1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 (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polimerización de homopolímer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olipropileno en sistema homogéneos y heterogé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R.Quijada Prof Co-guía: F.Gracia Prof. Integrante: J. RETU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morfología de superficie de falla de polím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MP Jorquera Prof Co-guía:R.Quijada Prof. Integrante: E.Do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formado de alcoholes para la produc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idrógeno sobre catalizadores soportados de níq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F.Gracia Prof Co-guía: P.Araya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B103 (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mercado y Producción de Compuestos de Molibd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.Casas Prof Co-guía: R.Donoso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estión Ambiental del Mercurio en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Veas Co-Guia: J.Wiertz Integrante: L.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o de un destilador Solar de mediana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 Herrera Co-Guia: J.Hernandez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10-26T20:19:36Z</dcterms:modified>
  <cp:revision>135</cp:revision>
  <dc:subject/>
  <dc:title>El ingeniero, etica y sociedad</dc:title>
</cp:coreProperties>
</file>