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54C-06B3-44A4-B5FB-A56B555F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7AF-A55D-4C3E-90AB-4D05ED7A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AAB-9175-4433-8730-CC29542B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D70-0CBC-4934-B9E8-EA98212E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9259-634E-4DF4-9D49-1986EF89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B6B-27E6-4947-B112-BF22A3DB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5BB-5D58-45FF-9DFA-FA8CF802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001-732F-4EFE-B860-7039E626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4B46-8246-4963-8F92-23249D55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22E-1E3F-4F35-82E1-DFDD4EEC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85F-E9D6-4D50-A587-7939B6CA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688-9738-40EF-A631-8EFF26F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2B5A-A9AC-4D7C-8BB1-D76DB4DFF9D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5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0" lang="es-E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unto de reunión: 16:50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Providencia 176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5/12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2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oño 2006</a:t>
            </a:r>
            <a:br>
              <a:rPr sz="36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</a:t>
            </a: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/8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6/10, 9-16/11 </a:t>
            </a: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36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8/01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3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2/04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4000"/>
            </a:br>
            <a:r>
              <a:rPr b="1" lang="es-E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40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0/8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de Búsquedas Bibliográficas (Optativo, Confirmar)</a:t>
            </a: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4-31/08, 7-14/09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12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8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/11 - 17:00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Taller sobre preparación de entrevistas y CVs. Ximena Escobar, Deloitte.</a:t>
            </a:r>
            <a:br>
              <a:rPr sz="2800"/>
            </a:br>
            <a:br>
              <a:rPr sz="28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/12/2006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Informa de Avance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06/2007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7/2007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/08/07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Martes 5 de Diciembre 2006</a:t>
            </a:r>
            <a:br>
              <a:rPr sz="4800"/>
            </a:b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7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6 de Octubre 16:15 Sala B1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UÑOZ AGUIRRE, MARCELA EUGENI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Producción de una subtilisina criofílica recombinante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Juan Asenjo  Prof Co-guía: Oriana Salazar  Prof. Integrante: Barbara Andrews</a:t>
            </a:r>
            <a:br>
              <a:rPr sz="1200"/>
            </a:b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DRIGUEZ GALLARDO, VIDA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volución dirigida de subtilisina criofílica con alta actividad a baja temperatur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 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</a:rPr>
              <a:t>Prof Guía: Oriana Salazar Prof Co-guía: Juan Asenjo  Prof. Integrante: Barbara 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3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B103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OMINGUEZ ZAMBRANO, PAOL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studio de la expresión de proteínas en Sulfolobus Metallicus durante la biolixiviación de calcopirit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T. Vargas Co-Guia: B.Escobar Integrante: O. Salaza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IMPEL MUÑOZ, CARLA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Toxicidad de especies orgánicas e inorgánicas sobre la actividad de microorganismos biolixiv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 Guía: R.Badilla Prof Co-guía: J.Asenjo Prof. Integrante: B.Andr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OLZER SCHAA, KATHLEEN 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uantificación de bacterias hierrooxidantes en procesos de biolixiviación mediante NMP PC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s-ES" sz="12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Prof. Guía: B.Escobar Co-Guia: T: Vargas Integrante: O. Salazar</a:t>
            </a:r>
            <a:br>
              <a:rPr sz="2000"/>
            </a:b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66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9 de Noviembre 16:15 Sala Por Fijar (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ELGADO VARGAS, KATHER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polimerización de homopolímer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olipropileno en sistema homogéneos y heterogé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R.Quijada Prof Co-guía: F.Gracia Prof. Integrante: J. RETU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LLOA LAMAS, M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la morfología de superficie de falla de polím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MP Jorquera Prof Co-guía:R.Quijada Prof. Integrante: E.Do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LANOS JARA, ELIZABE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formado de alcoholes para la produc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idrógeno sobre catalizadores soportados de níq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F.Gracia Prof Co-guía: P.Araya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6 de Noviembre 16:15 Sala B103 (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ORCHIO VALENZUELA, BARB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tudio de mercado y Producción de Compuestos de Molibd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.Casas Prof Co-guía: R.Donoso Prof.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ARA RAMIREZ, CLAU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estión Ambiental del Mercurio en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Veas Co-Guia: J.Wiertz Integrante: L.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ILILLO BENAVENTE, DANI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o de un destilador Solar de mediana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. Guía: L. Herrera Co-Guia: J.Hernandez Integra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0320" y="544500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A ASISTENCIA ES OBLIGATORIA A TODAS LAS PRESEN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10-26T20:19:36Z</dcterms:modified>
  <cp:revision>135</cp:revision>
  <dc:subject/>
  <dc:title>El ingeniero, etica y sociedad</dc:title>
</cp:coreProperties>
</file>