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1453-5B05-4B07-8975-031157378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FB23-7F2B-4F00-8817-97D5992AF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C56C-B56C-407E-8FCE-86046C623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D060-D0BD-4E0B-8429-D8ABD2C52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04E38-90E5-43B2-ADD7-8335B50AF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7A58A-CBF3-466E-95AE-03839E19B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12D74-6BEC-45B9-9BD5-80B91F595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46755-38B1-42D9-83B0-153F407EF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8AA54-17E2-4760-990C-9E4FEA025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A1049-923E-4395-B566-CD0F1DA64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B7D01-AEAB-4DF2-AD6A-B30981064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4844-0BE4-47C6-AF77-16102510E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AD18C-A731-4456-9550-A9A33F0B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13597-B57B-4536-B288-EB62D285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12981-11F2-4C52-9CD0-5F8A743FF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F12FD-5C0E-4E87-A0F4-D55030035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73E13-29F6-482C-975A-12456CEC4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DC6B-FAF1-4FE6-BA9C-D386E04B1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D1D7-4853-45DB-8820-FF216910A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BE55-21DA-448B-BB2D-AFC6D483A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C36C-0894-4DF3-9967-3955EBD2E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EC83-E990-4599-804E-5E4A99FC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77A4-D498-4D5B-AAD2-19F5AE40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21A0-9CE2-4542-B92F-689F251B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0CEA0-3F8B-4BEC-AB75-64E55EFBDFC7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250920" y="981000"/>
            <a:ext cx="858600" cy="107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5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6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9B9FD-E353-4DE5-95C8-9B7A68903047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2492280"/>
            <a:ext cx="9144000" cy="11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ERRAMIENTAS BIBLIOGRAF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PARA LA ELABORACION DE T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87280" y="692280"/>
            <a:ext cx="756144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Arial"/>
              </a:rPr>
              <a:t>Biblioteca Central.  Programa de Formación de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Facultad de Ingeniería</a:t>
            </a:r>
            <a:r>
              <a:rPr b="0" lang="es-CL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99"/>
                </a:solidFill>
                <a:latin typeface="Arial"/>
              </a:rPr>
              <a:t>Departamento Ingeniería Quím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84760" y="947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96040" y="4365720"/>
            <a:ext cx="4373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aborado por:         Rosa Leal </a:t>
            </a:r>
            <a:r>
              <a:rPr b="0" lang="es-CL" sz="1200" spc="-1" strike="noStrike" u="sng">
                <a:solidFill>
                  <a:srgbClr val="3333cc"/>
                </a:solidFill>
                <a:uFillTx/>
                <a:latin typeface="Arial"/>
              </a:rPr>
              <a:t>rleal@ing.uchile.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arolina Campillay </a:t>
            </a:r>
            <a:r>
              <a:rPr b="0" lang="es-CL" sz="1200" spc="-1" strike="noStrike" u="sng">
                <a:solidFill>
                  <a:srgbClr val="3333cc"/>
                </a:solidFill>
                <a:uFillTx/>
                <a:latin typeface="Arial"/>
              </a:rPr>
              <a:t>ccampill@ing.uchile.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Bibliotecarias Servicios al Públ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00560" y="5943600"/>
            <a:ext cx="162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osto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7308720" y="5877000"/>
            <a:ext cx="1835280" cy="571320"/>
          </a:xfrm>
          <a:prstGeom prst="wedgeRectCallout">
            <a:avLst>
              <a:gd name="adj1" fmla="val -223097"/>
              <a:gd name="adj2" fmla="val -21944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tón para solicitar se utiliza  cuando la revista no está disponible en texto comple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22860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SOLICITUD  DE ARTÍ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A TRAVÉS DE  CORREO ELECTRÓ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50028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Times New Roman"/>
              </a:rPr>
              <a:t>Si el correo no está registrado, complete el formulario en “</a:t>
            </a:r>
            <a:r>
              <a:rPr b="1" lang="es-ES_tradnl" sz="1800" spc="-1" strike="noStrike" u="sng">
                <a:solidFill>
                  <a:srgbClr val="333399"/>
                </a:solidFill>
                <a:uFillTx/>
                <a:latin typeface="Times New Roman"/>
              </a:rPr>
              <a:t>Nuevo usuario</a:t>
            </a:r>
            <a:r>
              <a:rPr b="1" lang="es-ES_tradnl" sz="1800" spc="-1" strike="noStrike">
                <a:solidFill>
                  <a:srgbClr val="333399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340000" y="4292640"/>
            <a:ext cx="3486240" cy="2257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411280" y="1341360"/>
            <a:ext cx="3254400" cy="2151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99172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96080" y="0"/>
            <a:ext cx="1447920" cy="1066680"/>
          </a:xfrm>
          <a:prstGeom prst="wedgeRectCallout">
            <a:avLst>
              <a:gd name="adj1" fmla="val -29712"/>
              <a:gd name="adj2" fmla="val 70981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 utilizar una cuenta externa de correo electrónico, los artículos tendrán un cos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7696080" y="0"/>
            <a:ext cx="1447920" cy="1219320"/>
          </a:xfrm>
          <a:prstGeom prst="wedgeRectCallout">
            <a:avLst>
              <a:gd name="adj1" fmla="val -43518"/>
              <a:gd name="adj2" fmla="val 111458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 utilizar un cuenta de correo de la Universidad de Chile, los artículos serán gratui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219320" y="304920"/>
            <a:ext cx="761976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33cc"/>
                </a:solidFill>
                <a:latin typeface="Garamond"/>
                <a:ea typeface="Times New Roman"/>
              </a:rPr>
              <a:t>SCIENCE DIRECT-ELSEVI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sciencedirect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9640" y="1836720"/>
            <a:ext cx="832968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Base  de  datos  referencial  que  ofrece  1.800  revistas,  publicadas por </a:t>
            </a:r>
            <a:r>
              <a:rPr b="1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ELSEVIER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  de diversas áreas del conocimien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Permit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Realizar diferentes búsquedas (autor, título de rev. y otr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Acceso a los abstrac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Acceso a direcciones electrónicos de aut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Acceso al texto completo de artículos revistas suscritas por la Universidad de Chile.  (207 títul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371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276720" y="692280"/>
            <a:ext cx="1079280" cy="718920"/>
          </a:xfrm>
          <a:prstGeom prst="wedgeRectCallout">
            <a:avLst>
              <a:gd name="adj1" fmla="val -281027"/>
              <a:gd name="adj2" fmla="val -11644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úsquedas por temas y otr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932360" y="692280"/>
            <a:ext cx="1655640" cy="431640"/>
          </a:xfrm>
          <a:prstGeom prst="wedgeRectCallout">
            <a:avLst>
              <a:gd name="adj1" fmla="val -242328"/>
              <a:gd name="adj2" fmla="val -16176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úsqueda por publi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940360" y="5229360"/>
            <a:ext cx="1656000" cy="431640"/>
          </a:xfrm>
          <a:prstGeom prst="wedgeRectCallout">
            <a:avLst>
              <a:gd name="adj1" fmla="val -329097"/>
              <a:gd name="adj2" fmla="val 129046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 de búsqu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249120"/>
            <a:ext cx="8891640" cy="621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588000" y="1484280"/>
            <a:ext cx="1943280" cy="574560"/>
          </a:xfrm>
          <a:prstGeom prst="wedgeRectCallout">
            <a:avLst>
              <a:gd name="adj1" fmla="val -78837"/>
              <a:gd name="adj2" fmla="val 7375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acotar la búsqu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24000" y="2133720"/>
            <a:ext cx="8351640" cy="44463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545120" y="765000"/>
            <a:ext cx="690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Arial"/>
              </a:rPr>
              <a:t>Formulario envío art. seleccion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332000" y="549360"/>
            <a:ext cx="7354800" cy="112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CL" sz="3200" spc="-1" strike="noStrike">
                <a:solidFill>
                  <a:srgbClr val="333399"/>
                </a:solidFill>
                <a:latin typeface="Tahoma"/>
              </a:rPr>
              <a:t>RECURSOS DE INFORM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99"/>
                </a:solidFill>
                <a:latin typeface="Tahoma"/>
              </a:rPr>
              <a:t>ACADÉMICA</a:t>
            </a: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784760" y="947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34960" y="2205000"/>
            <a:ext cx="21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TALOGO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33880" y="4941720"/>
            <a:ext cx="353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SI WEB OF SC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39280" y="3068640"/>
            <a:ext cx="459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CIENCE DIRECT-ELSEV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06600" y="4437000"/>
            <a:ext cx="25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BSCO- 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406600" y="3933720"/>
            <a:ext cx="222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QUE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35320" y="2637000"/>
            <a:ext cx="14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L DIA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36040" y="5445000"/>
            <a:ext cx="295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AUTA DE TESIS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52320" y="5950080"/>
            <a:ext cx="66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. ELABORACION CITAS BIBLIOGRAFICAS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INN114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37120" y="6400800"/>
            <a:ext cx="276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ECTIVIDAD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336760" y="3500280"/>
            <a:ext cx="171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COP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333399"/>
                </a:solidFill>
                <a:latin typeface="Tahoma"/>
              </a:rPr>
              <a:t>scopus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250920" y="2276640"/>
            <a:ext cx="856908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n 27 millones de registros y 230 millones de referencias de más de 14.000 publicaciones periódicas, Scopus constituye una de las más grandes Base de Datos multidisciplinaria del mun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Incluye Abstracts desde 196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Incluye listas de Referencias de los artículos desde 1996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iteratura relev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ventualmente se tiene acceso a texto completo si la revista en versión electrónica es suscrita por la Univers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ermite crear alertas, guardas búsquedas y listas de resultados para su posterior consul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280360" cy="5761080"/>
          </a:xfrm>
          <a:prstGeom prst="rect">
            <a:avLst/>
          </a:prstGeom>
          <a:ln w="9360">
            <a:solidFill>
              <a:srgbClr val="00e4a8"/>
            </a:solidFill>
            <a:miter/>
          </a:ln>
        </p:spPr>
      </p:pic>
      <p:sp>
        <p:nvSpPr>
          <p:cNvPr id="158" name=""/>
          <p:cNvSpPr/>
          <p:nvPr/>
        </p:nvSpPr>
        <p:spPr>
          <a:xfrm>
            <a:off x="395280" y="333360"/>
            <a:ext cx="1081080" cy="358920"/>
          </a:xfrm>
          <a:prstGeom prst="wedgeRectCallout">
            <a:avLst>
              <a:gd name="adj1" fmla="val -4476"/>
              <a:gd name="adj2" fmla="val 23495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úsque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43640" y="1268280"/>
            <a:ext cx="1008000" cy="360360"/>
          </a:xfrm>
          <a:prstGeom prst="wedgeRectCallout">
            <a:avLst>
              <a:gd name="adj1" fmla="val -147324"/>
              <a:gd name="adj2" fmla="val -330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i Perf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56000" y="333360"/>
            <a:ext cx="1295280" cy="504720"/>
          </a:xfrm>
          <a:prstGeom prst="wedgeRectCallout">
            <a:avLst>
              <a:gd name="adj1" fmla="val 87620"/>
              <a:gd name="adj2" fmla="val 7893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gistrarse como usu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516720" y="1989000"/>
            <a:ext cx="2016000" cy="936720"/>
          </a:xfrm>
          <a:prstGeom prst="wedgeRectCallout">
            <a:avLst>
              <a:gd name="adj1" fmla="val -171574"/>
              <a:gd name="adj2" fmla="val -98981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sta de artículos seleccionados o guardados provisoriam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372360" y="0"/>
            <a:ext cx="2771640" cy="36828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rtada de Scop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68360" y="2421000"/>
            <a:ext cx="1582920" cy="360360"/>
          </a:xfrm>
          <a:prstGeom prst="wedgeRectCallout">
            <a:avLst>
              <a:gd name="adj1" fmla="val -9277"/>
              <a:gd name="adj2" fmla="val -292731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ertas crea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" y="2349360"/>
            <a:ext cx="1584000" cy="574920"/>
          </a:xfrm>
          <a:prstGeom prst="wedgeRectCallout">
            <a:avLst>
              <a:gd name="adj1" fmla="val 35773"/>
              <a:gd name="adj2" fmla="val -192819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úsquedas por public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990720" y="380880"/>
            <a:ext cx="784836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Garamond"/>
                <a:ea typeface="Times New Roman"/>
              </a:rPr>
              <a:t>ACS WEB EDITON</a:t>
            </a:r>
            <a:r>
              <a:rPr b="1" lang="es-ES" sz="2800" spc="-1" strike="noStrike">
                <a:solidFill>
                  <a:srgbClr val="3333cc"/>
                </a:solidFill>
                <a:latin typeface="Garamond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Garamond"/>
                <a:ea typeface="Times New Roman"/>
              </a:rPr>
              <a:t>(American Chemical Society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uchile.cl/bibliotecas/basesdatos/index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22860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Acceso a más de 700.000 artículos en texto completo de 11 mil fascículos de 35 importantes publicaciones de la American Chemical Soci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71600" y="373392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e el acceso en texto completo de todas     sus revistas, con una cobertura de 1879 a la fech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5200" y="4876920"/>
            <a:ext cx="344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ualización dia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32000" y="5445000"/>
            <a:ext cx="649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ye publicaciones ubicadas en los primeros lugares de los índice de impa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72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660680" y="1176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95280" y="457200"/>
            <a:ext cx="73152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Garamond"/>
                <a:ea typeface="Times New Roman"/>
              </a:rPr>
              <a:t>PROQUEST</a:t>
            </a:r>
            <a:r>
              <a:rPr b="1" lang="es-ES" sz="3200" spc="-1" strike="noStrike">
                <a:solidFill>
                  <a:srgbClr val="3333cc"/>
                </a:solidFill>
                <a:latin typeface="Garamond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uchile.cl/bibliotecas/basesdatos/proquest/index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32080" y="3081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03680" y="254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43000" y="2438280"/>
            <a:ext cx="6858000" cy="28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Permite el acceso a 29 bases especializad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Recupera información  referencial  y  texto comple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Permite realizar búsqueda básica, avanzada y por publicación.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Posee  guía temática.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57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627280" y="2060640"/>
            <a:ext cx="2808360" cy="64764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ermite ver art. seleccionados.  Desde aquí se puede guardar, imprimir o enviar por e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5148360" y="2708280"/>
            <a:ext cx="2808360" cy="647640"/>
          </a:xfrm>
          <a:prstGeom prst="wedgeRectCallout">
            <a:avLst>
              <a:gd name="adj1" fmla="val -153675"/>
              <a:gd name="adj2" fmla="val 8333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ermite ver art. seleccionados.  Desde aquí se puede guardar, imprimir o enviar por e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130480" y="1197000"/>
            <a:ext cx="36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¿CÓMO INGRES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65240" y="1633680"/>
            <a:ext cx="5197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84680" y="2013120"/>
            <a:ext cx="508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http://biblioteca.ing.uchile.cl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4360" y="2565360"/>
            <a:ext cx="7372080" cy="38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833480" y="907920"/>
            <a:ext cx="569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LISTA DE SELECCION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2160720"/>
            <a:ext cx="8820000" cy="469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120320" y="1031760"/>
            <a:ext cx="78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NVIAR ARTICULOS SELECCIONADOS POR E-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486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116000" y="2781360"/>
            <a:ext cx="6948360" cy="358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Permite el acceso a las siguientes bases de datos: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ademic Search Premier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usiness Source Premier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linical Pharmac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uentes Académic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ealth Source: Nursing/Academic edi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fessional Development Collec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sychology and Behavioral Sciences Coll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gional Business New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JS E-Journ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ibrary, Information Science &amp; Technology Abstracts</a:t>
            </a:r>
            <a:r>
              <a:rPr b="0" lang="es-ES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 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95280" y="457200"/>
            <a:ext cx="73152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Garamond"/>
                <a:ea typeface="Times New Roman"/>
              </a:rPr>
              <a:t>EBSCO</a:t>
            </a:r>
            <a:r>
              <a:rPr b="1" lang="es-ES" sz="3200" spc="-1" strike="noStrike">
                <a:solidFill>
                  <a:srgbClr val="3333cc"/>
                </a:solidFill>
                <a:latin typeface="Garamond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uchile.cl/bibliotecas/basesdatos/ebsco/index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3059280" y="4797360"/>
            <a:ext cx="1871640" cy="647640"/>
          </a:xfrm>
          <a:prstGeom prst="wedgeRectCallout">
            <a:avLst>
              <a:gd name="adj1" fmla="val -131680"/>
              <a:gd name="adj2" fmla="val -2303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hacer una búsquedas por título de revi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356000" y="1197000"/>
            <a:ext cx="1871640" cy="647640"/>
          </a:xfrm>
          <a:prstGeom prst="wedgeRectCallout">
            <a:avLst>
              <a:gd name="adj1" fmla="val 163740"/>
              <a:gd name="adj2" fmla="val -7377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seleccionar idioma de la interfaz de búsqu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708360" y="2997360"/>
            <a:ext cx="1728720" cy="609480"/>
          </a:xfrm>
          <a:prstGeom prst="wedgeRectCallout">
            <a:avLst>
              <a:gd name="adj1" fmla="val -115199"/>
              <a:gd name="adj2" fmla="val -2161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delimitar, solo texto comple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667640" y="1197000"/>
            <a:ext cx="1476360" cy="503280"/>
          </a:xfrm>
          <a:prstGeom prst="wedgeRectCallout">
            <a:avLst>
              <a:gd name="adj1" fmla="val -61398"/>
              <a:gd name="adj2" fmla="val 101101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ermite archivar artículos sele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7991640" y="2997360"/>
            <a:ext cx="1152360" cy="647640"/>
          </a:xfrm>
          <a:prstGeom prst="wedgeRectCallout">
            <a:avLst>
              <a:gd name="adj1" fmla="val -7162"/>
              <a:gd name="adj2" fmla="val 280148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seleccionar artícu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906560" y="620640"/>
            <a:ext cx="5697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LISTA DE SELECCION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(FOLD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8893080" cy="46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4869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120320" y="1031760"/>
            <a:ext cx="78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NVIAR ARTICULOS SELECCIONADOS POR E-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295280" y="457200"/>
            <a:ext cx="73152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Garamond"/>
                <a:ea typeface="Times New Roman"/>
              </a:rPr>
              <a:t>WEB OF SCIE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uchile.cl/bibliotecas/basesdatos/isi/index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87280" y="3933720"/>
            <a:ext cx="66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e consultar información referencial,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ual y retrospecti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87280" y="2781360"/>
            <a:ext cx="71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ás 8.600 publicaciones  de alto impac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58920" y="2349360"/>
            <a:ext cx="49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bertura desde 1988 a la fec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075680" y="3357720"/>
            <a:ext cx="368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ualización sema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095840" y="1916280"/>
            <a:ext cx="505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 de datos multidisciplin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22680" y="4869000"/>
            <a:ext cx="791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e saber quienes citan determinados artíc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 la manera en que estos influyen sobre la nue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estig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2700360" y="4292640"/>
            <a:ext cx="2663640" cy="647640"/>
          </a:xfrm>
          <a:prstGeom prst="wedgeRectCallout">
            <a:avLst>
              <a:gd name="adj1" fmla="val -85699"/>
              <a:gd name="adj2" fmla="val 7965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s las bases de datos y los años de datos disponibles, aparecen seleccionados automáticam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32720" y="3500280"/>
            <a:ext cx="1979640" cy="1008360"/>
          </a:xfrm>
          <a:prstGeom prst="wedgeRectCallout">
            <a:avLst>
              <a:gd name="adj1" fmla="val -79189"/>
              <a:gd name="adj2" fmla="val 6858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3 opciones para seleccionar covertura cronológica de una búsqu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79280" y="980640"/>
            <a:ext cx="464508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ATÁLOGO BELLO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9144000" cy="47973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332000" y="189000"/>
            <a:ext cx="1116000" cy="863640"/>
          </a:xfrm>
          <a:prstGeom prst="wedgeRectCallout">
            <a:avLst>
              <a:gd name="adj1" fmla="val -104907"/>
              <a:gd name="adj2" fmla="val 246689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ODEMOS VES NUESTROS PRESTAMOS, RESERVA O SUSPENS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5508720" y="1413000"/>
            <a:ext cx="2590560" cy="720720"/>
          </a:xfrm>
          <a:prstGeom prst="wedgeRectCallout">
            <a:avLst>
              <a:gd name="adj1" fmla="val -126226"/>
              <a:gd name="adj2" fmla="val -4339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a la búsqueda sólo para términos que aparezcan  en los títu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5805360"/>
            <a:ext cx="2159280" cy="719280"/>
          </a:xfrm>
          <a:prstGeom prst="wedgeRectCallout">
            <a:avLst>
              <a:gd name="adj1" fmla="val -155365"/>
              <a:gd name="adj2" fmla="val -33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de delimitar su búsqued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 idioma o tipo de document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050920" y="0"/>
            <a:ext cx="1368720" cy="620640"/>
          </a:xfrm>
          <a:prstGeom prst="wedgeRectCallout">
            <a:avLst>
              <a:gd name="adj1" fmla="val -75291"/>
              <a:gd name="adj2" fmla="val 14488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úmeros de documentos encontr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356000" y="2133720"/>
            <a:ext cx="1979640" cy="431640"/>
          </a:xfrm>
          <a:prstGeom prst="wedgeRectCallout">
            <a:avLst>
              <a:gd name="adj1" fmla="val 86888"/>
              <a:gd name="adj2" fmla="val 181986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ermite seleccionar do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3 opci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77080" y="1125360"/>
            <a:ext cx="1763640" cy="578160"/>
          </a:xfrm>
          <a:prstGeom prst="wedgeRectCallout">
            <a:avLst>
              <a:gd name="adj1" fmla="val 22365"/>
              <a:gd name="adj2" fmla="val 12005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de cambiar el orden de los result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2792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6588000" y="620640"/>
            <a:ext cx="1944720" cy="576360"/>
          </a:xfrm>
          <a:prstGeom prst="wedgeRectCallout">
            <a:avLst>
              <a:gd name="adj1" fmla="val -170000"/>
              <a:gd name="adj2" fmla="val 53032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tón lista de docs. Seleccionados, para su impre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716360" y="2060640"/>
            <a:ext cx="1656000" cy="647640"/>
          </a:xfrm>
          <a:prstGeom prst="wedgeRectCallout">
            <a:avLst>
              <a:gd name="adj1" fmla="val -252300"/>
              <a:gd name="adj2" fmla="val 18308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a de bibliografías usadas por este au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492360" y="3068640"/>
            <a:ext cx="1729080" cy="503280"/>
          </a:xfrm>
          <a:prstGeom prst="wedgeRectCallout">
            <a:avLst>
              <a:gd name="adj1" fmla="val -118962"/>
              <a:gd name="adj2" fmla="val 4274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Nuevos Documentos que citan este 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020000" y="4653000"/>
            <a:ext cx="1800000" cy="863640"/>
          </a:xfrm>
          <a:prstGeom prst="wedgeRectCallout">
            <a:avLst>
              <a:gd name="adj1" fmla="val -243472"/>
              <a:gd name="adj2" fmla="val -148898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on artículos relacionados que comparten referencias citadas con este do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49417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5580000" y="2421000"/>
            <a:ext cx="2592360" cy="1079280"/>
          </a:xfrm>
          <a:prstGeom prst="wedgeRectCallout">
            <a:avLst>
              <a:gd name="adj1" fmla="val -69106"/>
              <a:gd name="adj2" fmla="val 8500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 registros seleccionados pueden: imprimirse, guardarse, o enviarse por correo electrón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412640" y="981000"/>
            <a:ext cx="664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NVIO ARTICULOS SELECCION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PAUTA DE TESIS</a:t>
            </a:r>
            <a:br>
              <a:rPr sz="4400"/>
            </a:br>
            <a:r>
              <a:rPr b="0" lang="es-ES" sz="1400" spc="-1" strike="noStrike">
                <a:solidFill>
                  <a:srgbClr val="333399"/>
                </a:solidFill>
                <a:latin typeface="Tahoma"/>
              </a:rPr>
              <a:t>http://www.cybertesis.cl/tesis/uchile/2003/pauta/html/index-frames.html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1832040"/>
            <a:ext cx="9144000" cy="50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PORTADA DE TESIS</a:t>
            </a:r>
            <a:br>
              <a:rPr sz="4400"/>
            </a:br>
            <a:r>
              <a:rPr b="0" lang="es-ES" sz="1400" spc="-1" strike="noStrike">
                <a:solidFill>
                  <a:srgbClr val="333399"/>
                </a:solidFill>
                <a:latin typeface="Tahoma"/>
              </a:rPr>
              <a:t>http://postgrado.ing.uchile.cl/segundo/tramites/otros/tesis_magister_doctorado.doc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332000" y="2421000"/>
            <a:ext cx="626256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GUIA PARA LA ELABORACION DE CITAS BIBLIOGRAFICAS</a:t>
            </a:r>
            <a:r>
              <a:rPr b="0" lang="es-E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333399"/>
                </a:solidFill>
                <a:latin typeface="Tahoma"/>
              </a:rPr>
              <a:t>(INN 1143)</a:t>
            </a:r>
            <a:br>
              <a:rPr sz="1800"/>
            </a:br>
            <a:r>
              <a:rPr b="0" lang="es-ES" sz="1800" spc="-1" strike="noStrike">
                <a:solidFill>
                  <a:srgbClr val="333399"/>
                </a:solidFill>
                <a:latin typeface="Tahoma"/>
              </a:rPr>
              <a:t>http://bibliotecas.uchile.cl//servicios/referencias-bibliograficas.pdf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116000" y="1933560"/>
            <a:ext cx="656424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49417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2341080" y="692280"/>
            <a:ext cx="36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ONECTIV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6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117360"/>
            <a:ext cx="9144000" cy="654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57200" y="2286000"/>
            <a:ext cx="84582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stema que brinda acceso a tablas de contenidos de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1.887 revistas especializadas nacionales  e  internacional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critas  por destacas universidades chilenas.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11280" y="476280"/>
            <a:ext cx="352908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99"/>
                </a:solidFill>
                <a:latin typeface="Arial"/>
              </a:rPr>
              <a:t>Al D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84760" y="947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36576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ite la obtención de artículos de revistas impresas  disponibles en otras Facultades a través de correo electrón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43657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ite conectarse a más 1.000 revistas en texto compl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479736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ite consultar las tablas de contenidos de números anteri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1280" y="522936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orga un servicio de alerta personalizado. (10 títulos de interé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522840" y="189000"/>
            <a:ext cx="2001960" cy="337320"/>
          </a:xfrm>
          <a:prstGeom prst="rect">
            <a:avLst/>
          </a:prstGeom>
          <a:solidFill>
            <a:srgbClr val="ffcc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s-CL" sz="1700" spc="-1" strike="noStrike">
                <a:solidFill>
                  <a:srgbClr val="000066"/>
                </a:solidFill>
                <a:latin typeface="Arial"/>
              </a:rPr>
              <a:t>http:www.al-dia.c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268360" y="5373720"/>
            <a:ext cx="1224000" cy="719280"/>
          </a:xfrm>
          <a:prstGeom prst="wedgeRectCallout">
            <a:avLst>
              <a:gd name="adj1" fmla="val -75939"/>
              <a:gd name="adj2" fmla="val -11909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cione la revista de su interé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51640" y="2060640"/>
            <a:ext cx="914400" cy="685800"/>
          </a:xfrm>
          <a:prstGeom prst="wedgeRectCallout">
            <a:avLst>
              <a:gd name="adj1" fmla="val 98611"/>
              <a:gd name="adj2" fmla="val -148379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as de contenido de números anteri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87640" y="3645000"/>
            <a:ext cx="1143000" cy="799920"/>
          </a:xfrm>
          <a:prstGeom prst="wedgeRectCallout">
            <a:avLst>
              <a:gd name="adj1" fmla="val 37638"/>
              <a:gd name="adj2" fmla="val -135319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pliega la tabla de contenido del último número publicado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5T01:05:20Z</dcterms:created>
  <dc:creator>Rafael Castillo Guerrero</dc:creator>
  <dc:description/>
  <dc:language>en-US</dc:language>
  <cp:lastModifiedBy>Ing Quimica</cp:lastModifiedBy>
  <dcterms:modified xsi:type="dcterms:W3CDTF">2006-08-21T20:22:09Z</dcterms:modified>
  <cp:revision>75</cp:revision>
  <dc:subject/>
  <dc:title>BIBLIOTECA</dc:title>
</cp:coreProperties>
</file>