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01F0-9FF2-48C4-8E2D-90A3D6EE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ABEC-2788-4279-841E-80DEFFD9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8A28-3C7B-4BD5-872A-C220FCDB6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8A10-83A2-4880-9B24-9DB80F0B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BC3F-1B53-4CEA-80F2-5B69B27FB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2D4C-F926-4580-BD92-FFEA4B2E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2795-E566-40E0-8E4B-992A928F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D0C5-53D8-4ECC-8D81-3A6A18D1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AFA9-1980-434A-AE96-7A386AEC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3127-5104-4386-AAB2-6081400B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0F68-9768-42BD-85FA-7FEECFA1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157E-5C7F-4816-A731-61889274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5CDA-960B-4CE8-8B8E-C16BDA9F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B873-9FBD-445A-ACDF-98E497AA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6E21-682A-42DD-A29D-E93B115B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3949-5A6F-4F5A-8945-CEE7EF1F3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BD6D-B4D5-4476-B29D-5A2CD7127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9554-A83C-46CC-8108-F8A67C08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6658-0918-4C11-AF08-20BC4641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445C-9EE5-458A-B845-8700BB95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67BD-CAB1-4FC1-BE88-F7FC0939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5ACD-AC60-4B0F-A739-567B43BC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0638-4236-40E4-8635-063097C9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04F9-A20F-4F1F-9047-8E7037B7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B7D0-F3C6-4EB3-8909-3817274CD52F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5860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31CA-875B-4747-B353-581CA9A9A2A6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492280"/>
            <a:ext cx="914400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ERRAMIENTAS BIBLIOGRA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PARA LA ELABORACION DE 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692280"/>
            <a:ext cx="75614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Biblioteca Central.  Programa de 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acultad de Ingeniería</a:t>
            </a: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Departamento Ingeniería 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6040" y="4365720"/>
            <a:ext cx="437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aborado por:         Rosa Leal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rlea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rolina Campillay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ccampil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ibliotecarias Servicios al Pú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00560" y="594360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osto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308720" y="5877000"/>
            <a:ext cx="1835280" cy="571320"/>
          </a:xfrm>
          <a:prstGeom prst="wedgeRectCallout">
            <a:avLst>
              <a:gd name="adj1" fmla="val -223097"/>
              <a:gd name="adj2" fmla="val -219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ón para solicitar se utiliza  cuando la revista no está disponible en texto compl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86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OLICITUD  DE ART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A TRAVÉS DE  CORREO ELECTR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50028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Si el correo no está registrado, complete el formulario en “</a:t>
            </a:r>
            <a:r>
              <a:rPr b="1" lang="es-ES_tradnl" sz="1800" spc="-1" strike="noStrike" u="sng">
                <a:solidFill>
                  <a:srgbClr val="333399"/>
                </a:solidFill>
                <a:uFillTx/>
                <a:latin typeface="Times New Roman"/>
              </a:rPr>
              <a:t>Nuevo usuario</a:t>
            </a: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40000" y="4292640"/>
            <a:ext cx="3486240" cy="2257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411280" y="1341360"/>
            <a:ext cx="3254400" cy="2151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96080" y="0"/>
            <a:ext cx="1447920" cy="1066680"/>
          </a:xfrm>
          <a:prstGeom prst="wedgeRectCallout">
            <a:avLst>
              <a:gd name="adj1" fmla="val -29712"/>
              <a:gd name="adj2" fmla="val 70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a cuenta externa de correo electrónico, los artículos tendrán un c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96080" y="0"/>
            <a:ext cx="1447920" cy="1219320"/>
          </a:xfrm>
          <a:prstGeom prst="wedgeRectCallout">
            <a:avLst>
              <a:gd name="adj1" fmla="val -43518"/>
              <a:gd name="adj2" fmla="val 11145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 cuenta de correo de la Universidad de Chile, los artículos serán gratu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19320" y="304920"/>
            <a:ext cx="76197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Garamond"/>
                <a:ea typeface="Times New Roman"/>
              </a:rPr>
              <a:t>SCIENCE DIRECT-ELSEV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sciencedirect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836720"/>
            <a:ext cx="83296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Base  de  datos  referencial  que  ofrece  1.800  revistas,  publicadas por </a:t>
            </a:r>
            <a:r>
              <a:rPr b="1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ELSEVIER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 de diversas áreas del conoci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Realizar diferentes búsquedas (autor, título de rev. y ot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los abstra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direcciones electrónicos de au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l texto completo de artículos revistas suscritas por la Universidad de Chile.  (207 títu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37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76720" y="692280"/>
            <a:ext cx="1079280" cy="718920"/>
          </a:xfrm>
          <a:prstGeom prst="wedgeRectCallout">
            <a:avLst>
              <a:gd name="adj1" fmla="val -281027"/>
              <a:gd name="adj2" fmla="val -116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s por temas y ot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32360" y="692280"/>
            <a:ext cx="1655640" cy="431640"/>
          </a:xfrm>
          <a:prstGeom prst="wedgeRectCallout">
            <a:avLst>
              <a:gd name="adj1" fmla="val -242328"/>
              <a:gd name="adj2" fmla="val -16176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 por publ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0360" y="5229360"/>
            <a:ext cx="1656000" cy="431640"/>
          </a:xfrm>
          <a:prstGeom prst="wedgeRectCallout">
            <a:avLst>
              <a:gd name="adj1" fmla="val -329097"/>
              <a:gd name="adj2" fmla="val 12904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249120"/>
            <a:ext cx="8891640" cy="621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588000" y="1484280"/>
            <a:ext cx="1943280" cy="574560"/>
          </a:xfrm>
          <a:prstGeom prst="wedgeRectCallout">
            <a:avLst>
              <a:gd name="adj1" fmla="val -78837"/>
              <a:gd name="adj2" fmla="val 737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acotar l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351640" cy="4446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45120" y="765000"/>
            <a:ext cx="69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Formulario envío art. seleccio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32000" y="549360"/>
            <a:ext cx="735480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RECURSOS DE INFORM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ACADÉMICA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34960" y="2205000"/>
            <a:ext cx="21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TALOGO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33880" y="4941720"/>
            <a:ext cx="35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SI WEB OF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39280" y="3068640"/>
            <a:ext cx="45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IENCE DIRECT-ELSE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6600" y="44370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BSCO-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06600" y="393372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QU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35320" y="2637000"/>
            <a:ext cx="14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DIA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36040" y="5445000"/>
            <a:ext cx="29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UTA DE TESIS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52320" y="5950080"/>
            <a:ext cx="66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. ELABORACION CITAS BIBLIOGRAFIC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NN11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37120" y="6400800"/>
            <a:ext cx="27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ECTIVIDAD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6760" y="350028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O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333399"/>
                </a:solidFill>
                <a:latin typeface="Tahoma"/>
              </a:rPr>
              <a:t>scopu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2276640"/>
            <a:ext cx="8569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 27 millones de registros y 230 millones de referencias de más de 14.000 publicaciones periódicas, Scopus constituye una de las más grandes Base de Datos multidisciplinaria d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Abstracts desde 19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listas de Referencias de los artículos desde 199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teratura relev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entualmente se tiene acceso a texto completo si la revista en versión electrónica es suscrita por la Univers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ermite crear alertas, guardas búsquedas y listas de resultados para su posterior consu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280360" cy="5761080"/>
          </a:xfrm>
          <a:prstGeom prst="rect">
            <a:avLst/>
          </a:prstGeom>
          <a:ln w="9360">
            <a:solidFill>
              <a:srgbClr val="00e4a8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395280" y="333360"/>
            <a:ext cx="1081080" cy="358920"/>
          </a:xfrm>
          <a:prstGeom prst="wedgeRectCallout">
            <a:avLst>
              <a:gd name="adj1" fmla="val -4476"/>
              <a:gd name="adj2" fmla="val 23495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43640" y="1268280"/>
            <a:ext cx="1008000" cy="360360"/>
          </a:xfrm>
          <a:prstGeom prst="wedgeRectCallout">
            <a:avLst>
              <a:gd name="adj1" fmla="val -147324"/>
              <a:gd name="adj2" fmla="val -330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 Per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333360"/>
            <a:ext cx="1295280" cy="504720"/>
          </a:xfrm>
          <a:prstGeom prst="wedgeRectCallout">
            <a:avLst>
              <a:gd name="adj1" fmla="val 87620"/>
              <a:gd name="adj2" fmla="val 7893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gistrarse como usu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1989000"/>
            <a:ext cx="2016000" cy="936720"/>
          </a:xfrm>
          <a:prstGeom prst="wedgeRectCallout">
            <a:avLst>
              <a:gd name="adj1" fmla="val -171574"/>
              <a:gd name="adj2" fmla="val -98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a de artículos seleccionados o guardados provisori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72360" y="0"/>
            <a:ext cx="2771640" cy="3682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tada de Sco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68360" y="2421000"/>
            <a:ext cx="1582920" cy="360360"/>
          </a:xfrm>
          <a:prstGeom prst="wedgeRectCallout">
            <a:avLst>
              <a:gd name="adj1" fmla="val -9277"/>
              <a:gd name="adj2" fmla="val -29273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ertas cre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2349360"/>
            <a:ext cx="1584000" cy="574920"/>
          </a:xfrm>
          <a:prstGeom prst="wedgeRectCallout">
            <a:avLst>
              <a:gd name="adj1" fmla="val 35773"/>
              <a:gd name="adj2" fmla="val -1928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s por publ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90720" y="380880"/>
            <a:ext cx="7848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ACS WEB EDITON</a:t>
            </a: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(American Chemical Societ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286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cceso a más de 700.000 artículos en texto completo de 11 mil fascículos de 35 importantes publicaciones de la American Chemical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3733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el acceso en texto completo de todas     sus revistas, con una cobertura de 1879 a la fe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5200" y="4876920"/>
            <a:ext cx="34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di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32000" y="5445000"/>
            <a:ext cx="649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ye publicaciones ubicadas en los primeros lugares de los índice de impa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72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60680" y="1176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PROQUEST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proquest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32080" y="30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3680" y="254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438280"/>
            <a:ext cx="685800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29 bases especializ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Recupera información  referencial  y  texto compl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realizar búsqueda básica, avanzada y por publicación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osee  guía temática.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5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27280" y="2060640"/>
            <a:ext cx="2808360" cy="6476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148360" y="2708280"/>
            <a:ext cx="2808360" cy="647640"/>
          </a:xfrm>
          <a:prstGeom prst="wedgeRectCallout">
            <a:avLst>
              <a:gd name="adj1" fmla="val -153675"/>
              <a:gd name="adj2" fmla="val 83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0480" y="119700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¿CÓMO INGRES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65240" y="163368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4680" y="201312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ttp://biblioteca.ing.uchile.cl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737208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33480" y="907920"/>
            <a:ext cx="56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2160720"/>
            <a:ext cx="8820000" cy="46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16000" y="2781360"/>
            <a:ext cx="6948360" cy="35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las siguientes bases de datos: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ademic Search Premier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siness Source Premie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nical Pharmac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ntes Académic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alth Source: Nursing/Academic edi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essional Development Colle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sychology and Behavioral Sciences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gional Business New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JS E-Jour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brary, Information Science &amp; Technology Abstracts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 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EBSCO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ebsco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059280" y="4797360"/>
            <a:ext cx="1871640" cy="647640"/>
          </a:xfrm>
          <a:prstGeom prst="wedgeRectCallout">
            <a:avLst>
              <a:gd name="adj1" fmla="val -131680"/>
              <a:gd name="adj2" fmla="val -2303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hacer una búsquedas por título de rev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56000" y="1197000"/>
            <a:ext cx="1871640" cy="647640"/>
          </a:xfrm>
          <a:prstGeom prst="wedgeRectCallout">
            <a:avLst>
              <a:gd name="adj1" fmla="val 163740"/>
              <a:gd name="adj2" fmla="val -7377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idioma de la interfaz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708360" y="2997360"/>
            <a:ext cx="1728720" cy="609480"/>
          </a:xfrm>
          <a:prstGeom prst="wedgeRectCallout">
            <a:avLst>
              <a:gd name="adj1" fmla="val -115199"/>
              <a:gd name="adj2" fmla="val -2161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delimitar, solo texto compl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67640" y="1197000"/>
            <a:ext cx="1476360" cy="503280"/>
          </a:xfrm>
          <a:prstGeom prst="wedgeRectCallout">
            <a:avLst>
              <a:gd name="adj1" fmla="val -61398"/>
              <a:gd name="adj2" fmla="val 10110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archivar artículos sel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991640" y="2997360"/>
            <a:ext cx="1152360" cy="647640"/>
          </a:xfrm>
          <a:prstGeom prst="wedgeRectCallout">
            <a:avLst>
              <a:gd name="adj1" fmla="val -7162"/>
              <a:gd name="adj2" fmla="val 28014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artíc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906560" y="620640"/>
            <a:ext cx="569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(FOL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8893080" cy="46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WEB OF SC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si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393372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consultar información referencial,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 y retrospec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87280" y="278136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ás 8.600 publicaciones  de alto impac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234936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bertura desde 1988 a la fe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75680" y="3357720"/>
            <a:ext cx="36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sem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95840" y="1916280"/>
            <a:ext cx="50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 de datos multidiscipl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680" y="4869000"/>
            <a:ext cx="791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saber quienes citan determinados art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la manera en que estos influyen sobre la nue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i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700360" y="4292640"/>
            <a:ext cx="2663640" cy="647640"/>
          </a:xfrm>
          <a:prstGeom prst="wedgeRectCallout">
            <a:avLst>
              <a:gd name="adj1" fmla="val -85699"/>
              <a:gd name="adj2" fmla="val 7965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s las bases de datos y los años de datos disponibles, aparecen seleccionados automát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2720" y="3500280"/>
            <a:ext cx="1979640" cy="1008360"/>
          </a:xfrm>
          <a:prstGeom prst="wedgeRectCallout">
            <a:avLst>
              <a:gd name="adj1" fmla="val -79189"/>
              <a:gd name="adj2" fmla="val 6858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 para seleccionar covertura cronológica de un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280" y="980640"/>
            <a:ext cx="464508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ATÁLOGO BELL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32000" y="189000"/>
            <a:ext cx="1116000" cy="863640"/>
          </a:xfrm>
          <a:prstGeom prst="wedgeRectCallout">
            <a:avLst>
              <a:gd name="adj1" fmla="val -104907"/>
              <a:gd name="adj2" fmla="val 24668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DEMOS VES NUESTROS PRESTAMOS, RESERVA O SUSPEN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508720" y="1413000"/>
            <a:ext cx="2590560" cy="720720"/>
          </a:xfrm>
          <a:prstGeom prst="wedgeRectCallout">
            <a:avLst>
              <a:gd name="adj1" fmla="val -126226"/>
              <a:gd name="adj2" fmla="val -4339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 la búsqueda sólo para términos que aparezcan  en los tít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5805360"/>
            <a:ext cx="2159280" cy="719280"/>
          </a:xfrm>
          <a:prstGeom prst="wedgeRectCallout">
            <a:avLst>
              <a:gd name="adj1" fmla="val -155365"/>
              <a:gd name="adj2" fmla="val -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delimitar su búsqued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 idioma o tipo de documen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050920" y="0"/>
            <a:ext cx="1368720" cy="620640"/>
          </a:xfrm>
          <a:prstGeom prst="wedgeRectCallout">
            <a:avLst>
              <a:gd name="adj1" fmla="val -75291"/>
              <a:gd name="adj2" fmla="val 14488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úmeros de documentos encont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2133720"/>
            <a:ext cx="1979640" cy="431640"/>
          </a:xfrm>
          <a:prstGeom prst="wedgeRectCallout">
            <a:avLst>
              <a:gd name="adj1" fmla="val 86888"/>
              <a:gd name="adj2" fmla="val 18198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seleccionar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77080" y="1125360"/>
            <a:ext cx="1763640" cy="578160"/>
          </a:xfrm>
          <a:prstGeom prst="wedgeRectCallout">
            <a:avLst>
              <a:gd name="adj1" fmla="val 22365"/>
              <a:gd name="adj2" fmla="val 12005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cambiar el orden de los 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792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588000" y="620640"/>
            <a:ext cx="1944720" cy="576360"/>
          </a:xfrm>
          <a:prstGeom prst="wedgeRectCallout">
            <a:avLst>
              <a:gd name="adj1" fmla="val -170000"/>
              <a:gd name="adj2" fmla="val 5303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tón lista de docs. Seleccionados, para su impre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2060640"/>
            <a:ext cx="1656000" cy="647640"/>
          </a:xfrm>
          <a:prstGeom prst="wedgeRectCallout">
            <a:avLst>
              <a:gd name="adj1" fmla="val -252300"/>
              <a:gd name="adj2" fmla="val 18308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a de bibliografías usadas por este au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3068640"/>
            <a:ext cx="1729080" cy="503280"/>
          </a:xfrm>
          <a:prstGeom prst="wedgeRectCallout">
            <a:avLst>
              <a:gd name="adj1" fmla="val -118962"/>
              <a:gd name="adj2" fmla="val 4274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uevos Documentos que citan este 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20000" y="4653000"/>
            <a:ext cx="1800000" cy="863640"/>
          </a:xfrm>
          <a:prstGeom prst="wedgeRectCallout">
            <a:avLst>
              <a:gd name="adj1" fmla="val -243472"/>
              <a:gd name="adj2" fmla="val -14889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on artículos relacionados que comparten referencias citadas con este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580000" y="2421000"/>
            <a:ext cx="2592360" cy="1079280"/>
          </a:xfrm>
          <a:prstGeom prst="wedgeRectCallout">
            <a:avLst>
              <a:gd name="adj1" fmla="val -69106"/>
              <a:gd name="adj2" fmla="val 8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registros seleccionados pueden: imprimirse, guardarse, o enviarse por correo electró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12640" y="981000"/>
            <a:ext cx="66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NVIO ARTICULOS SELEC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AUT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www.cybertesis.cl/tesis/uchile/2003/pauta/html/index-frames.html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1832040"/>
            <a:ext cx="914400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ORTAD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postgrado.ing.uchile.cl/segundo/tramites/otros/tesis_magister_doctorado.doc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2625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GUIA PARA LA ELABORACION DE CITAS BIBLIOGRAFICAS</a:t>
            </a: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(INN 1143)</a:t>
            </a:r>
            <a:br>
              <a:rPr sz="1800"/>
            </a:b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http://bibliotecas.uchile.cl//servicios/referencias-bibliograficas.pdf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116000" y="1933560"/>
            <a:ext cx="656424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341080" y="6922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ECTI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286000"/>
            <a:ext cx="8458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que brinda acceso a tablas de contenidos de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1.887 revistas especializadas nacionales  e  internaciona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critas  por destacas universidades chilenas.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476280"/>
            <a:ext cx="35290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Al D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657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la obtención de artículos de revistas impresas  disponibles en otras Facultades a través de correo elect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3657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ectarse a más 1.000 revistas en texto compl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7973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sultar las tablas de contenidos de números anteri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2293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orga un servicio de alerta personalizado. (10 títulos de inter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522840" y="189000"/>
            <a:ext cx="2001960" cy="33732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s-CL" sz="1700" spc="-1" strike="noStrike">
                <a:solidFill>
                  <a:srgbClr val="000066"/>
                </a:solidFill>
                <a:latin typeface="Arial"/>
              </a:rPr>
              <a:t>http:www.al-dia.c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68360" y="5373720"/>
            <a:ext cx="1224000" cy="719280"/>
          </a:xfrm>
          <a:prstGeom prst="wedgeRectCallout">
            <a:avLst>
              <a:gd name="adj1" fmla="val -75939"/>
              <a:gd name="adj2" fmla="val -11909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cione la revista de su inter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51640" y="2060640"/>
            <a:ext cx="914400" cy="685800"/>
          </a:xfrm>
          <a:prstGeom prst="wedgeRectCallout">
            <a:avLst>
              <a:gd name="adj1" fmla="val 98611"/>
              <a:gd name="adj2" fmla="val -14837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as de contenido de números anteri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87640" y="3645000"/>
            <a:ext cx="1143000" cy="799920"/>
          </a:xfrm>
          <a:prstGeom prst="wedgeRectCallout">
            <a:avLst>
              <a:gd name="adj1" fmla="val 37638"/>
              <a:gd name="adj2" fmla="val -1353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pliega la tabla de contenido del último número publicad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1:05:20Z</dcterms:created>
  <dc:creator>Rafael Castillo Guerrero</dc:creator>
  <dc:description/>
  <dc:language>en-US</dc:language>
  <cp:lastModifiedBy>Ing Quimica</cp:lastModifiedBy>
  <dcterms:modified xsi:type="dcterms:W3CDTF">2006-08-21T20:22:09Z</dcterms:modified>
  <cp:revision>75</cp:revision>
  <dc:subject/>
  <dc:title>BIBLIOTECA</dc:title>
</cp:coreProperties>
</file>